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65D-39C9-4D84-8C42-F59A057A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634-013D-4EB5-B91D-D9CF3A6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16F-D63C-400E-9764-A4947108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9AF-9175-44CC-83EF-AA00553C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DE8-5E2B-4F10-A45D-95639EF8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3DA-6F49-4C3E-85AB-772F8971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1B3-CE21-4792-B3B5-43EEF522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71E-7644-4EDD-90C9-C00964E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F2E-EA96-48AC-9957-03D56AB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32D-4DE1-4655-A4CB-638DDD0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A99-34C3-46EC-9A8E-743415C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A60-FF29-4AE0-8B71-F443FE1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7ED4-E532-4E43-8497-A17598FA8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Organic Chemistry</a:t>
            </a:r>
            <a:br>
              <a:rPr sz="5400"/>
            </a:br>
            <a:br>
              <a:rPr sz="54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longest, continuous carbon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from end closest to a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first branches equal distance use next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branches 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kyl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 name related to number of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in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 each branch by preceding its name with the carbon number on the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branches alphabe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un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-, sec-, t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unt i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efix if more than one of same group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, tri, tetra, penta, he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unt in alphabeti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88200" y="1116000"/>
            <a:ext cx="27000" cy="142920"/>
          </a:xfrm>
          <a:custGeom>
            <a:avLst/>
            <a:gdLst/>
            <a:ahLst/>
            <a:rect l="l" t="t" r="r" b="b"/>
            <a:pathLst>
              <a:path w="75" h="397">
                <a:moveTo>
                  <a:pt x="22771" y="3101"/>
                </a:moveTo>
                <a:cubicBezTo>
                  <a:pt x="22763" y="3101"/>
                  <a:pt x="22754" y="3101"/>
                  <a:pt x="22746" y="3101"/>
                </a:cubicBezTo>
                <a:cubicBezTo>
                  <a:pt x="22746" y="3158"/>
                  <a:pt x="22762" y="3204"/>
                  <a:pt x="22771" y="3249"/>
                </a:cubicBezTo>
                <a:cubicBezTo>
                  <a:pt x="22781" y="3296"/>
                  <a:pt x="22778" y="3378"/>
                  <a:pt x="22796" y="3423"/>
                </a:cubicBezTo>
                <a:cubicBezTo>
                  <a:pt x="22811" y="3461"/>
                  <a:pt x="22820" y="3452"/>
                  <a:pt x="22820" y="34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6840" y="175104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044" y="4887"/>
                </a:moveTo>
                <a:cubicBezTo>
                  <a:pt x="23057" y="4846"/>
                  <a:pt x="23092" y="4862"/>
                  <a:pt x="23143" y="4862"/>
                </a:cubicBezTo>
                <a:cubicBezTo>
                  <a:pt x="23178" y="4862"/>
                  <a:pt x="23230" y="4868"/>
                  <a:pt x="23242" y="4911"/>
                </a:cubicBezTo>
                <a:cubicBezTo>
                  <a:pt x="23263" y="4985"/>
                  <a:pt x="23214" y="5036"/>
                  <a:pt x="23168" y="5085"/>
                </a:cubicBezTo>
                <a:cubicBezTo>
                  <a:pt x="23113" y="5143"/>
                  <a:pt x="23068" y="5173"/>
                  <a:pt x="23019" y="5234"/>
                </a:cubicBezTo>
                <a:cubicBezTo>
                  <a:pt x="23078" y="5269"/>
                  <a:pt x="23143" y="5281"/>
                  <a:pt x="23217" y="5283"/>
                </a:cubicBezTo>
                <a:cubicBezTo>
                  <a:pt x="23309" y="5283"/>
                  <a:pt x="23336" y="5281"/>
                  <a:pt x="23391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3840" y="2295360"/>
            <a:ext cx="125280" cy="22248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3093" y="6400"/>
                </a:moveTo>
                <a:cubicBezTo>
                  <a:pt x="23138" y="6366"/>
                  <a:pt x="23169" y="6362"/>
                  <a:pt x="23217" y="6400"/>
                </a:cubicBezTo>
                <a:cubicBezTo>
                  <a:pt x="23256" y="6430"/>
                  <a:pt x="23242" y="6478"/>
                  <a:pt x="23242" y="6524"/>
                </a:cubicBezTo>
                <a:cubicBezTo>
                  <a:pt x="23242" y="6567"/>
                  <a:pt x="23179" y="6608"/>
                  <a:pt x="23143" y="6623"/>
                </a:cubicBezTo>
                <a:cubicBezTo>
                  <a:pt x="23118" y="6623"/>
                  <a:pt x="23110" y="6623"/>
                  <a:pt x="23118" y="6648"/>
                </a:cubicBezTo>
                <a:cubicBezTo>
                  <a:pt x="23190" y="6648"/>
                  <a:pt x="23249" y="6644"/>
                  <a:pt x="23316" y="6672"/>
                </a:cubicBezTo>
                <a:cubicBezTo>
                  <a:pt x="23370" y="6694"/>
                  <a:pt x="23433" y="6683"/>
                  <a:pt x="23440" y="6747"/>
                </a:cubicBezTo>
                <a:cubicBezTo>
                  <a:pt x="23448" y="6822"/>
                  <a:pt x="23339" y="6850"/>
                  <a:pt x="23292" y="6871"/>
                </a:cubicBezTo>
                <a:cubicBezTo>
                  <a:pt x="23232" y="6898"/>
                  <a:pt x="23167" y="6926"/>
                  <a:pt x="23118" y="6970"/>
                </a:cubicBezTo>
                <a:cubicBezTo>
                  <a:pt x="23110" y="6978"/>
                  <a:pt x="23101" y="6987"/>
                  <a:pt x="23093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75760" y="2894040"/>
            <a:ext cx="117360" cy="268200"/>
          </a:xfrm>
          <a:custGeom>
            <a:avLst/>
            <a:gdLst/>
            <a:ahLst/>
            <a:rect l="l" t="t" r="r" b="b"/>
            <a:pathLst>
              <a:path w="323" h="745">
                <a:moveTo>
                  <a:pt x="23267" y="8285"/>
                </a:moveTo>
                <a:cubicBezTo>
                  <a:pt x="23306" y="8295"/>
                  <a:pt x="23321" y="8310"/>
                  <a:pt x="23366" y="8310"/>
                </a:cubicBezTo>
                <a:cubicBezTo>
                  <a:pt x="23429" y="8310"/>
                  <a:pt x="23467" y="8288"/>
                  <a:pt x="23515" y="8260"/>
                </a:cubicBezTo>
                <a:cubicBezTo>
                  <a:pt x="23565" y="8231"/>
                  <a:pt x="23576" y="8214"/>
                  <a:pt x="23589" y="8161"/>
                </a:cubicBezTo>
                <a:cubicBezTo>
                  <a:pt x="23533" y="8175"/>
                  <a:pt x="23540" y="8206"/>
                  <a:pt x="23515" y="8260"/>
                </a:cubicBezTo>
                <a:cubicBezTo>
                  <a:pt x="23479" y="8337"/>
                  <a:pt x="23452" y="8424"/>
                  <a:pt x="23440" y="8508"/>
                </a:cubicBezTo>
                <a:cubicBezTo>
                  <a:pt x="23428" y="8595"/>
                  <a:pt x="23440" y="8694"/>
                  <a:pt x="23440" y="8781"/>
                </a:cubicBezTo>
              </a:path>
              <a:path w="323" h="745">
                <a:moveTo>
                  <a:pt x="23366" y="8037"/>
                </a:moveTo>
                <a:cubicBezTo>
                  <a:pt x="23321" y="8037"/>
                  <a:pt x="23298" y="8035"/>
                  <a:pt x="23292" y="8086"/>
                </a:cubicBezTo>
                <a:cubicBezTo>
                  <a:pt x="23288" y="8127"/>
                  <a:pt x="23267" y="8140"/>
                  <a:pt x="23267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3040" y="3616200"/>
            <a:ext cx="179640" cy="15264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23515" y="10096"/>
                </a:moveTo>
                <a:cubicBezTo>
                  <a:pt x="23515" y="10079"/>
                  <a:pt x="23515" y="10063"/>
                  <a:pt x="23515" y="10046"/>
                </a:cubicBezTo>
                <a:cubicBezTo>
                  <a:pt x="23458" y="10046"/>
                  <a:pt x="23409" y="10033"/>
                  <a:pt x="23366" y="10071"/>
                </a:cubicBezTo>
                <a:cubicBezTo>
                  <a:pt x="23311" y="10120"/>
                  <a:pt x="23363" y="10126"/>
                  <a:pt x="23391" y="10170"/>
                </a:cubicBezTo>
                <a:cubicBezTo>
                  <a:pt x="23423" y="10219"/>
                  <a:pt x="23492" y="10242"/>
                  <a:pt x="23515" y="10294"/>
                </a:cubicBezTo>
                <a:cubicBezTo>
                  <a:pt x="23528" y="10324"/>
                  <a:pt x="23515" y="10376"/>
                  <a:pt x="23490" y="10393"/>
                </a:cubicBezTo>
                <a:cubicBezTo>
                  <a:pt x="23452" y="10419"/>
                  <a:pt x="23383" y="10463"/>
                  <a:pt x="23341" y="10468"/>
                </a:cubicBezTo>
                <a:cubicBezTo>
                  <a:pt x="23333" y="10468"/>
                  <a:pt x="23324" y="10468"/>
                  <a:pt x="23316" y="10468"/>
                </a:cubicBezTo>
              </a:path>
              <a:path w="497" h="423">
                <a:moveTo>
                  <a:pt x="23540" y="10096"/>
                </a:moveTo>
                <a:cubicBezTo>
                  <a:pt x="23603" y="10096"/>
                  <a:pt x="23631" y="10081"/>
                  <a:pt x="23688" y="10071"/>
                </a:cubicBezTo>
                <a:cubicBezTo>
                  <a:pt x="23742" y="10061"/>
                  <a:pt x="23758" y="10054"/>
                  <a:pt x="23812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62880" y="1027080"/>
            <a:ext cx="696960" cy="2867040"/>
          </a:xfrm>
          <a:custGeom>
            <a:avLst/>
            <a:gdLst/>
            <a:ahLst/>
            <a:rect l="l" t="t" r="r" b="b"/>
            <a:pathLst>
              <a:path w="1935" h="7963">
                <a:moveTo>
                  <a:pt x="21109" y="3076"/>
                </a:moveTo>
                <a:cubicBezTo>
                  <a:pt x="21101" y="3076"/>
                  <a:pt x="21092" y="3076"/>
                  <a:pt x="21084" y="3076"/>
                </a:cubicBezTo>
              </a:path>
              <a:path w="1935" h="7963">
                <a:moveTo>
                  <a:pt x="21109" y="3076"/>
                </a:moveTo>
                <a:cubicBezTo>
                  <a:pt x="21136" y="3056"/>
                  <a:pt x="21082" y="3045"/>
                  <a:pt x="21109" y="3026"/>
                </a:cubicBezTo>
                <a:cubicBezTo>
                  <a:pt x="21146" y="3000"/>
                  <a:pt x="21209" y="2968"/>
                  <a:pt x="21258" y="2952"/>
                </a:cubicBezTo>
                <a:cubicBezTo>
                  <a:pt x="21339" y="2925"/>
                  <a:pt x="21444" y="2926"/>
                  <a:pt x="21530" y="2902"/>
                </a:cubicBezTo>
                <a:cubicBezTo>
                  <a:pt x="21605" y="2881"/>
                  <a:pt x="21676" y="2860"/>
                  <a:pt x="21754" y="2853"/>
                </a:cubicBezTo>
                <a:cubicBezTo>
                  <a:pt x="21840" y="2846"/>
                  <a:pt x="22171" y="2818"/>
                  <a:pt x="22225" y="2877"/>
                </a:cubicBezTo>
                <a:cubicBezTo>
                  <a:pt x="22272" y="2929"/>
                  <a:pt x="22235" y="2987"/>
                  <a:pt x="22250" y="3051"/>
                </a:cubicBezTo>
                <a:cubicBezTo>
                  <a:pt x="22260" y="3093"/>
                  <a:pt x="22264" y="3151"/>
                  <a:pt x="22275" y="3200"/>
                </a:cubicBezTo>
                <a:cubicBezTo>
                  <a:pt x="22288" y="3259"/>
                  <a:pt x="22308" y="3314"/>
                  <a:pt x="22324" y="3373"/>
                </a:cubicBezTo>
                <a:cubicBezTo>
                  <a:pt x="22350" y="3470"/>
                  <a:pt x="22377" y="3570"/>
                  <a:pt x="22399" y="3671"/>
                </a:cubicBezTo>
                <a:cubicBezTo>
                  <a:pt x="22415" y="3744"/>
                  <a:pt x="22407" y="3821"/>
                  <a:pt x="22423" y="3894"/>
                </a:cubicBezTo>
                <a:cubicBezTo>
                  <a:pt x="22444" y="3987"/>
                  <a:pt x="22475" y="4076"/>
                  <a:pt x="22498" y="4167"/>
                </a:cubicBezTo>
                <a:cubicBezTo>
                  <a:pt x="22521" y="4259"/>
                  <a:pt x="22533" y="4322"/>
                  <a:pt x="22547" y="4415"/>
                </a:cubicBezTo>
                <a:cubicBezTo>
                  <a:pt x="22559" y="4496"/>
                  <a:pt x="22554" y="4583"/>
                  <a:pt x="22572" y="4663"/>
                </a:cubicBezTo>
                <a:cubicBezTo>
                  <a:pt x="22591" y="4748"/>
                  <a:pt x="22621" y="4828"/>
                  <a:pt x="22647" y="4911"/>
                </a:cubicBezTo>
                <a:cubicBezTo>
                  <a:pt x="22673" y="4994"/>
                  <a:pt x="22688" y="5071"/>
                  <a:pt x="22696" y="5159"/>
                </a:cubicBezTo>
                <a:cubicBezTo>
                  <a:pt x="22712" y="5329"/>
                  <a:pt x="22679" y="5492"/>
                  <a:pt x="22671" y="5655"/>
                </a:cubicBezTo>
                <a:cubicBezTo>
                  <a:pt x="22662" y="5823"/>
                  <a:pt x="22689" y="5993"/>
                  <a:pt x="22696" y="6152"/>
                </a:cubicBezTo>
                <a:cubicBezTo>
                  <a:pt x="22704" y="6326"/>
                  <a:pt x="22665" y="6508"/>
                  <a:pt x="22671" y="6672"/>
                </a:cubicBezTo>
                <a:cubicBezTo>
                  <a:pt x="22673" y="6728"/>
                  <a:pt x="22685" y="6768"/>
                  <a:pt x="22696" y="6821"/>
                </a:cubicBezTo>
                <a:cubicBezTo>
                  <a:pt x="22704" y="6859"/>
                  <a:pt x="22714" y="6880"/>
                  <a:pt x="22721" y="6921"/>
                </a:cubicBezTo>
                <a:cubicBezTo>
                  <a:pt x="22728" y="6963"/>
                  <a:pt x="22737" y="7003"/>
                  <a:pt x="22746" y="7045"/>
                </a:cubicBezTo>
                <a:cubicBezTo>
                  <a:pt x="22756" y="7093"/>
                  <a:pt x="22765" y="7083"/>
                  <a:pt x="22771" y="7119"/>
                </a:cubicBezTo>
                <a:cubicBezTo>
                  <a:pt x="22778" y="7159"/>
                  <a:pt x="22791" y="7182"/>
                  <a:pt x="22796" y="7218"/>
                </a:cubicBezTo>
                <a:cubicBezTo>
                  <a:pt x="22824" y="7422"/>
                  <a:pt x="22798" y="7636"/>
                  <a:pt x="22820" y="7838"/>
                </a:cubicBezTo>
                <a:cubicBezTo>
                  <a:pt x="22826" y="7892"/>
                  <a:pt x="22842" y="7930"/>
                  <a:pt x="22845" y="7987"/>
                </a:cubicBezTo>
                <a:cubicBezTo>
                  <a:pt x="22865" y="8337"/>
                  <a:pt x="22835" y="8685"/>
                  <a:pt x="22870" y="9029"/>
                </a:cubicBezTo>
                <a:cubicBezTo>
                  <a:pt x="22874" y="9074"/>
                  <a:pt x="22893" y="9107"/>
                  <a:pt x="22895" y="9153"/>
                </a:cubicBezTo>
                <a:cubicBezTo>
                  <a:pt x="22900" y="9253"/>
                  <a:pt x="22916" y="9364"/>
                  <a:pt x="22920" y="9451"/>
                </a:cubicBezTo>
                <a:cubicBezTo>
                  <a:pt x="22929" y="9636"/>
                  <a:pt x="22935" y="9816"/>
                  <a:pt x="22944" y="9996"/>
                </a:cubicBezTo>
                <a:cubicBezTo>
                  <a:pt x="22954" y="10194"/>
                  <a:pt x="22947" y="10409"/>
                  <a:pt x="22920" y="10592"/>
                </a:cubicBezTo>
                <a:cubicBezTo>
                  <a:pt x="22908" y="10674"/>
                  <a:pt x="22918" y="10757"/>
                  <a:pt x="22845" y="10790"/>
                </a:cubicBezTo>
                <a:cubicBezTo>
                  <a:pt x="22815" y="10804"/>
                  <a:pt x="22804" y="10761"/>
                  <a:pt x="22771" y="10765"/>
                </a:cubicBezTo>
                <a:cubicBezTo>
                  <a:pt x="22610" y="10786"/>
                  <a:pt x="22453" y="10769"/>
                  <a:pt x="22299" y="10790"/>
                </a:cubicBezTo>
                <a:cubicBezTo>
                  <a:pt x="22208" y="10802"/>
                  <a:pt x="22161" y="10829"/>
                  <a:pt x="22076" y="10790"/>
                </a:cubicBezTo>
                <a:cubicBezTo>
                  <a:pt x="22042" y="10775"/>
                  <a:pt x="22050" y="10757"/>
                  <a:pt x="22027" y="10740"/>
                </a:cubicBezTo>
                <a:cubicBezTo>
                  <a:pt x="21990" y="10714"/>
                  <a:pt x="21976" y="10682"/>
                  <a:pt x="21952" y="10666"/>
                </a:cubicBezTo>
                <a:cubicBezTo>
                  <a:pt x="21934" y="10653"/>
                  <a:pt x="21861" y="10627"/>
                  <a:pt x="21853" y="10616"/>
                </a:cubicBezTo>
                <a:cubicBezTo>
                  <a:pt x="21836" y="10594"/>
                  <a:pt x="21812" y="10582"/>
                  <a:pt x="21803" y="10542"/>
                </a:cubicBezTo>
                <a:cubicBezTo>
                  <a:pt x="21783" y="10456"/>
                  <a:pt x="21817" y="10331"/>
                  <a:pt x="21828" y="10244"/>
                </a:cubicBezTo>
                <a:cubicBezTo>
                  <a:pt x="21834" y="10194"/>
                  <a:pt x="21858" y="10137"/>
                  <a:pt x="21853" y="10071"/>
                </a:cubicBezTo>
                <a:cubicBezTo>
                  <a:pt x="21847" y="9991"/>
                  <a:pt x="21822" y="9912"/>
                  <a:pt x="21828" y="9823"/>
                </a:cubicBezTo>
                <a:cubicBezTo>
                  <a:pt x="21833" y="9750"/>
                  <a:pt x="21842" y="9674"/>
                  <a:pt x="21853" y="9599"/>
                </a:cubicBezTo>
                <a:cubicBezTo>
                  <a:pt x="21865" y="9512"/>
                  <a:pt x="21856" y="9458"/>
                  <a:pt x="21853" y="9376"/>
                </a:cubicBezTo>
                <a:cubicBezTo>
                  <a:pt x="21850" y="9272"/>
                  <a:pt x="21844" y="9181"/>
                  <a:pt x="21828" y="9079"/>
                </a:cubicBezTo>
                <a:cubicBezTo>
                  <a:pt x="21817" y="9008"/>
                  <a:pt x="21800" y="8949"/>
                  <a:pt x="21779" y="8880"/>
                </a:cubicBezTo>
                <a:cubicBezTo>
                  <a:pt x="21758" y="8812"/>
                  <a:pt x="21741" y="8752"/>
                  <a:pt x="21729" y="8682"/>
                </a:cubicBezTo>
                <a:cubicBezTo>
                  <a:pt x="21718" y="8620"/>
                  <a:pt x="21708" y="8572"/>
                  <a:pt x="21704" y="8508"/>
                </a:cubicBezTo>
                <a:cubicBezTo>
                  <a:pt x="21692" y="8316"/>
                  <a:pt x="21705" y="8124"/>
                  <a:pt x="21679" y="7938"/>
                </a:cubicBezTo>
                <a:cubicBezTo>
                  <a:pt x="21671" y="7884"/>
                  <a:pt x="21658" y="7846"/>
                  <a:pt x="21654" y="7789"/>
                </a:cubicBezTo>
                <a:cubicBezTo>
                  <a:pt x="21643" y="7630"/>
                  <a:pt x="21673" y="7468"/>
                  <a:pt x="21630" y="7317"/>
                </a:cubicBezTo>
                <a:cubicBezTo>
                  <a:pt x="21620" y="7282"/>
                  <a:pt x="21589" y="7251"/>
                  <a:pt x="21580" y="7218"/>
                </a:cubicBezTo>
                <a:cubicBezTo>
                  <a:pt x="21569" y="7175"/>
                  <a:pt x="21562" y="7138"/>
                  <a:pt x="21555" y="7094"/>
                </a:cubicBezTo>
                <a:cubicBezTo>
                  <a:pt x="21543" y="7014"/>
                  <a:pt x="21542" y="6944"/>
                  <a:pt x="21530" y="6871"/>
                </a:cubicBezTo>
                <a:cubicBezTo>
                  <a:pt x="21524" y="6831"/>
                  <a:pt x="21512" y="6808"/>
                  <a:pt x="21506" y="6772"/>
                </a:cubicBezTo>
                <a:cubicBezTo>
                  <a:pt x="21500" y="6731"/>
                  <a:pt x="21485" y="6709"/>
                  <a:pt x="21481" y="6672"/>
                </a:cubicBezTo>
                <a:cubicBezTo>
                  <a:pt x="21468" y="6557"/>
                  <a:pt x="21510" y="6458"/>
                  <a:pt x="21506" y="6350"/>
                </a:cubicBezTo>
                <a:cubicBezTo>
                  <a:pt x="21504" y="6297"/>
                  <a:pt x="21486" y="6270"/>
                  <a:pt x="21481" y="6226"/>
                </a:cubicBezTo>
                <a:cubicBezTo>
                  <a:pt x="21476" y="6179"/>
                  <a:pt x="21462" y="6138"/>
                  <a:pt x="21456" y="6102"/>
                </a:cubicBezTo>
                <a:cubicBezTo>
                  <a:pt x="21448" y="6057"/>
                  <a:pt x="21438" y="6014"/>
                  <a:pt x="21431" y="5978"/>
                </a:cubicBezTo>
                <a:cubicBezTo>
                  <a:pt x="21422" y="5935"/>
                  <a:pt x="21411" y="5893"/>
                  <a:pt x="21406" y="5854"/>
                </a:cubicBezTo>
                <a:cubicBezTo>
                  <a:pt x="21399" y="5802"/>
                  <a:pt x="21386" y="5722"/>
                  <a:pt x="21382" y="5680"/>
                </a:cubicBezTo>
                <a:cubicBezTo>
                  <a:pt x="21374" y="5588"/>
                  <a:pt x="21371" y="5518"/>
                  <a:pt x="21357" y="5432"/>
                </a:cubicBezTo>
                <a:cubicBezTo>
                  <a:pt x="21349" y="5387"/>
                  <a:pt x="21340" y="5360"/>
                  <a:pt x="21332" y="5308"/>
                </a:cubicBezTo>
                <a:cubicBezTo>
                  <a:pt x="21325" y="5264"/>
                  <a:pt x="21310" y="5230"/>
                  <a:pt x="21307" y="5184"/>
                </a:cubicBezTo>
                <a:cubicBezTo>
                  <a:pt x="21300" y="5083"/>
                  <a:pt x="21294" y="4974"/>
                  <a:pt x="21282" y="4887"/>
                </a:cubicBezTo>
                <a:cubicBezTo>
                  <a:pt x="21274" y="4827"/>
                  <a:pt x="21266" y="4771"/>
                  <a:pt x="21258" y="4713"/>
                </a:cubicBezTo>
                <a:cubicBezTo>
                  <a:pt x="21251" y="4663"/>
                  <a:pt x="21244" y="4633"/>
                  <a:pt x="21233" y="4589"/>
                </a:cubicBezTo>
                <a:cubicBezTo>
                  <a:pt x="21218" y="4532"/>
                  <a:pt x="21202" y="4499"/>
                  <a:pt x="21183" y="4440"/>
                </a:cubicBezTo>
                <a:cubicBezTo>
                  <a:pt x="21168" y="4393"/>
                  <a:pt x="21146" y="4340"/>
                  <a:pt x="21134" y="4291"/>
                </a:cubicBezTo>
                <a:cubicBezTo>
                  <a:pt x="21123" y="4245"/>
                  <a:pt x="21117" y="4188"/>
                  <a:pt x="21109" y="4142"/>
                </a:cubicBezTo>
                <a:cubicBezTo>
                  <a:pt x="21101" y="4097"/>
                  <a:pt x="21087" y="4058"/>
                  <a:pt x="21084" y="4018"/>
                </a:cubicBezTo>
                <a:cubicBezTo>
                  <a:pt x="21073" y="3883"/>
                  <a:pt x="21066" y="3718"/>
                  <a:pt x="21059" y="3597"/>
                </a:cubicBezTo>
                <a:cubicBezTo>
                  <a:pt x="21055" y="3520"/>
                  <a:pt x="21041" y="3413"/>
                  <a:pt x="21034" y="3373"/>
                </a:cubicBezTo>
                <a:cubicBezTo>
                  <a:pt x="21028" y="3336"/>
                  <a:pt x="21011" y="3307"/>
                  <a:pt x="21010" y="3274"/>
                </a:cubicBezTo>
                <a:cubicBezTo>
                  <a:pt x="21009" y="3213"/>
                  <a:pt x="21014" y="3180"/>
                  <a:pt x="21034" y="3150"/>
                </a:cubicBezTo>
                <a:cubicBezTo>
                  <a:pt x="21060" y="3112"/>
                  <a:pt x="21066" y="3105"/>
                  <a:pt x="21109" y="3076"/>
                </a:cubicBezTo>
                <a:cubicBezTo>
                  <a:pt x="21134" y="3059"/>
                  <a:pt x="21229" y="3035"/>
                  <a:pt x="21258" y="3026"/>
                </a:cubicBezTo>
                <a:cubicBezTo>
                  <a:pt x="21282" y="3026"/>
                  <a:pt x="21291" y="3026"/>
                  <a:pt x="21307" y="30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96120" y="179532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20935" y="5308"/>
                </a:moveTo>
                <a:cubicBezTo>
                  <a:pt x="20997" y="5355"/>
                  <a:pt x="21014" y="5316"/>
                  <a:pt x="21084" y="5308"/>
                </a:cubicBezTo>
                <a:cubicBezTo>
                  <a:pt x="21185" y="5297"/>
                  <a:pt x="21280" y="5283"/>
                  <a:pt x="21382" y="5283"/>
                </a:cubicBezTo>
                <a:cubicBezTo>
                  <a:pt x="21398" y="5283"/>
                  <a:pt x="21415" y="5283"/>
                  <a:pt x="21431" y="5283"/>
                </a:cubicBezTo>
              </a:path>
              <a:path w="1167" h="621">
                <a:moveTo>
                  <a:pt x="20489" y="4986"/>
                </a:moveTo>
                <a:cubicBezTo>
                  <a:pt x="20512" y="5017"/>
                  <a:pt x="20534" y="5047"/>
                  <a:pt x="20538" y="5085"/>
                </a:cubicBezTo>
                <a:cubicBezTo>
                  <a:pt x="20542" y="5118"/>
                  <a:pt x="20557" y="5111"/>
                  <a:pt x="20588" y="5135"/>
                </a:cubicBezTo>
                <a:cubicBezTo>
                  <a:pt x="20588" y="5089"/>
                  <a:pt x="20595" y="5070"/>
                  <a:pt x="20563" y="5035"/>
                </a:cubicBezTo>
                <a:cubicBezTo>
                  <a:pt x="20526" y="4995"/>
                  <a:pt x="20547" y="4986"/>
                  <a:pt x="20489" y="4986"/>
                </a:cubicBezTo>
                <a:cubicBezTo>
                  <a:pt x="20454" y="4986"/>
                  <a:pt x="20386" y="5005"/>
                  <a:pt x="20365" y="5035"/>
                </a:cubicBezTo>
                <a:cubicBezTo>
                  <a:pt x="20331" y="5084"/>
                  <a:pt x="20311" y="5132"/>
                  <a:pt x="20290" y="5184"/>
                </a:cubicBezTo>
                <a:cubicBezTo>
                  <a:pt x="20259" y="5261"/>
                  <a:pt x="20265" y="5323"/>
                  <a:pt x="20265" y="5407"/>
                </a:cubicBezTo>
                <a:cubicBezTo>
                  <a:pt x="20265" y="5473"/>
                  <a:pt x="20269" y="5506"/>
                  <a:pt x="20315" y="5556"/>
                </a:cubicBezTo>
                <a:cubicBezTo>
                  <a:pt x="20357" y="5603"/>
                  <a:pt x="20429" y="5603"/>
                  <a:pt x="20489" y="5606"/>
                </a:cubicBezTo>
                <a:cubicBezTo>
                  <a:pt x="20551" y="5609"/>
                  <a:pt x="20598" y="5581"/>
                  <a:pt x="20662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9840" y="2394000"/>
            <a:ext cx="689040" cy="222120"/>
          </a:xfrm>
          <a:custGeom>
            <a:avLst/>
            <a:gdLst/>
            <a:ahLst/>
            <a:rect l="l" t="t" r="r" b="b"/>
            <a:pathLst>
              <a:path w="1911" h="621">
                <a:moveTo>
                  <a:pt x="21183" y="6896"/>
                </a:moveTo>
                <a:cubicBezTo>
                  <a:pt x="21249" y="6896"/>
                  <a:pt x="21293" y="6875"/>
                  <a:pt x="21357" y="6871"/>
                </a:cubicBezTo>
                <a:cubicBezTo>
                  <a:pt x="21439" y="6866"/>
                  <a:pt x="21523" y="6871"/>
                  <a:pt x="21605" y="6871"/>
                </a:cubicBezTo>
              </a:path>
              <a:path w="1911" h="621">
                <a:moveTo>
                  <a:pt x="21010" y="6697"/>
                </a:moveTo>
                <a:cubicBezTo>
                  <a:pt x="21010" y="6672"/>
                  <a:pt x="21010" y="6664"/>
                  <a:pt x="21010" y="6648"/>
                </a:cubicBezTo>
                <a:cubicBezTo>
                  <a:pt x="20956" y="6648"/>
                  <a:pt x="20909" y="6640"/>
                  <a:pt x="20861" y="6672"/>
                </a:cubicBezTo>
                <a:cubicBezTo>
                  <a:pt x="20812" y="6704"/>
                  <a:pt x="20770" y="6818"/>
                  <a:pt x="20762" y="6871"/>
                </a:cubicBezTo>
                <a:cubicBezTo>
                  <a:pt x="20751" y="6941"/>
                  <a:pt x="20757" y="7065"/>
                  <a:pt x="20811" y="7119"/>
                </a:cubicBezTo>
                <a:cubicBezTo>
                  <a:pt x="20852" y="7160"/>
                  <a:pt x="20933" y="7144"/>
                  <a:pt x="20985" y="7144"/>
                </a:cubicBezTo>
                <a:cubicBezTo>
                  <a:pt x="21001" y="7144"/>
                  <a:pt x="21018" y="7144"/>
                  <a:pt x="21034" y="7144"/>
                </a:cubicBezTo>
              </a:path>
              <a:path w="1911" h="621">
                <a:moveTo>
                  <a:pt x="20315" y="6945"/>
                </a:moveTo>
                <a:cubicBezTo>
                  <a:pt x="20274" y="6945"/>
                  <a:pt x="20348" y="6945"/>
                  <a:pt x="20389" y="6945"/>
                </a:cubicBezTo>
                <a:cubicBezTo>
                  <a:pt x="20475" y="6945"/>
                  <a:pt x="20533" y="6939"/>
                  <a:pt x="20613" y="6921"/>
                </a:cubicBezTo>
                <a:cubicBezTo>
                  <a:pt x="20638" y="6921"/>
                  <a:pt x="20646" y="6921"/>
                  <a:pt x="20662" y="6921"/>
                </a:cubicBezTo>
              </a:path>
              <a:path w="1911" h="621">
                <a:moveTo>
                  <a:pt x="20141" y="6697"/>
                </a:moveTo>
                <a:cubicBezTo>
                  <a:pt x="20110" y="6686"/>
                  <a:pt x="20111" y="6657"/>
                  <a:pt x="20092" y="6648"/>
                </a:cubicBezTo>
                <a:cubicBezTo>
                  <a:pt x="20032" y="6619"/>
                  <a:pt x="19984" y="6672"/>
                  <a:pt x="19943" y="6697"/>
                </a:cubicBezTo>
                <a:cubicBezTo>
                  <a:pt x="19833" y="6764"/>
                  <a:pt x="19771" y="6851"/>
                  <a:pt x="19720" y="6970"/>
                </a:cubicBezTo>
                <a:cubicBezTo>
                  <a:pt x="19669" y="7089"/>
                  <a:pt x="19691" y="7168"/>
                  <a:pt x="19794" y="7243"/>
                </a:cubicBezTo>
                <a:cubicBezTo>
                  <a:pt x="19852" y="7285"/>
                  <a:pt x="19926" y="7268"/>
                  <a:pt x="19993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9280" y="3268800"/>
            <a:ext cx="36720" cy="295200"/>
          </a:xfrm>
          <a:custGeom>
            <a:avLst/>
            <a:gdLst/>
            <a:ahLst/>
            <a:rect l="l" t="t" r="r" b="b"/>
            <a:pathLst>
              <a:path w="100" h="819">
                <a:moveTo>
                  <a:pt x="22597" y="9079"/>
                </a:moveTo>
                <a:cubicBezTo>
                  <a:pt x="22589" y="9079"/>
                  <a:pt x="22580" y="9079"/>
                  <a:pt x="22572" y="9079"/>
                </a:cubicBezTo>
                <a:cubicBezTo>
                  <a:pt x="22572" y="9124"/>
                  <a:pt x="22551" y="9138"/>
                  <a:pt x="22547" y="9178"/>
                </a:cubicBezTo>
                <a:cubicBezTo>
                  <a:pt x="22540" y="9242"/>
                  <a:pt x="22547" y="9311"/>
                  <a:pt x="22547" y="9376"/>
                </a:cubicBezTo>
                <a:cubicBezTo>
                  <a:pt x="22511" y="9389"/>
                  <a:pt x="22523" y="9407"/>
                  <a:pt x="22523" y="9451"/>
                </a:cubicBezTo>
                <a:cubicBezTo>
                  <a:pt x="22523" y="9556"/>
                  <a:pt x="22528" y="9658"/>
                  <a:pt x="22498" y="9748"/>
                </a:cubicBezTo>
                <a:cubicBezTo>
                  <a:pt x="22498" y="9773"/>
                  <a:pt x="22498" y="9781"/>
                  <a:pt x="22498" y="9798"/>
                </a:cubicBezTo>
                <a:cubicBezTo>
                  <a:pt x="22552" y="9816"/>
                  <a:pt x="22500" y="9828"/>
                  <a:pt x="22523" y="9872"/>
                </a:cubicBezTo>
                <a:cubicBezTo>
                  <a:pt x="22531" y="9880"/>
                  <a:pt x="22539" y="9889"/>
                  <a:pt x="22547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53240" y="1116000"/>
            <a:ext cx="473040" cy="2652840"/>
          </a:xfrm>
          <a:custGeom>
            <a:avLst/>
            <a:gdLst/>
            <a:ahLst/>
            <a:rect l="l" t="t" r="r" b="b"/>
            <a:pathLst>
              <a:path w="1315" h="7368">
                <a:moveTo>
                  <a:pt x="21729" y="3225"/>
                </a:moveTo>
                <a:cubicBezTo>
                  <a:pt x="21767" y="3187"/>
                  <a:pt x="21779" y="3178"/>
                  <a:pt x="21779" y="3125"/>
                </a:cubicBezTo>
                <a:cubicBezTo>
                  <a:pt x="21779" y="3117"/>
                  <a:pt x="21779" y="3109"/>
                  <a:pt x="21779" y="3101"/>
                </a:cubicBezTo>
                <a:cubicBezTo>
                  <a:pt x="21715" y="3101"/>
                  <a:pt x="21667" y="3099"/>
                  <a:pt x="21605" y="3125"/>
                </a:cubicBezTo>
                <a:cubicBezTo>
                  <a:pt x="21480" y="3177"/>
                  <a:pt x="21340" y="3270"/>
                  <a:pt x="21282" y="3398"/>
                </a:cubicBezTo>
                <a:cubicBezTo>
                  <a:pt x="21229" y="3515"/>
                  <a:pt x="21253" y="3646"/>
                  <a:pt x="21382" y="3696"/>
                </a:cubicBezTo>
                <a:cubicBezTo>
                  <a:pt x="21524" y="3751"/>
                  <a:pt x="21659" y="3748"/>
                  <a:pt x="21803" y="3721"/>
                </a:cubicBezTo>
              </a:path>
              <a:path w="1315" h="7368">
                <a:moveTo>
                  <a:pt x="21630" y="3944"/>
                </a:moveTo>
                <a:cubicBezTo>
                  <a:pt x="21592" y="3957"/>
                  <a:pt x="21594" y="4019"/>
                  <a:pt x="21605" y="4068"/>
                </a:cubicBezTo>
                <a:cubicBezTo>
                  <a:pt x="21632" y="4189"/>
                  <a:pt x="21622" y="4322"/>
                  <a:pt x="21654" y="4440"/>
                </a:cubicBezTo>
                <a:cubicBezTo>
                  <a:pt x="21668" y="4492"/>
                  <a:pt x="21673" y="4548"/>
                  <a:pt x="21704" y="4589"/>
                </a:cubicBezTo>
              </a:path>
              <a:path w="1315" h="7368">
                <a:moveTo>
                  <a:pt x="21903" y="4936"/>
                </a:moveTo>
                <a:cubicBezTo>
                  <a:pt x="21891" y="4887"/>
                  <a:pt x="21878" y="4887"/>
                  <a:pt x="21828" y="4887"/>
                </a:cubicBezTo>
                <a:cubicBezTo>
                  <a:pt x="21742" y="4887"/>
                  <a:pt x="21645" y="4985"/>
                  <a:pt x="21605" y="5060"/>
                </a:cubicBezTo>
                <a:cubicBezTo>
                  <a:pt x="21544" y="5175"/>
                  <a:pt x="21551" y="5256"/>
                  <a:pt x="21630" y="5358"/>
                </a:cubicBezTo>
                <a:cubicBezTo>
                  <a:pt x="21693" y="5440"/>
                  <a:pt x="21830" y="5450"/>
                  <a:pt x="21927" y="5432"/>
                </a:cubicBezTo>
                <a:cubicBezTo>
                  <a:pt x="21988" y="5421"/>
                  <a:pt x="22025" y="5388"/>
                  <a:pt x="22076" y="5358"/>
                </a:cubicBezTo>
              </a:path>
              <a:path w="1315" h="7368">
                <a:moveTo>
                  <a:pt x="21878" y="5779"/>
                </a:moveTo>
                <a:cubicBezTo>
                  <a:pt x="21878" y="5721"/>
                  <a:pt x="21878" y="5846"/>
                  <a:pt x="21878" y="5904"/>
                </a:cubicBezTo>
                <a:cubicBezTo>
                  <a:pt x="21878" y="5996"/>
                  <a:pt x="21853" y="6082"/>
                  <a:pt x="21853" y="6176"/>
                </a:cubicBezTo>
                <a:cubicBezTo>
                  <a:pt x="21853" y="6253"/>
                  <a:pt x="21852" y="6282"/>
                  <a:pt x="21878" y="6350"/>
                </a:cubicBezTo>
              </a:path>
              <a:path w="1315" h="7368">
                <a:moveTo>
                  <a:pt x="22027" y="6474"/>
                </a:moveTo>
                <a:cubicBezTo>
                  <a:pt x="21934" y="6434"/>
                  <a:pt x="21916" y="6467"/>
                  <a:pt x="21828" y="6524"/>
                </a:cubicBezTo>
                <a:cubicBezTo>
                  <a:pt x="21737" y="6583"/>
                  <a:pt x="21650" y="6684"/>
                  <a:pt x="21630" y="6796"/>
                </a:cubicBezTo>
                <a:cubicBezTo>
                  <a:pt x="21610" y="6908"/>
                  <a:pt x="21668" y="6999"/>
                  <a:pt x="21779" y="7020"/>
                </a:cubicBezTo>
                <a:cubicBezTo>
                  <a:pt x="21868" y="7037"/>
                  <a:pt x="21966" y="7018"/>
                  <a:pt x="22051" y="6995"/>
                </a:cubicBezTo>
              </a:path>
              <a:path w="1315" h="7368">
                <a:moveTo>
                  <a:pt x="22101" y="7268"/>
                </a:moveTo>
                <a:cubicBezTo>
                  <a:pt x="22067" y="7324"/>
                  <a:pt x="22037" y="7420"/>
                  <a:pt x="22027" y="7491"/>
                </a:cubicBezTo>
                <a:cubicBezTo>
                  <a:pt x="22015" y="7578"/>
                  <a:pt x="21978" y="7701"/>
                  <a:pt x="22002" y="7789"/>
                </a:cubicBezTo>
                <a:cubicBezTo>
                  <a:pt x="22026" y="7837"/>
                  <a:pt x="22035" y="7851"/>
                  <a:pt x="22027" y="7888"/>
                </a:cubicBezTo>
              </a:path>
              <a:path w="1315" h="7368">
                <a:moveTo>
                  <a:pt x="22126" y="8260"/>
                </a:moveTo>
                <a:cubicBezTo>
                  <a:pt x="22126" y="8235"/>
                  <a:pt x="22126" y="8211"/>
                  <a:pt x="22126" y="8186"/>
                </a:cubicBezTo>
                <a:cubicBezTo>
                  <a:pt x="22080" y="8197"/>
                  <a:pt x="22032" y="8243"/>
                  <a:pt x="22002" y="8285"/>
                </a:cubicBezTo>
                <a:cubicBezTo>
                  <a:pt x="21954" y="8353"/>
                  <a:pt x="21873" y="8467"/>
                  <a:pt x="21903" y="8558"/>
                </a:cubicBezTo>
                <a:cubicBezTo>
                  <a:pt x="21941" y="8674"/>
                  <a:pt x="22067" y="8717"/>
                  <a:pt x="22175" y="8731"/>
                </a:cubicBezTo>
                <a:cubicBezTo>
                  <a:pt x="22259" y="8731"/>
                  <a:pt x="22293" y="8729"/>
                  <a:pt x="22349" y="8706"/>
                </a:cubicBezTo>
              </a:path>
              <a:path w="1315" h="7368">
                <a:moveTo>
                  <a:pt x="22299" y="9054"/>
                </a:moveTo>
                <a:cubicBezTo>
                  <a:pt x="22299" y="9141"/>
                  <a:pt x="22278" y="9216"/>
                  <a:pt x="22275" y="9302"/>
                </a:cubicBezTo>
                <a:cubicBezTo>
                  <a:pt x="22271" y="9442"/>
                  <a:pt x="22275" y="9583"/>
                  <a:pt x="22275" y="9723"/>
                </a:cubicBezTo>
              </a:path>
              <a:path w="1315" h="7368">
                <a:moveTo>
                  <a:pt x="22374" y="10046"/>
                </a:moveTo>
                <a:cubicBezTo>
                  <a:pt x="22367" y="10001"/>
                  <a:pt x="22360" y="9974"/>
                  <a:pt x="22299" y="9996"/>
                </a:cubicBezTo>
                <a:cubicBezTo>
                  <a:pt x="22202" y="10031"/>
                  <a:pt x="22162" y="10077"/>
                  <a:pt x="22126" y="10170"/>
                </a:cubicBezTo>
                <a:cubicBezTo>
                  <a:pt x="22067" y="10322"/>
                  <a:pt x="22120" y="10338"/>
                  <a:pt x="22225" y="10418"/>
                </a:cubicBezTo>
                <a:cubicBezTo>
                  <a:pt x="22315" y="10487"/>
                  <a:pt x="22413" y="10484"/>
                  <a:pt x="22523" y="10443"/>
                </a:cubicBezTo>
                <a:cubicBezTo>
                  <a:pt x="22539" y="10435"/>
                  <a:pt x="22556" y="10426"/>
                  <a:pt x="22572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61160" y="4249800"/>
            <a:ext cx="142920" cy="2430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1382" y="11807"/>
                </a:moveTo>
                <a:cubicBezTo>
                  <a:pt x="21339" y="11807"/>
                  <a:pt x="21322" y="11812"/>
                  <a:pt x="21307" y="11857"/>
                </a:cubicBezTo>
                <a:cubicBezTo>
                  <a:pt x="21289" y="11908"/>
                  <a:pt x="21296" y="11982"/>
                  <a:pt x="21282" y="12030"/>
                </a:cubicBezTo>
                <a:cubicBezTo>
                  <a:pt x="21273" y="12060"/>
                  <a:pt x="21276" y="12114"/>
                  <a:pt x="21307" y="12129"/>
                </a:cubicBezTo>
                <a:cubicBezTo>
                  <a:pt x="21370" y="12160"/>
                  <a:pt x="21497" y="12118"/>
                  <a:pt x="21555" y="12105"/>
                </a:cubicBezTo>
                <a:cubicBezTo>
                  <a:pt x="21590" y="12105"/>
                  <a:pt x="21608" y="12100"/>
                  <a:pt x="21630" y="12080"/>
                </a:cubicBezTo>
              </a:path>
              <a:path w="398" h="671">
                <a:moveTo>
                  <a:pt x="21679" y="11832"/>
                </a:moveTo>
                <a:cubicBezTo>
                  <a:pt x="21629" y="11799"/>
                  <a:pt x="21645" y="11852"/>
                  <a:pt x="21630" y="11906"/>
                </a:cubicBezTo>
                <a:cubicBezTo>
                  <a:pt x="21598" y="12022"/>
                  <a:pt x="21599" y="12113"/>
                  <a:pt x="21580" y="12229"/>
                </a:cubicBezTo>
                <a:cubicBezTo>
                  <a:pt x="21566" y="12315"/>
                  <a:pt x="21541" y="12393"/>
                  <a:pt x="21530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00840" y="4313160"/>
            <a:ext cx="1384200" cy="500040"/>
          </a:xfrm>
          <a:custGeom>
            <a:avLst/>
            <a:gdLst/>
            <a:ahLst/>
            <a:rect l="l" t="t" r="r" b="b"/>
            <a:pathLst>
              <a:path w="3845" h="1390">
                <a:moveTo>
                  <a:pt x="17512" y="12750"/>
                </a:moveTo>
                <a:cubicBezTo>
                  <a:pt x="17457" y="12817"/>
                  <a:pt x="17488" y="12853"/>
                  <a:pt x="17462" y="12923"/>
                </a:cubicBezTo>
                <a:cubicBezTo>
                  <a:pt x="17450" y="12954"/>
                  <a:pt x="17421" y="13020"/>
                  <a:pt x="17462" y="13047"/>
                </a:cubicBezTo>
                <a:cubicBezTo>
                  <a:pt x="17487" y="13047"/>
                  <a:pt x="17495" y="13047"/>
                  <a:pt x="17512" y="13047"/>
                </a:cubicBezTo>
                <a:cubicBezTo>
                  <a:pt x="17546" y="12990"/>
                  <a:pt x="17558" y="12917"/>
                  <a:pt x="17587" y="12849"/>
                </a:cubicBezTo>
                <a:cubicBezTo>
                  <a:pt x="17621" y="12768"/>
                  <a:pt x="17675" y="12683"/>
                  <a:pt x="17760" y="12650"/>
                </a:cubicBezTo>
                <a:cubicBezTo>
                  <a:pt x="17794" y="12637"/>
                  <a:pt x="17849" y="12666"/>
                  <a:pt x="17859" y="12700"/>
                </a:cubicBezTo>
                <a:cubicBezTo>
                  <a:pt x="17876" y="12760"/>
                  <a:pt x="17847" y="12820"/>
                  <a:pt x="17835" y="12874"/>
                </a:cubicBezTo>
                <a:cubicBezTo>
                  <a:pt x="17835" y="12898"/>
                  <a:pt x="17835" y="12906"/>
                  <a:pt x="17859" y="12898"/>
                </a:cubicBezTo>
                <a:cubicBezTo>
                  <a:pt x="17904" y="12854"/>
                  <a:pt x="17949" y="12801"/>
                  <a:pt x="17983" y="12750"/>
                </a:cubicBezTo>
                <a:cubicBezTo>
                  <a:pt x="17996" y="12730"/>
                  <a:pt x="18044" y="12635"/>
                  <a:pt x="18058" y="12626"/>
                </a:cubicBezTo>
                <a:cubicBezTo>
                  <a:pt x="18066" y="12626"/>
                  <a:pt x="18075" y="12626"/>
                  <a:pt x="18083" y="12626"/>
                </a:cubicBezTo>
                <a:cubicBezTo>
                  <a:pt x="18083" y="12698"/>
                  <a:pt x="18079" y="12756"/>
                  <a:pt x="18107" y="12824"/>
                </a:cubicBezTo>
                <a:cubicBezTo>
                  <a:pt x="18134" y="12889"/>
                  <a:pt x="18132" y="12944"/>
                  <a:pt x="18182" y="12998"/>
                </a:cubicBezTo>
                <a:cubicBezTo>
                  <a:pt x="18190" y="13006"/>
                  <a:pt x="18199" y="13014"/>
                  <a:pt x="18207" y="13022"/>
                </a:cubicBezTo>
              </a:path>
              <a:path w="3845" h="1390">
                <a:moveTo>
                  <a:pt x="18355" y="12874"/>
                </a:moveTo>
                <a:cubicBezTo>
                  <a:pt x="18408" y="12874"/>
                  <a:pt x="18417" y="12862"/>
                  <a:pt x="18455" y="12824"/>
                </a:cubicBezTo>
                <a:cubicBezTo>
                  <a:pt x="18487" y="12792"/>
                  <a:pt x="18479" y="12768"/>
                  <a:pt x="18479" y="12725"/>
                </a:cubicBezTo>
                <a:cubicBezTo>
                  <a:pt x="18479" y="12717"/>
                  <a:pt x="18479" y="12708"/>
                  <a:pt x="18479" y="12700"/>
                </a:cubicBezTo>
                <a:cubicBezTo>
                  <a:pt x="18403" y="12700"/>
                  <a:pt x="18405" y="12695"/>
                  <a:pt x="18355" y="12750"/>
                </a:cubicBezTo>
                <a:cubicBezTo>
                  <a:pt x="18312" y="12797"/>
                  <a:pt x="18288" y="12882"/>
                  <a:pt x="18306" y="12948"/>
                </a:cubicBezTo>
                <a:cubicBezTo>
                  <a:pt x="18330" y="13034"/>
                  <a:pt x="18401" y="13066"/>
                  <a:pt x="18479" y="13072"/>
                </a:cubicBezTo>
                <a:cubicBezTo>
                  <a:pt x="18514" y="13072"/>
                  <a:pt x="18532" y="13067"/>
                  <a:pt x="18554" y="13047"/>
                </a:cubicBezTo>
              </a:path>
              <a:path w="3845" h="1390">
                <a:moveTo>
                  <a:pt x="18703" y="12154"/>
                </a:moveTo>
                <a:cubicBezTo>
                  <a:pt x="18695" y="12146"/>
                  <a:pt x="18686" y="12137"/>
                  <a:pt x="18678" y="12129"/>
                </a:cubicBezTo>
                <a:cubicBezTo>
                  <a:pt x="18693" y="12188"/>
                  <a:pt x="18692" y="12235"/>
                  <a:pt x="18703" y="12303"/>
                </a:cubicBezTo>
                <a:cubicBezTo>
                  <a:pt x="18722" y="12417"/>
                  <a:pt x="18746" y="12541"/>
                  <a:pt x="18777" y="12650"/>
                </a:cubicBezTo>
                <a:cubicBezTo>
                  <a:pt x="18795" y="12714"/>
                  <a:pt x="18821" y="12785"/>
                  <a:pt x="18827" y="12849"/>
                </a:cubicBezTo>
                <a:cubicBezTo>
                  <a:pt x="18827" y="12874"/>
                  <a:pt x="18827" y="12882"/>
                  <a:pt x="18827" y="12898"/>
                </a:cubicBezTo>
              </a:path>
              <a:path w="3845" h="1390">
                <a:moveTo>
                  <a:pt x="18604" y="12576"/>
                </a:moveTo>
                <a:cubicBezTo>
                  <a:pt x="18661" y="12576"/>
                  <a:pt x="18700" y="12560"/>
                  <a:pt x="18752" y="12551"/>
                </a:cubicBezTo>
                <a:cubicBezTo>
                  <a:pt x="18823" y="12539"/>
                  <a:pt x="18901" y="12509"/>
                  <a:pt x="18951" y="12452"/>
                </a:cubicBezTo>
                <a:cubicBezTo>
                  <a:pt x="18989" y="12408"/>
                  <a:pt x="19020" y="12331"/>
                  <a:pt x="19025" y="12278"/>
                </a:cubicBezTo>
                <a:cubicBezTo>
                  <a:pt x="19027" y="12254"/>
                  <a:pt x="19025" y="12228"/>
                  <a:pt x="19025" y="12204"/>
                </a:cubicBezTo>
                <a:cubicBezTo>
                  <a:pt x="18964" y="12224"/>
                  <a:pt x="19018" y="12277"/>
                  <a:pt x="19025" y="12328"/>
                </a:cubicBezTo>
                <a:cubicBezTo>
                  <a:pt x="19040" y="12441"/>
                  <a:pt x="19031" y="12563"/>
                  <a:pt x="19050" y="12675"/>
                </a:cubicBezTo>
                <a:cubicBezTo>
                  <a:pt x="19061" y="12739"/>
                  <a:pt x="19075" y="12784"/>
                  <a:pt x="19075" y="12849"/>
                </a:cubicBezTo>
                <a:cubicBezTo>
                  <a:pt x="19075" y="12857"/>
                  <a:pt x="19075" y="12866"/>
                  <a:pt x="19075" y="12874"/>
                </a:cubicBezTo>
                <a:cubicBezTo>
                  <a:pt x="19088" y="12857"/>
                  <a:pt x="19114" y="12781"/>
                  <a:pt x="19124" y="12774"/>
                </a:cubicBezTo>
                <a:cubicBezTo>
                  <a:pt x="19153" y="12755"/>
                  <a:pt x="19144" y="12764"/>
                  <a:pt x="19174" y="12725"/>
                </a:cubicBezTo>
                <a:cubicBezTo>
                  <a:pt x="19211" y="12734"/>
                  <a:pt x="19243" y="12748"/>
                  <a:pt x="19273" y="12774"/>
                </a:cubicBezTo>
                <a:cubicBezTo>
                  <a:pt x="19313" y="12809"/>
                  <a:pt x="19333" y="12859"/>
                  <a:pt x="19372" y="12898"/>
                </a:cubicBezTo>
                <a:cubicBezTo>
                  <a:pt x="19408" y="12934"/>
                  <a:pt x="19382" y="12935"/>
                  <a:pt x="19422" y="12948"/>
                </a:cubicBezTo>
              </a:path>
              <a:path w="3845" h="1390">
                <a:moveTo>
                  <a:pt x="19496" y="12750"/>
                </a:moveTo>
                <a:cubicBezTo>
                  <a:pt x="19468" y="12750"/>
                  <a:pt x="19458" y="12752"/>
                  <a:pt x="19447" y="12774"/>
                </a:cubicBezTo>
                <a:cubicBezTo>
                  <a:pt x="19489" y="12816"/>
                  <a:pt x="19506" y="12802"/>
                  <a:pt x="19546" y="12824"/>
                </a:cubicBezTo>
                <a:cubicBezTo>
                  <a:pt x="19591" y="12849"/>
                  <a:pt x="19641" y="12865"/>
                  <a:pt x="19670" y="12799"/>
                </a:cubicBezTo>
                <a:cubicBezTo>
                  <a:pt x="19682" y="12772"/>
                  <a:pt x="19688" y="12728"/>
                  <a:pt x="19695" y="12700"/>
                </a:cubicBezTo>
                <a:cubicBezTo>
                  <a:pt x="19657" y="12763"/>
                  <a:pt x="19662" y="12824"/>
                  <a:pt x="19645" y="12898"/>
                </a:cubicBezTo>
                <a:cubicBezTo>
                  <a:pt x="19620" y="13007"/>
                  <a:pt x="19621" y="13108"/>
                  <a:pt x="19621" y="13221"/>
                </a:cubicBezTo>
                <a:cubicBezTo>
                  <a:pt x="19621" y="13273"/>
                  <a:pt x="19601" y="13355"/>
                  <a:pt x="19645" y="13370"/>
                </a:cubicBezTo>
              </a:path>
              <a:path w="3845" h="1390">
                <a:moveTo>
                  <a:pt x="19893" y="12005"/>
                </a:moveTo>
                <a:cubicBezTo>
                  <a:pt x="19871" y="11983"/>
                  <a:pt x="19866" y="11975"/>
                  <a:pt x="19844" y="11981"/>
                </a:cubicBezTo>
                <a:cubicBezTo>
                  <a:pt x="19844" y="12086"/>
                  <a:pt x="19849" y="12175"/>
                  <a:pt x="19869" y="12278"/>
                </a:cubicBezTo>
                <a:cubicBezTo>
                  <a:pt x="19895" y="12409"/>
                  <a:pt x="19949" y="12545"/>
                  <a:pt x="19968" y="12675"/>
                </a:cubicBezTo>
                <a:cubicBezTo>
                  <a:pt x="19980" y="12759"/>
                  <a:pt x="19942" y="12855"/>
                  <a:pt x="19993" y="12923"/>
                </a:cubicBezTo>
              </a:path>
              <a:path w="3845" h="1390">
                <a:moveTo>
                  <a:pt x="20241" y="12750"/>
                </a:moveTo>
                <a:cubicBezTo>
                  <a:pt x="20241" y="12742"/>
                  <a:pt x="20241" y="12733"/>
                  <a:pt x="20241" y="12725"/>
                </a:cubicBezTo>
                <a:cubicBezTo>
                  <a:pt x="20278" y="12712"/>
                  <a:pt x="20262" y="12700"/>
                  <a:pt x="20315" y="12700"/>
                </a:cubicBezTo>
                <a:cubicBezTo>
                  <a:pt x="20381" y="12700"/>
                  <a:pt x="20447" y="12700"/>
                  <a:pt x="20513" y="12700"/>
                </a:cubicBezTo>
              </a:path>
              <a:path w="3845" h="1390">
                <a:moveTo>
                  <a:pt x="16842" y="12402"/>
                </a:moveTo>
                <a:cubicBezTo>
                  <a:pt x="16820" y="12425"/>
                  <a:pt x="16815" y="12433"/>
                  <a:pt x="16793" y="12427"/>
                </a:cubicBezTo>
                <a:cubicBezTo>
                  <a:pt x="16793" y="12399"/>
                  <a:pt x="16804" y="12357"/>
                  <a:pt x="16818" y="12353"/>
                </a:cubicBezTo>
                <a:cubicBezTo>
                  <a:pt x="16887" y="12334"/>
                  <a:pt x="16919" y="12321"/>
                  <a:pt x="16991" y="12353"/>
                </a:cubicBezTo>
                <a:cubicBezTo>
                  <a:pt x="17064" y="12386"/>
                  <a:pt x="17117" y="12493"/>
                  <a:pt x="17090" y="12576"/>
                </a:cubicBezTo>
                <a:cubicBezTo>
                  <a:pt x="17056" y="12678"/>
                  <a:pt x="16976" y="12782"/>
                  <a:pt x="16892" y="12849"/>
                </a:cubicBezTo>
                <a:cubicBezTo>
                  <a:pt x="16865" y="12870"/>
                  <a:pt x="16738" y="12966"/>
                  <a:pt x="16694" y="12948"/>
                </a:cubicBezTo>
                <a:cubicBezTo>
                  <a:pt x="16686" y="12940"/>
                  <a:pt x="16677" y="12931"/>
                  <a:pt x="16669" y="12923"/>
                </a:cubicBezTo>
                <a:cubicBezTo>
                  <a:pt x="16669" y="12875"/>
                  <a:pt x="16704" y="12799"/>
                  <a:pt x="16743" y="12774"/>
                </a:cubicBezTo>
                <a:cubicBezTo>
                  <a:pt x="16836" y="12714"/>
                  <a:pt x="16942" y="12749"/>
                  <a:pt x="17016" y="12799"/>
                </a:cubicBezTo>
                <a:cubicBezTo>
                  <a:pt x="17103" y="12857"/>
                  <a:pt x="17160" y="12935"/>
                  <a:pt x="1721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05800" y="4259160"/>
            <a:ext cx="1224000" cy="482760"/>
          </a:xfrm>
          <a:custGeom>
            <a:avLst/>
            <a:gdLst/>
            <a:ahLst/>
            <a:rect l="l" t="t" r="r" b="b"/>
            <a:pathLst>
              <a:path w="3400" h="1340">
                <a:moveTo>
                  <a:pt x="21754" y="12427"/>
                </a:moveTo>
                <a:cubicBezTo>
                  <a:pt x="21738" y="12489"/>
                  <a:pt x="21729" y="12525"/>
                  <a:pt x="21729" y="12601"/>
                </a:cubicBezTo>
                <a:cubicBezTo>
                  <a:pt x="21729" y="12716"/>
                  <a:pt x="21730" y="12837"/>
                  <a:pt x="21754" y="12948"/>
                </a:cubicBezTo>
                <a:cubicBezTo>
                  <a:pt x="21762" y="12985"/>
                  <a:pt x="21813" y="13135"/>
                  <a:pt x="21803" y="13171"/>
                </a:cubicBezTo>
                <a:cubicBezTo>
                  <a:pt x="21779" y="13171"/>
                  <a:pt x="21771" y="13171"/>
                  <a:pt x="21779" y="13146"/>
                </a:cubicBezTo>
                <a:cubicBezTo>
                  <a:pt x="21779" y="13050"/>
                  <a:pt x="21782" y="12969"/>
                  <a:pt x="21803" y="12874"/>
                </a:cubicBezTo>
                <a:cubicBezTo>
                  <a:pt x="21833" y="12742"/>
                  <a:pt x="21848" y="12649"/>
                  <a:pt x="21903" y="12526"/>
                </a:cubicBezTo>
                <a:cubicBezTo>
                  <a:pt x="21933" y="12460"/>
                  <a:pt x="21984" y="12433"/>
                  <a:pt x="22051" y="12427"/>
                </a:cubicBezTo>
                <a:cubicBezTo>
                  <a:pt x="22101" y="12423"/>
                  <a:pt x="22148" y="12454"/>
                  <a:pt x="22151" y="12502"/>
                </a:cubicBezTo>
                <a:cubicBezTo>
                  <a:pt x="22157" y="12587"/>
                  <a:pt x="22148" y="12645"/>
                  <a:pt x="22076" y="12700"/>
                </a:cubicBezTo>
                <a:cubicBezTo>
                  <a:pt x="22045" y="12724"/>
                  <a:pt x="21916" y="12789"/>
                  <a:pt x="21878" y="12774"/>
                </a:cubicBezTo>
                <a:cubicBezTo>
                  <a:pt x="21855" y="12752"/>
                  <a:pt x="21847" y="12747"/>
                  <a:pt x="21853" y="12725"/>
                </a:cubicBezTo>
              </a:path>
              <a:path w="3400" h="1340">
                <a:moveTo>
                  <a:pt x="22250" y="12725"/>
                </a:moveTo>
                <a:cubicBezTo>
                  <a:pt x="22343" y="12748"/>
                  <a:pt x="22327" y="12722"/>
                  <a:pt x="22399" y="12675"/>
                </a:cubicBezTo>
                <a:cubicBezTo>
                  <a:pt x="22435" y="12651"/>
                  <a:pt x="22478" y="12604"/>
                  <a:pt x="22448" y="12551"/>
                </a:cubicBezTo>
                <a:cubicBezTo>
                  <a:pt x="22418" y="12497"/>
                  <a:pt x="22378" y="12502"/>
                  <a:pt x="22324" y="12502"/>
                </a:cubicBezTo>
                <a:cubicBezTo>
                  <a:pt x="22275" y="12502"/>
                  <a:pt x="22238" y="12551"/>
                  <a:pt x="22250" y="12601"/>
                </a:cubicBezTo>
                <a:cubicBezTo>
                  <a:pt x="22270" y="12685"/>
                  <a:pt x="22342" y="12741"/>
                  <a:pt x="22399" y="12799"/>
                </a:cubicBezTo>
                <a:cubicBezTo>
                  <a:pt x="22448" y="12848"/>
                  <a:pt x="22482" y="12849"/>
                  <a:pt x="22547" y="12849"/>
                </a:cubicBezTo>
                <a:cubicBezTo>
                  <a:pt x="22599" y="12849"/>
                  <a:pt x="22593" y="12806"/>
                  <a:pt x="22622" y="12774"/>
                </a:cubicBezTo>
                <a:cubicBezTo>
                  <a:pt x="22643" y="12751"/>
                  <a:pt x="22712" y="12660"/>
                  <a:pt x="22746" y="12675"/>
                </a:cubicBezTo>
                <a:cubicBezTo>
                  <a:pt x="22784" y="12692"/>
                  <a:pt x="22771" y="12741"/>
                  <a:pt x="22771" y="12774"/>
                </a:cubicBezTo>
                <a:cubicBezTo>
                  <a:pt x="22815" y="12763"/>
                  <a:pt x="22836" y="12734"/>
                  <a:pt x="22870" y="12700"/>
                </a:cubicBezTo>
                <a:cubicBezTo>
                  <a:pt x="22890" y="12680"/>
                  <a:pt x="22938" y="12658"/>
                  <a:pt x="22969" y="12675"/>
                </a:cubicBezTo>
                <a:cubicBezTo>
                  <a:pt x="23029" y="12708"/>
                  <a:pt x="23022" y="12732"/>
                  <a:pt x="23044" y="12774"/>
                </a:cubicBezTo>
                <a:cubicBezTo>
                  <a:pt x="23055" y="12794"/>
                  <a:pt x="23087" y="12846"/>
                  <a:pt x="23093" y="12849"/>
                </a:cubicBezTo>
                <a:cubicBezTo>
                  <a:pt x="23101" y="12849"/>
                  <a:pt x="23110" y="12849"/>
                  <a:pt x="23118" y="12849"/>
                </a:cubicBezTo>
              </a:path>
              <a:path w="3400" h="1340">
                <a:moveTo>
                  <a:pt x="23267" y="11881"/>
                </a:moveTo>
                <a:cubicBezTo>
                  <a:pt x="23267" y="11840"/>
                  <a:pt x="23267" y="11816"/>
                  <a:pt x="23267" y="11857"/>
                </a:cubicBezTo>
                <a:cubicBezTo>
                  <a:pt x="23311" y="11928"/>
                  <a:pt x="23302" y="12019"/>
                  <a:pt x="23316" y="12105"/>
                </a:cubicBezTo>
                <a:cubicBezTo>
                  <a:pt x="23336" y="12232"/>
                  <a:pt x="23334" y="12379"/>
                  <a:pt x="23366" y="12502"/>
                </a:cubicBezTo>
                <a:cubicBezTo>
                  <a:pt x="23378" y="12547"/>
                  <a:pt x="23370" y="12638"/>
                  <a:pt x="23391" y="12675"/>
                </a:cubicBezTo>
                <a:cubicBezTo>
                  <a:pt x="23399" y="12683"/>
                  <a:pt x="23408" y="12692"/>
                  <a:pt x="23416" y="12700"/>
                </a:cubicBezTo>
              </a:path>
              <a:path w="3400" h="1340">
                <a:moveTo>
                  <a:pt x="23044" y="12477"/>
                </a:moveTo>
                <a:cubicBezTo>
                  <a:pt x="23075" y="12414"/>
                  <a:pt x="23119" y="12427"/>
                  <a:pt x="23192" y="12427"/>
                </a:cubicBezTo>
                <a:cubicBezTo>
                  <a:pt x="23338" y="12427"/>
                  <a:pt x="23476" y="12424"/>
                  <a:pt x="23614" y="12402"/>
                </a:cubicBezTo>
                <a:cubicBezTo>
                  <a:pt x="23658" y="12395"/>
                  <a:pt x="23783" y="12378"/>
                  <a:pt x="23738" y="12378"/>
                </a:cubicBezTo>
                <a:cubicBezTo>
                  <a:pt x="23665" y="12378"/>
                  <a:pt x="23684" y="12398"/>
                  <a:pt x="23639" y="12452"/>
                </a:cubicBezTo>
                <a:cubicBezTo>
                  <a:pt x="23582" y="12521"/>
                  <a:pt x="23564" y="12536"/>
                  <a:pt x="23564" y="12626"/>
                </a:cubicBezTo>
                <a:cubicBezTo>
                  <a:pt x="23564" y="12634"/>
                  <a:pt x="23564" y="12642"/>
                  <a:pt x="23564" y="12650"/>
                </a:cubicBezTo>
                <a:cubicBezTo>
                  <a:pt x="23609" y="12650"/>
                  <a:pt x="23630" y="12657"/>
                  <a:pt x="23664" y="12626"/>
                </a:cubicBezTo>
                <a:cubicBezTo>
                  <a:pt x="23704" y="12590"/>
                  <a:pt x="23733" y="12556"/>
                  <a:pt x="23738" y="12502"/>
                </a:cubicBezTo>
                <a:cubicBezTo>
                  <a:pt x="23740" y="12478"/>
                  <a:pt x="23738" y="12451"/>
                  <a:pt x="23738" y="12427"/>
                </a:cubicBezTo>
                <a:cubicBezTo>
                  <a:pt x="23738" y="12489"/>
                  <a:pt x="23774" y="12491"/>
                  <a:pt x="23788" y="12551"/>
                </a:cubicBezTo>
                <a:cubicBezTo>
                  <a:pt x="23804" y="12619"/>
                  <a:pt x="23837" y="12663"/>
                  <a:pt x="23862" y="12725"/>
                </a:cubicBezTo>
                <a:cubicBezTo>
                  <a:pt x="23862" y="12750"/>
                  <a:pt x="23862" y="12758"/>
                  <a:pt x="23887" y="12750"/>
                </a:cubicBezTo>
              </a:path>
              <a:path w="3400" h="1340">
                <a:moveTo>
                  <a:pt x="24085" y="12576"/>
                </a:moveTo>
                <a:cubicBezTo>
                  <a:pt x="24110" y="12526"/>
                  <a:pt x="24110" y="12594"/>
                  <a:pt x="24110" y="12626"/>
                </a:cubicBezTo>
                <a:cubicBezTo>
                  <a:pt x="24110" y="12651"/>
                  <a:pt x="24110" y="12675"/>
                  <a:pt x="24110" y="12700"/>
                </a:cubicBezTo>
                <a:cubicBezTo>
                  <a:pt x="24149" y="12687"/>
                  <a:pt x="24153" y="12644"/>
                  <a:pt x="24185" y="12601"/>
                </a:cubicBezTo>
                <a:cubicBezTo>
                  <a:pt x="24210" y="12567"/>
                  <a:pt x="24244" y="12530"/>
                  <a:pt x="24284" y="12526"/>
                </a:cubicBezTo>
                <a:cubicBezTo>
                  <a:pt x="24339" y="12520"/>
                  <a:pt x="24340" y="12534"/>
                  <a:pt x="24358" y="12576"/>
                </a:cubicBezTo>
                <a:cubicBezTo>
                  <a:pt x="24368" y="12599"/>
                  <a:pt x="24396" y="12715"/>
                  <a:pt x="24408" y="12725"/>
                </a:cubicBezTo>
                <a:cubicBezTo>
                  <a:pt x="24433" y="12725"/>
                  <a:pt x="24441" y="12725"/>
                  <a:pt x="24433" y="12750"/>
                </a:cubicBezTo>
              </a:path>
              <a:path w="3400" h="1340">
                <a:moveTo>
                  <a:pt x="24581" y="12576"/>
                </a:moveTo>
                <a:cubicBezTo>
                  <a:pt x="24622" y="12607"/>
                  <a:pt x="24640" y="12614"/>
                  <a:pt x="24681" y="12576"/>
                </a:cubicBezTo>
                <a:cubicBezTo>
                  <a:pt x="24705" y="12554"/>
                  <a:pt x="24727" y="12523"/>
                  <a:pt x="24730" y="12502"/>
                </a:cubicBezTo>
                <a:cubicBezTo>
                  <a:pt x="24735" y="12460"/>
                  <a:pt x="24693" y="12439"/>
                  <a:pt x="24656" y="12452"/>
                </a:cubicBezTo>
                <a:cubicBezTo>
                  <a:pt x="24579" y="12479"/>
                  <a:pt x="24581" y="12505"/>
                  <a:pt x="24581" y="12576"/>
                </a:cubicBezTo>
                <a:cubicBezTo>
                  <a:pt x="24581" y="12623"/>
                  <a:pt x="24617" y="12697"/>
                  <a:pt x="24656" y="12725"/>
                </a:cubicBezTo>
                <a:cubicBezTo>
                  <a:pt x="24699" y="12756"/>
                  <a:pt x="24758" y="12776"/>
                  <a:pt x="24805" y="12799"/>
                </a:cubicBezTo>
              </a:path>
              <a:path w="3400" h="1340">
                <a:moveTo>
                  <a:pt x="21431" y="12650"/>
                </a:moveTo>
                <a:cubicBezTo>
                  <a:pt x="21423" y="12650"/>
                  <a:pt x="21414" y="12650"/>
                  <a:pt x="21406" y="12650"/>
                </a:cubicBezTo>
                <a:cubicBezTo>
                  <a:pt x="21454" y="12650"/>
                  <a:pt x="21493" y="12633"/>
                  <a:pt x="21530" y="12626"/>
                </a:cubicBezTo>
                <a:cubicBezTo>
                  <a:pt x="21568" y="12619"/>
                  <a:pt x="21615" y="12626"/>
                  <a:pt x="2165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73920" y="4822920"/>
            <a:ext cx="866880" cy="365040"/>
          </a:xfrm>
          <a:custGeom>
            <a:avLst/>
            <a:gdLst/>
            <a:ahLst/>
            <a:rect l="l" t="t" r="r" b="b"/>
            <a:pathLst>
              <a:path w="2408" h="1018">
                <a:moveTo>
                  <a:pt x="19943" y="14015"/>
                </a:moveTo>
                <a:cubicBezTo>
                  <a:pt x="19893" y="14015"/>
                  <a:pt x="19990" y="13980"/>
                  <a:pt x="20017" y="13965"/>
                </a:cubicBezTo>
                <a:cubicBezTo>
                  <a:pt x="20100" y="13921"/>
                  <a:pt x="20158" y="13859"/>
                  <a:pt x="20216" y="13791"/>
                </a:cubicBezTo>
                <a:cubicBezTo>
                  <a:pt x="20244" y="13759"/>
                  <a:pt x="20249" y="13709"/>
                  <a:pt x="20191" y="13692"/>
                </a:cubicBezTo>
                <a:cubicBezTo>
                  <a:pt x="20127" y="13674"/>
                  <a:pt x="20069" y="13745"/>
                  <a:pt x="20042" y="13791"/>
                </a:cubicBezTo>
                <a:cubicBezTo>
                  <a:pt x="19997" y="13867"/>
                  <a:pt x="20030" y="13934"/>
                  <a:pt x="20092" y="13990"/>
                </a:cubicBezTo>
                <a:cubicBezTo>
                  <a:pt x="20164" y="14055"/>
                  <a:pt x="20226" y="14056"/>
                  <a:pt x="20315" y="14064"/>
                </a:cubicBezTo>
              </a:path>
              <a:path w="2408" h="1018">
                <a:moveTo>
                  <a:pt x="20662" y="13444"/>
                </a:moveTo>
                <a:cubicBezTo>
                  <a:pt x="20662" y="13377"/>
                  <a:pt x="20662" y="13528"/>
                  <a:pt x="20662" y="13543"/>
                </a:cubicBezTo>
                <a:cubicBezTo>
                  <a:pt x="20662" y="13700"/>
                  <a:pt x="20692" y="13892"/>
                  <a:pt x="20638" y="14039"/>
                </a:cubicBezTo>
              </a:path>
              <a:path w="2408" h="1018">
                <a:moveTo>
                  <a:pt x="20489" y="13990"/>
                </a:moveTo>
                <a:cubicBezTo>
                  <a:pt x="20533" y="13945"/>
                  <a:pt x="20586" y="13901"/>
                  <a:pt x="20638" y="13866"/>
                </a:cubicBezTo>
                <a:cubicBezTo>
                  <a:pt x="20713" y="13816"/>
                  <a:pt x="20771" y="13757"/>
                  <a:pt x="20836" y="13692"/>
                </a:cubicBezTo>
                <a:cubicBezTo>
                  <a:pt x="20876" y="13652"/>
                  <a:pt x="20861" y="13598"/>
                  <a:pt x="20861" y="13543"/>
                </a:cubicBezTo>
                <a:cubicBezTo>
                  <a:pt x="20861" y="13527"/>
                  <a:pt x="20861" y="13510"/>
                  <a:pt x="20861" y="13494"/>
                </a:cubicBezTo>
                <a:cubicBezTo>
                  <a:pt x="20861" y="13566"/>
                  <a:pt x="20843" y="13623"/>
                  <a:pt x="20836" y="13692"/>
                </a:cubicBezTo>
                <a:cubicBezTo>
                  <a:pt x="20826" y="13797"/>
                  <a:pt x="20836" y="13909"/>
                  <a:pt x="20836" y="14015"/>
                </a:cubicBezTo>
                <a:cubicBezTo>
                  <a:pt x="20910" y="14000"/>
                  <a:pt x="20913" y="13967"/>
                  <a:pt x="20960" y="13915"/>
                </a:cubicBezTo>
                <a:cubicBezTo>
                  <a:pt x="20983" y="13893"/>
                  <a:pt x="20988" y="13885"/>
                  <a:pt x="21010" y="13891"/>
                </a:cubicBezTo>
                <a:cubicBezTo>
                  <a:pt x="21033" y="13930"/>
                  <a:pt x="21047" y="13991"/>
                  <a:pt x="21059" y="14039"/>
                </a:cubicBezTo>
                <a:cubicBezTo>
                  <a:pt x="21072" y="14089"/>
                  <a:pt x="21083" y="14089"/>
                  <a:pt x="21134" y="14089"/>
                </a:cubicBezTo>
                <a:cubicBezTo>
                  <a:pt x="21150" y="14089"/>
                  <a:pt x="21167" y="14089"/>
                  <a:pt x="21183" y="14089"/>
                </a:cubicBezTo>
              </a:path>
              <a:path w="2408" h="1018">
                <a:moveTo>
                  <a:pt x="21258" y="13965"/>
                </a:moveTo>
                <a:cubicBezTo>
                  <a:pt x="21258" y="13898"/>
                  <a:pt x="21258" y="14004"/>
                  <a:pt x="21258" y="14015"/>
                </a:cubicBezTo>
                <a:cubicBezTo>
                  <a:pt x="21308" y="14015"/>
                  <a:pt x="21316" y="14004"/>
                  <a:pt x="21357" y="13990"/>
                </a:cubicBezTo>
                <a:cubicBezTo>
                  <a:pt x="21385" y="13981"/>
                  <a:pt x="21402" y="13972"/>
                  <a:pt x="21431" y="13965"/>
                </a:cubicBezTo>
                <a:cubicBezTo>
                  <a:pt x="21431" y="14038"/>
                  <a:pt x="21409" y="14090"/>
                  <a:pt x="21406" y="14163"/>
                </a:cubicBezTo>
                <a:cubicBezTo>
                  <a:pt x="21403" y="14231"/>
                  <a:pt x="21399" y="14280"/>
                  <a:pt x="21382" y="14337"/>
                </a:cubicBezTo>
                <a:cubicBezTo>
                  <a:pt x="21376" y="14357"/>
                  <a:pt x="21382" y="14391"/>
                  <a:pt x="21382" y="14412"/>
                </a:cubicBezTo>
              </a:path>
              <a:path w="2408" h="1018">
                <a:moveTo>
                  <a:pt x="21630" y="13444"/>
                </a:moveTo>
                <a:cubicBezTo>
                  <a:pt x="21608" y="13422"/>
                  <a:pt x="21599" y="13417"/>
                  <a:pt x="21605" y="13395"/>
                </a:cubicBezTo>
                <a:cubicBezTo>
                  <a:pt x="21684" y="13434"/>
                  <a:pt x="21642" y="13509"/>
                  <a:pt x="21654" y="13593"/>
                </a:cubicBezTo>
                <a:cubicBezTo>
                  <a:pt x="21673" y="13723"/>
                  <a:pt x="21676" y="13862"/>
                  <a:pt x="21704" y="13990"/>
                </a:cubicBezTo>
                <a:cubicBezTo>
                  <a:pt x="21717" y="14049"/>
                  <a:pt x="21745" y="14119"/>
                  <a:pt x="21779" y="14163"/>
                </a:cubicBezTo>
              </a:path>
              <a:path w="2408" h="1018">
                <a:moveTo>
                  <a:pt x="19422" y="13568"/>
                </a:moveTo>
                <a:cubicBezTo>
                  <a:pt x="19480" y="13543"/>
                  <a:pt x="19507" y="13543"/>
                  <a:pt x="19571" y="13543"/>
                </a:cubicBezTo>
                <a:cubicBezTo>
                  <a:pt x="19579" y="13543"/>
                  <a:pt x="19588" y="13543"/>
                  <a:pt x="19596" y="13543"/>
                </a:cubicBezTo>
                <a:cubicBezTo>
                  <a:pt x="19596" y="13598"/>
                  <a:pt x="19603" y="13619"/>
                  <a:pt x="19571" y="13643"/>
                </a:cubicBezTo>
                <a:cubicBezTo>
                  <a:pt x="19539" y="13666"/>
                  <a:pt x="19481" y="13692"/>
                  <a:pt x="19521" y="13692"/>
                </a:cubicBezTo>
                <a:cubicBezTo>
                  <a:pt x="19579" y="13692"/>
                  <a:pt x="19625" y="13681"/>
                  <a:pt x="19670" y="13717"/>
                </a:cubicBezTo>
                <a:cubicBezTo>
                  <a:pt x="19714" y="13752"/>
                  <a:pt x="19701" y="13825"/>
                  <a:pt x="19670" y="13866"/>
                </a:cubicBezTo>
                <a:cubicBezTo>
                  <a:pt x="19618" y="13935"/>
                  <a:pt x="19539" y="13943"/>
                  <a:pt x="19472" y="13990"/>
                </a:cubicBezTo>
                <a:cubicBezTo>
                  <a:pt x="19436" y="14015"/>
                  <a:pt x="19416" y="14031"/>
                  <a:pt x="19372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18680" y="4867200"/>
            <a:ext cx="455400" cy="204840"/>
          </a:xfrm>
          <a:custGeom>
            <a:avLst/>
            <a:gdLst/>
            <a:ahLst/>
            <a:rect l="l" t="t" r="r" b="b"/>
            <a:pathLst>
              <a:path w="1266" h="571">
                <a:moveTo>
                  <a:pt x="23713" y="13717"/>
                </a:moveTo>
                <a:cubicBezTo>
                  <a:pt x="23756" y="13713"/>
                  <a:pt x="23861" y="13717"/>
                  <a:pt x="23887" y="13667"/>
                </a:cubicBezTo>
                <a:cubicBezTo>
                  <a:pt x="23905" y="13631"/>
                  <a:pt x="23884" y="13567"/>
                  <a:pt x="23862" y="13543"/>
                </a:cubicBezTo>
                <a:cubicBezTo>
                  <a:pt x="23828" y="13506"/>
                  <a:pt x="23786" y="13519"/>
                  <a:pt x="23738" y="13519"/>
                </a:cubicBezTo>
                <a:cubicBezTo>
                  <a:pt x="23678" y="13519"/>
                  <a:pt x="23667" y="13569"/>
                  <a:pt x="23664" y="13618"/>
                </a:cubicBezTo>
                <a:cubicBezTo>
                  <a:pt x="23659" y="13702"/>
                  <a:pt x="23709" y="13759"/>
                  <a:pt x="23763" y="13816"/>
                </a:cubicBezTo>
                <a:cubicBezTo>
                  <a:pt x="23800" y="13855"/>
                  <a:pt x="23858" y="13911"/>
                  <a:pt x="23912" y="13915"/>
                </a:cubicBezTo>
                <a:cubicBezTo>
                  <a:pt x="23928" y="13915"/>
                  <a:pt x="23945" y="13915"/>
                  <a:pt x="23961" y="13915"/>
                </a:cubicBezTo>
              </a:path>
              <a:path w="1266" h="571">
                <a:moveTo>
                  <a:pt x="24185" y="13667"/>
                </a:moveTo>
                <a:cubicBezTo>
                  <a:pt x="24114" y="13708"/>
                  <a:pt x="24110" y="13709"/>
                  <a:pt x="24110" y="13791"/>
                </a:cubicBezTo>
                <a:cubicBezTo>
                  <a:pt x="24110" y="13832"/>
                  <a:pt x="24110" y="13874"/>
                  <a:pt x="24110" y="13915"/>
                </a:cubicBezTo>
                <a:cubicBezTo>
                  <a:pt x="24155" y="13904"/>
                  <a:pt x="24175" y="13875"/>
                  <a:pt x="24209" y="13841"/>
                </a:cubicBezTo>
                <a:cubicBezTo>
                  <a:pt x="24249" y="13801"/>
                  <a:pt x="24269" y="13769"/>
                  <a:pt x="24309" y="13742"/>
                </a:cubicBezTo>
                <a:cubicBezTo>
                  <a:pt x="24340" y="13721"/>
                  <a:pt x="24379" y="13708"/>
                  <a:pt x="24408" y="13742"/>
                </a:cubicBezTo>
                <a:cubicBezTo>
                  <a:pt x="24425" y="13763"/>
                  <a:pt x="24476" y="13869"/>
                  <a:pt x="24482" y="13891"/>
                </a:cubicBezTo>
                <a:cubicBezTo>
                  <a:pt x="24496" y="13942"/>
                  <a:pt x="24521" y="13985"/>
                  <a:pt x="24532" y="14039"/>
                </a:cubicBezTo>
              </a:path>
              <a:path w="1266" h="571">
                <a:moveTo>
                  <a:pt x="24656" y="13915"/>
                </a:moveTo>
                <a:cubicBezTo>
                  <a:pt x="24705" y="13915"/>
                  <a:pt x="24715" y="13904"/>
                  <a:pt x="24755" y="13891"/>
                </a:cubicBezTo>
                <a:cubicBezTo>
                  <a:pt x="24786" y="13881"/>
                  <a:pt x="24829" y="13858"/>
                  <a:pt x="24854" y="13841"/>
                </a:cubicBezTo>
                <a:cubicBezTo>
                  <a:pt x="24887" y="13819"/>
                  <a:pt x="24879" y="13801"/>
                  <a:pt x="24879" y="13767"/>
                </a:cubicBezTo>
                <a:cubicBezTo>
                  <a:pt x="24817" y="13767"/>
                  <a:pt x="24753" y="13752"/>
                  <a:pt x="24705" y="13791"/>
                </a:cubicBezTo>
                <a:cubicBezTo>
                  <a:pt x="24662" y="13825"/>
                  <a:pt x="24674" y="13900"/>
                  <a:pt x="24705" y="13940"/>
                </a:cubicBezTo>
                <a:cubicBezTo>
                  <a:pt x="24767" y="14021"/>
                  <a:pt x="24840" y="14049"/>
                  <a:pt x="24929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trole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ed when ocean microorganisms died 500 million year ago, were buried, and subjected to large pres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ark, thick liquid composed mainly of hydrocarb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 normally found with petroleum depos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methane with some ethane, propane and but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leum separated into variou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ac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aration based on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, un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 of chain alkenes - subtract 2 H from alkane formula for each doub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C double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gonal shape around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- trans isome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reactive than alk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unsaturated = many double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2680" y="1241280"/>
            <a:ext cx="1179360" cy="411480"/>
          </a:xfrm>
          <a:custGeom>
            <a:avLst/>
            <a:gdLst/>
            <a:ahLst/>
            <a:rect l="l" t="t" r="r" b="b"/>
            <a:pathLst>
              <a:path w="3275" h="1142">
                <a:moveTo>
                  <a:pt x="17562" y="3696"/>
                </a:moveTo>
                <a:cubicBezTo>
                  <a:pt x="17571" y="3674"/>
                  <a:pt x="17587" y="3570"/>
                  <a:pt x="17587" y="3621"/>
                </a:cubicBezTo>
                <a:cubicBezTo>
                  <a:pt x="17608" y="3658"/>
                  <a:pt x="17623" y="3707"/>
                  <a:pt x="17636" y="3746"/>
                </a:cubicBezTo>
                <a:cubicBezTo>
                  <a:pt x="17636" y="3770"/>
                  <a:pt x="17636" y="3779"/>
                  <a:pt x="17636" y="3795"/>
                </a:cubicBezTo>
                <a:cubicBezTo>
                  <a:pt x="17625" y="3750"/>
                  <a:pt x="17614" y="3691"/>
                  <a:pt x="17587" y="3646"/>
                </a:cubicBezTo>
                <a:cubicBezTo>
                  <a:pt x="17554" y="3591"/>
                  <a:pt x="17514" y="3586"/>
                  <a:pt x="17462" y="3621"/>
                </a:cubicBezTo>
                <a:cubicBezTo>
                  <a:pt x="17369" y="3683"/>
                  <a:pt x="17360" y="3825"/>
                  <a:pt x="17338" y="3919"/>
                </a:cubicBezTo>
                <a:cubicBezTo>
                  <a:pt x="17308" y="4047"/>
                  <a:pt x="17302" y="4169"/>
                  <a:pt x="17363" y="4291"/>
                </a:cubicBezTo>
                <a:cubicBezTo>
                  <a:pt x="17409" y="4383"/>
                  <a:pt x="17486" y="4456"/>
                  <a:pt x="17587" y="4465"/>
                </a:cubicBezTo>
                <a:cubicBezTo>
                  <a:pt x="17675" y="4472"/>
                  <a:pt x="17734" y="4428"/>
                  <a:pt x="17810" y="4390"/>
                </a:cubicBezTo>
                <a:cubicBezTo>
                  <a:pt x="17826" y="4382"/>
                  <a:pt x="17843" y="4374"/>
                  <a:pt x="17859" y="4366"/>
                </a:cubicBezTo>
              </a:path>
              <a:path w="3275" h="1142">
                <a:moveTo>
                  <a:pt x="18083" y="4266"/>
                </a:moveTo>
                <a:cubicBezTo>
                  <a:pt x="18090" y="4296"/>
                  <a:pt x="18095" y="4361"/>
                  <a:pt x="18107" y="4390"/>
                </a:cubicBezTo>
                <a:cubicBezTo>
                  <a:pt x="18122" y="4426"/>
                  <a:pt x="18136" y="4456"/>
                  <a:pt x="18157" y="4490"/>
                </a:cubicBezTo>
                <a:cubicBezTo>
                  <a:pt x="18203" y="4475"/>
                  <a:pt x="18193" y="4442"/>
                  <a:pt x="18207" y="4390"/>
                </a:cubicBezTo>
                <a:cubicBezTo>
                  <a:pt x="18227" y="4314"/>
                  <a:pt x="18255" y="4248"/>
                  <a:pt x="18331" y="4217"/>
                </a:cubicBezTo>
                <a:cubicBezTo>
                  <a:pt x="18378" y="4198"/>
                  <a:pt x="18430" y="4226"/>
                  <a:pt x="18455" y="4266"/>
                </a:cubicBezTo>
                <a:cubicBezTo>
                  <a:pt x="18495" y="4329"/>
                  <a:pt x="18552" y="4424"/>
                  <a:pt x="18579" y="4490"/>
                </a:cubicBezTo>
                <a:cubicBezTo>
                  <a:pt x="18579" y="4498"/>
                  <a:pt x="18579" y="4506"/>
                  <a:pt x="18579" y="4514"/>
                </a:cubicBezTo>
              </a:path>
              <a:path w="3275" h="1142">
                <a:moveTo>
                  <a:pt x="18752" y="3473"/>
                </a:moveTo>
                <a:cubicBezTo>
                  <a:pt x="18788" y="3484"/>
                  <a:pt x="18797" y="3596"/>
                  <a:pt x="18802" y="3646"/>
                </a:cubicBezTo>
                <a:cubicBezTo>
                  <a:pt x="18816" y="3791"/>
                  <a:pt x="18835" y="3927"/>
                  <a:pt x="18876" y="4068"/>
                </a:cubicBezTo>
                <a:cubicBezTo>
                  <a:pt x="18898" y="4144"/>
                  <a:pt x="18949" y="4200"/>
                  <a:pt x="18976" y="4266"/>
                </a:cubicBezTo>
                <a:cubicBezTo>
                  <a:pt x="18976" y="4274"/>
                  <a:pt x="18976" y="4283"/>
                  <a:pt x="18976" y="4291"/>
                </a:cubicBezTo>
              </a:path>
              <a:path w="3275" h="1142">
                <a:moveTo>
                  <a:pt x="18852" y="4093"/>
                </a:moveTo>
                <a:cubicBezTo>
                  <a:pt x="18865" y="4039"/>
                  <a:pt x="18929" y="4004"/>
                  <a:pt x="18976" y="3969"/>
                </a:cubicBezTo>
                <a:cubicBezTo>
                  <a:pt x="19056" y="3910"/>
                  <a:pt x="19163" y="3849"/>
                  <a:pt x="19224" y="3770"/>
                </a:cubicBezTo>
                <a:cubicBezTo>
                  <a:pt x="19263" y="3720"/>
                  <a:pt x="19291" y="3635"/>
                  <a:pt x="19273" y="3572"/>
                </a:cubicBezTo>
                <a:cubicBezTo>
                  <a:pt x="19256" y="3511"/>
                  <a:pt x="19199" y="3468"/>
                  <a:pt x="19149" y="3448"/>
                </a:cubicBezTo>
                <a:cubicBezTo>
                  <a:pt x="19149" y="3545"/>
                  <a:pt x="19153" y="3624"/>
                  <a:pt x="19174" y="3721"/>
                </a:cubicBezTo>
                <a:cubicBezTo>
                  <a:pt x="19201" y="3848"/>
                  <a:pt x="19258" y="3969"/>
                  <a:pt x="19298" y="4093"/>
                </a:cubicBezTo>
                <a:cubicBezTo>
                  <a:pt x="19319" y="4159"/>
                  <a:pt x="19333" y="4201"/>
                  <a:pt x="19397" y="4217"/>
                </a:cubicBezTo>
              </a:path>
              <a:path w="3275" h="1142">
                <a:moveTo>
                  <a:pt x="19695" y="4167"/>
                </a:moveTo>
                <a:cubicBezTo>
                  <a:pt x="19744" y="4155"/>
                  <a:pt x="19790" y="4113"/>
                  <a:pt x="19844" y="4167"/>
                </a:cubicBezTo>
                <a:cubicBezTo>
                  <a:pt x="19891" y="4214"/>
                  <a:pt x="19920" y="4329"/>
                  <a:pt x="19893" y="4390"/>
                </a:cubicBezTo>
                <a:cubicBezTo>
                  <a:pt x="19865" y="4452"/>
                  <a:pt x="19765" y="4570"/>
                  <a:pt x="19695" y="4589"/>
                </a:cubicBezTo>
                <a:cubicBezTo>
                  <a:pt x="19654" y="4589"/>
                  <a:pt x="19646" y="4589"/>
                  <a:pt x="19621" y="4589"/>
                </a:cubicBezTo>
                <a:cubicBezTo>
                  <a:pt x="19621" y="4505"/>
                  <a:pt x="19633" y="4502"/>
                  <a:pt x="19695" y="4440"/>
                </a:cubicBezTo>
                <a:cubicBezTo>
                  <a:pt x="19726" y="4409"/>
                  <a:pt x="19800" y="4400"/>
                  <a:pt x="19844" y="4415"/>
                </a:cubicBezTo>
                <a:cubicBezTo>
                  <a:pt x="19915" y="4439"/>
                  <a:pt x="19940" y="4499"/>
                  <a:pt x="20017" y="4514"/>
                </a:cubicBezTo>
              </a:path>
              <a:path w="3275" h="1142">
                <a:moveTo>
                  <a:pt x="20191" y="4366"/>
                </a:moveTo>
                <a:cubicBezTo>
                  <a:pt x="20191" y="4436"/>
                  <a:pt x="20198" y="4481"/>
                  <a:pt x="20216" y="4539"/>
                </a:cubicBezTo>
                <a:cubicBezTo>
                  <a:pt x="20216" y="4564"/>
                  <a:pt x="20216" y="4572"/>
                  <a:pt x="20216" y="4589"/>
                </a:cubicBezTo>
                <a:cubicBezTo>
                  <a:pt x="20246" y="4549"/>
                  <a:pt x="20242" y="4501"/>
                  <a:pt x="20265" y="4465"/>
                </a:cubicBezTo>
                <a:cubicBezTo>
                  <a:pt x="20308" y="4398"/>
                  <a:pt x="20343" y="4390"/>
                  <a:pt x="20414" y="4390"/>
                </a:cubicBezTo>
                <a:cubicBezTo>
                  <a:pt x="20494" y="4390"/>
                  <a:pt x="20494" y="4456"/>
                  <a:pt x="20538" y="4514"/>
                </a:cubicBezTo>
                <a:cubicBezTo>
                  <a:pt x="20563" y="4547"/>
                  <a:pt x="20578" y="4550"/>
                  <a:pt x="20588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37200" y="3187800"/>
            <a:ext cx="1535040" cy="1117440"/>
          </a:xfrm>
          <a:custGeom>
            <a:avLst/>
            <a:gdLst/>
            <a:ahLst/>
            <a:rect l="l" t="t" r="r" b="b"/>
            <a:pathLst>
              <a:path w="4267" h="3102">
                <a:moveTo>
                  <a:pt x="18157" y="10046"/>
                </a:moveTo>
                <a:cubicBezTo>
                  <a:pt x="18116" y="10046"/>
                  <a:pt x="18108" y="10046"/>
                  <a:pt x="18083" y="10046"/>
                </a:cubicBezTo>
                <a:cubicBezTo>
                  <a:pt x="18096" y="10005"/>
                  <a:pt x="18131" y="10021"/>
                  <a:pt x="18182" y="10021"/>
                </a:cubicBezTo>
                <a:cubicBezTo>
                  <a:pt x="18359" y="10021"/>
                  <a:pt x="18528" y="10032"/>
                  <a:pt x="18703" y="10046"/>
                </a:cubicBezTo>
                <a:cubicBezTo>
                  <a:pt x="18848" y="10057"/>
                  <a:pt x="18983" y="10044"/>
                  <a:pt x="19124" y="10071"/>
                </a:cubicBezTo>
                <a:cubicBezTo>
                  <a:pt x="19169" y="10080"/>
                  <a:pt x="19159" y="10066"/>
                  <a:pt x="19199" y="10096"/>
                </a:cubicBezTo>
              </a:path>
              <a:path w="4267" h="3102">
                <a:moveTo>
                  <a:pt x="18207" y="10468"/>
                </a:moveTo>
                <a:cubicBezTo>
                  <a:pt x="18424" y="10468"/>
                  <a:pt x="18637" y="10478"/>
                  <a:pt x="18852" y="10492"/>
                </a:cubicBezTo>
                <a:cubicBezTo>
                  <a:pt x="19005" y="10502"/>
                  <a:pt x="19152" y="10486"/>
                  <a:pt x="19298" y="10517"/>
                </a:cubicBezTo>
                <a:cubicBezTo>
                  <a:pt x="19342" y="10526"/>
                  <a:pt x="19334" y="10500"/>
                  <a:pt x="19348" y="10542"/>
                </a:cubicBezTo>
              </a:path>
              <a:path w="4267" h="3102">
                <a:moveTo>
                  <a:pt x="17810" y="9947"/>
                </a:moveTo>
                <a:cubicBezTo>
                  <a:pt x="17821" y="10009"/>
                  <a:pt x="17801" y="9996"/>
                  <a:pt x="17859" y="9996"/>
                </a:cubicBezTo>
                <a:cubicBezTo>
                  <a:pt x="17859" y="9936"/>
                  <a:pt x="17850" y="9949"/>
                  <a:pt x="17810" y="9922"/>
                </a:cubicBezTo>
                <a:cubicBezTo>
                  <a:pt x="17762" y="9890"/>
                  <a:pt x="17721" y="9897"/>
                  <a:pt x="17661" y="9897"/>
                </a:cubicBezTo>
                <a:cubicBezTo>
                  <a:pt x="17579" y="9897"/>
                  <a:pt x="17523" y="9974"/>
                  <a:pt x="17487" y="10046"/>
                </a:cubicBezTo>
                <a:cubicBezTo>
                  <a:pt x="17437" y="10145"/>
                  <a:pt x="17458" y="10268"/>
                  <a:pt x="17487" y="10368"/>
                </a:cubicBezTo>
                <a:cubicBezTo>
                  <a:pt x="17522" y="10490"/>
                  <a:pt x="17581" y="10497"/>
                  <a:pt x="17686" y="10542"/>
                </a:cubicBezTo>
                <a:cubicBezTo>
                  <a:pt x="17785" y="10585"/>
                  <a:pt x="17837" y="10552"/>
                  <a:pt x="17934" y="10517"/>
                </a:cubicBezTo>
              </a:path>
              <a:path w="4267" h="3102">
                <a:moveTo>
                  <a:pt x="20067" y="9922"/>
                </a:moveTo>
                <a:cubicBezTo>
                  <a:pt x="20067" y="9930"/>
                  <a:pt x="20067" y="9939"/>
                  <a:pt x="20067" y="9947"/>
                </a:cubicBezTo>
                <a:cubicBezTo>
                  <a:pt x="20090" y="9939"/>
                  <a:pt x="20120" y="9888"/>
                  <a:pt x="20067" y="9872"/>
                </a:cubicBezTo>
                <a:cubicBezTo>
                  <a:pt x="19993" y="9849"/>
                  <a:pt x="19871" y="9870"/>
                  <a:pt x="19819" y="9922"/>
                </a:cubicBezTo>
                <a:cubicBezTo>
                  <a:pt x="19717" y="10024"/>
                  <a:pt x="19625" y="10175"/>
                  <a:pt x="19596" y="10319"/>
                </a:cubicBezTo>
                <a:cubicBezTo>
                  <a:pt x="19574" y="10432"/>
                  <a:pt x="19587" y="10555"/>
                  <a:pt x="19695" y="10616"/>
                </a:cubicBezTo>
                <a:cubicBezTo>
                  <a:pt x="19805" y="10679"/>
                  <a:pt x="19933" y="10627"/>
                  <a:pt x="20042" y="10592"/>
                </a:cubicBezTo>
                <a:cubicBezTo>
                  <a:pt x="20116" y="10568"/>
                  <a:pt x="20138" y="10545"/>
                  <a:pt x="20191" y="10492"/>
                </a:cubicBezTo>
              </a:path>
              <a:path w="4267" h="3102">
                <a:moveTo>
                  <a:pt x="20886" y="9103"/>
                </a:moveTo>
                <a:cubicBezTo>
                  <a:pt x="20854" y="9114"/>
                  <a:pt x="20796" y="9162"/>
                  <a:pt x="20762" y="9203"/>
                </a:cubicBezTo>
                <a:cubicBezTo>
                  <a:pt x="20669" y="9317"/>
                  <a:pt x="20569" y="9420"/>
                  <a:pt x="20464" y="9525"/>
                </a:cubicBezTo>
                <a:cubicBezTo>
                  <a:pt x="20386" y="9602"/>
                  <a:pt x="20329" y="9688"/>
                  <a:pt x="20265" y="9773"/>
                </a:cubicBezTo>
                <a:cubicBezTo>
                  <a:pt x="20257" y="9781"/>
                  <a:pt x="20249" y="9790"/>
                  <a:pt x="20241" y="9798"/>
                </a:cubicBezTo>
              </a:path>
              <a:path w="4267" h="3102">
                <a:moveTo>
                  <a:pt x="20265" y="10815"/>
                </a:moveTo>
                <a:cubicBezTo>
                  <a:pt x="20345" y="10894"/>
                  <a:pt x="20428" y="10945"/>
                  <a:pt x="20513" y="11013"/>
                </a:cubicBezTo>
                <a:cubicBezTo>
                  <a:pt x="20645" y="11118"/>
                  <a:pt x="20782" y="11229"/>
                  <a:pt x="20910" y="11336"/>
                </a:cubicBezTo>
                <a:cubicBezTo>
                  <a:pt x="20965" y="11382"/>
                  <a:pt x="20966" y="11410"/>
                  <a:pt x="21034" y="11410"/>
                </a:cubicBezTo>
              </a:path>
              <a:path w="4267" h="3102">
                <a:moveTo>
                  <a:pt x="16768" y="9302"/>
                </a:moveTo>
                <a:cubicBezTo>
                  <a:pt x="16832" y="9344"/>
                  <a:pt x="16847" y="9352"/>
                  <a:pt x="16917" y="9401"/>
                </a:cubicBezTo>
                <a:cubicBezTo>
                  <a:pt x="17043" y="9490"/>
                  <a:pt x="17166" y="9582"/>
                  <a:pt x="17289" y="9674"/>
                </a:cubicBezTo>
                <a:cubicBezTo>
                  <a:pt x="17400" y="9757"/>
                  <a:pt x="17565" y="9824"/>
                  <a:pt x="17661" y="9897"/>
                </a:cubicBezTo>
                <a:cubicBezTo>
                  <a:pt x="17661" y="9905"/>
                  <a:pt x="17661" y="9914"/>
                  <a:pt x="17661" y="9922"/>
                </a:cubicBezTo>
              </a:path>
              <a:path w="4267" h="3102">
                <a:moveTo>
                  <a:pt x="17611" y="10641"/>
                </a:moveTo>
                <a:cubicBezTo>
                  <a:pt x="17485" y="10725"/>
                  <a:pt x="17373" y="10808"/>
                  <a:pt x="17264" y="10914"/>
                </a:cubicBezTo>
                <a:cubicBezTo>
                  <a:pt x="17142" y="11033"/>
                  <a:pt x="17013" y="11140"/>
                  <a:pt x="16892" y="11261"/>
                </a:cubicBezTo>
                <a:cubicBezTo>
                  <a:pt x="16862" y="11291"/>
                  <a:pt x="16851" y="11305"/>
                  <a:pt x="16842" y="11336"/>
                </a:cubicBezTo>
              </a:path>
              <a:path w="4267" h="3102">
                <a:moveTo>
                  <a:pt x="17165" y="9823"/>
                </a:moveTo>
                <a:cubicBezTo>
                  <a:pt x="17125" y="9840"/>
                  <a:pt x="17061" y="9851"/>
                  <a:pt x="17041" y="9897"/>
                </a:cubicBezTo>
                <a:cubicBezTo>
                  <a:pt x="17020" y="9945"/>
                  <a:pt x="17005" y="9992"/>
                  <a:pt x="16991" y="10046"/>
                </a:cubicBezTo>
                <a:cubicBezTo>
                  <a:pt x="16962" y="10157"/>
                  <a:pt x="16923" y="10248"/>
                  <a:pt x="16942" y="10368"/>
                </a:cubicBezTo>
                <a:cubicBezTo>
                  <a:pt x="16954" y="10443"/>
                  <a:pt x="16999" y="10577"/>
                  <a:pt x="17041" y="10641"/>
                </a:cubicBezTo>
                <a:cubicBezTo>
                  <a:pt x="17068" y="10683"/>
                  <a:pt x="17108" y="10726"/>
                  <a:pt x="17140" y="10765"/>
                </a:cubicBezTo>
              </a:path>
              <a:path w="4267" h="3102">
                <a:moveTo>
                  <a:pt x="17562" y="9500"/>
                </a:moveTo>
                <a:cubicBezTo>
                  <a:pt x="17628" y="9450"/>
                  <a:pt x="17720" y="9414"/>
                  <a:pt x="17810" y="9401"/>
                </a:cubicBezTo>
                <a:cubicBezTo>
                  <a:pt x="17914" y="9385"/>
                  <a:pt x="18022" y="9417"/>
                  <a:pt x="18107" y="9475"/>
                </a:cubicBezTo>
                <a:cubicBezTo>
                  <a:pt x="18162" y="9512"/>
                  <a:pt x="18201" y="9592"/>
                  <a:pt x="18231" y="9649"/>
                </a:cubicBezTo>
                <a:cubicBezTo>
                  <a:pt x="18251" y="9689"/>
                  <a:pt x="18260" y="9696"/>
                  <a:pt x="18256" y="9723"/>
                </a:cubicBezTo>
              </a:path>
              <a:path w="4267" h="3102">
                <a:moveTo>
                  <a:pt x="17884" y="8855"/>
                </a:moveTo>
                <a:cubicBezTo>
                  <a:pt x="17876" y="8944"/>
                  <a:pt x="17847" y="9015"/>
                  <a:pt x="17835" y="9103"/>
                </a:cubicBezTo>
                <a:cubicBezTo>
                  <a:pt x="17826" y="9167"/>
                  <a:pt x="17835" y="9237"/>
                  <a:pt x="17835" y="9302"/>
                </a:cubicBezTo>
              </a:path>
              <a:path w="4267" h="3102">
                <a:moveTo>
                  <a:pt x="18132" y="8979"/>
                </a:moveTo>
                <a:cubicBezTo>
                  <a:pt x="18187" y="8958"/>
                  <a:pt x="18248" y="8930"/>
                  <a:pt x="18281" y="9004"/>
                </a:cubicBezTo>
                <a:cubicBezTo>
                  <a:pt x="18313" y="9077"/>
                  <a:pt x="18240" y="9106"/>
                  <a:pt x="18207" y="9153"/>
                </a:cubicBezTo>
                <a:cubicBezTo>
                  <a:pt x="18181" y="9190"/>
                  <a:pt x="18142" y="9236"/>
                  <a:pt x="18132" y="9277"/>
                </a:cubicBezTo>
                <a:cubicBezTo>
                  <a:pt x="18138" y="9296"/>
                  <a:pt x="18177" y="9321"/>
                  <a:pt x="18207" y="9327"/>
                </a:cubicBezTo>
                <a:cubicBezTo>
                  <a:pt x="18295" y="9346"/>
                  <a:pt x="18308" y="9294"/>
                  <a:pt x="18380" y="9277"/>
                </a:cubicBezTo>
                <a:cubicBezTo>
                  <a:pt x="18448" y="9261"/>
                  <a:pt x="18452" y="9230"/>
                  <a:pt x="18504" y="9178"/>
                </a:cubicBezTo>
                <a:cubicBezTo>
                  <a:pt x="18512" y="9170"/>
                  <a:pt x="18521" y="9161"/>
                  <a:pt x="18529" y="9153"/>
                </a:cubicBezTo>
                <a:cubicBezTo>
                  <a:pt x="18501" y="9125"/>
                  <a:pt x="18485" y="9193"/>
                  <a:pt x="18504" y="9227"/>
                </a:cubicBezTo>
                <a:cubicBezTo>
                  <a:pt x="18539" y="9288"/>
                  <a:pt x="18593" y="9277"/>
                  <a:pt x="18653" y="9277"/>
                </a:cubicBezTo>
                <a:cubicBezTo>
                  <a:pt x="18707" y="9277"/>
                  <a:pt x="18746" y="9260"/>
                  <a:pt x="18752" y="9203"/>
                </a:cubicBezTo>
                <a:cubicBezTo>
                  <a:pt x="18758" y="9145"/>
                  <a:pt x="18707" y="9091"/>
                  <a:pt x="18653" y="9079"/>
                </a:cubicBezTo>
                <a:cubicBezTo>
                  <a:pt x="18599" y="9067"/>
                  <a:pt x="18544" y="9074"/>
                  <a:pt x="18504" y="9103"/>
                </a:cubicBezTo>
              </a:path>
              <a:path w="4267" h="3102">
                <a:moveTo>
                  <a:pt x="20588" y="9674"/>
                </a:moveTo>
                <a:cubicBezTo>
                  <a:pt x="20646" y="9674"/>
                  <a:pt x="20675" y="9695"/>
                  <a:pt x="20712" y="9748"/>
                </a:cubicBezTo>
                <a:cubicBezTo>
                  <a:pt x="20770" y="9830"/>
                  <a:pt x="20808" y="9924"/>
                  <a:pt x="20836" y="10021"/>
                </a:cubicBezTo>
                <a:cubicBezTo>
                  <a:pt x="20879" y="10171"/>
                  <a:pt x="20862" y="10255"/>
                  <a:pt x="20811" y="10393"/>
                </a:cubicBezTo>
                <a:cubicBezTo>
                  <a:pt x="20777" y="10486"/>
                  <a:pt x="20724" y="10587"/>
                  <a:pt x="20662" y="10666"/>
                </a:cubicBezTo>
                <a:cubicBezTo>
                  <a:pt x="20616" y="10712"/>
                  <a:pt x="20602" y="10725"/>
                  <a:pt x="20588" y="10765"/>
                </a:cubicBezTo>
              </a:path>
              <a:path w="4267" h="3102">
                <a:moveTo>
                  <a:pt x="19174" y="10815"/>
                </a:moveTo>
                <a:cubicBezTo>
                  <a:pt x="19200" y="10860"/>
                  <a:pt x="19236" y="10892"/>
                  <a:pt x="19273" y="10939"/>
                </a:cubicBezTo>
                <a:cubicBezTo>
                  <a:pt x="19354" y="11044"/>
                  <a:pt x="19465" y="11120"/>
                  <a:pt x="19596" y="11162"/>
                </a:cubicBezTo>
                <a:cubicBezTo>
                  <a:pt x="19773" y="11218"/>
                  <a:pt x="19958" y="11212"/>
                  <a:pt x="20141" y="11212"/>
                </a:cubicBezTo>
                <a:cubicBezTo>
                  <a:pt x="20230" y="11212"/>
                  <a:pt x="20360" y="11207"/>
                  <a:pt x="20439" y="11162"/>
                </a:cubicBezTo>
                <a:cubicBezTo>
                  <a:pt x="20464" y="11162"/>
                  <a:pt x="20472" y="11162"/>
                  <a:pt x="20464" y="11137"/>
                </a:cubicBezTo>
              </a:path>
              <a:path w="4267" h="3102">
                <a:moveTo>
                  <a:pt x="19695" y="11584"/>
                </a:moveTo>
                <a:cubicBezTo>
                  <a:pt x="19659" y="11646"/>
                  <a:pt x="19624" y="11682"/>
                  <a:pt x="19621" y="11757"/>
                </a:cubicBezTo>
                <a:cubicBezTo>
                  <a:pt x="19618" y="11833"/>
                  <a:pt x="19627" y="11869"/>
                  <a:pt x="19645" y="11931"/>
                </a:cubicBezTo>
                <a:cubicBezTo>
                  <a:pt x="19645" y="11939"/>
                  <a:pt x="19645" y="11948"/>
                  <a:pt x="19645" y="11956"/>
                </a:cubicBezTo>
              </a:path>
              <a:path w="4267" h="3102">
                <a:moveTo>
                  <a:pt x="19943" y="11658"/>
                </a:moveTo>
                <a:cubicBezTo>
                  <a:pt x="20049" y="11658"/>
                  <a:pt x="20032" y="11646"/>
                  <a:pt x="20067" y="11733"/>
                </a:cubicBezTo>
                <a:cubicBezTo>
                  <a:pt x="20097" y="11806"/>
                  <a:pt x="20091" y="11835"/>
                  <a:pt x="20042" y="11906"/>
                </a:cubicBezTo>
                <a:cubicBezTo>
                  <a:pt x="20013" y="11947"/>
                  <a:pt x="19962" y="11931"/>
                  <a:pt x="19918" y="11931"/>
                </a:cubicBezTo>
                <a:cubicBezTo>
                  <a:pt x="19930" y="11871"/>
                  <a:pt x="19951" y="11844"/>
                  <a:pt x="20017" y="11832"/>
                </a:cubicBezTo>
                <a:cubicBezTo>
                  <a:pt x="20103" y="11817"/>
                  <a:pt x="20187" y="11839"/>
                  <a:pt x="20265" y="11857"/>
                </a:cubicBezTo>
                <a:cubicBezTo>
                  <a:pt x="20298" y="11857"/>
                  <a:pt x="20315" y="11857"/>
                  <a:pt x="20340" y="11857"/>
                </a:cubicBezTo>
              </a:path>
              <a:path w="4267" h="3102">
                <a:moveTo>
                  <a:pt x="20489" y="11757"/>
                </a:moveTo>
                <a:cubicBezTo>
                  <a:pt x="20455" y="11768"/>
                  <a:pt x="20448" y="11803"/>
                  <a:pt x="20489" y="11832"/>
                </a:cubicBezTo>
                <a:cubicBezTo>
                  <a:pt x="20534" y="11864"/>
                  <a:pt x="20633" y="11872"/>
                  <a:pt x="20687" y="11857"/>
                </a:cubicBezTo>
                <a:cubicBezTo>
                  <a:pt x="20722" y="11847"/>
                  <a:pt x="20790" y="11806"/>
                  <a:pt x="20762" y="11757"/>
                </a:cubicBezTo>
                <a:cubicBezTo>
                  <a:pt x="20727" y="11695"/>
                  <a:pt x="20645" y="11708"/>
                  <a:pt x="20588" y="11708"/>
                </a:cubicBezTo>
                <a:cubicBezTo>
                  <a:pt x="20543" y="11708"/>
                  <a:pt x="20530" y="11705"/>
                  <a:pt x="20513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e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uffix on main name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from end closest to doub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in front of main name indicates first carbon of doub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ky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uffix on main name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y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from end closest to trip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in front of main name indicates first carbon of trip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2040" y="5259240"/>
            <a:ext cx="2751120" cy="615960"/>
          </a:xfrm>
          <a:custGeom>
            <a:avLst/>
            <a:gdLst/>
            <a:ahLst/>
            <a:rect l="l" t="t" r="r" b="b"/>
            <a:pathLst>
              <a:path w="7640" h="1712">
                <a:moveTo>
                  <a:pt x="13419" y="14833"/>
                </a:moveTo>
                <a:cubicBezTo>
                  <a:pt x="13419" y="14803"/>
                  <a:pt x="13411" y="14767"/>
                  <a:pt x="13395" y="14759"/>
                </a:cubicBezTo>
                <a:cubicBezTo>
                  <a:pt x="13331" y="14727"/>
                  <a:pt x="13238" y="14770"/>
                  <a:pt x="13196" y="14808"/>
                </a:cubicBezTo>
                <a:cubicBezTo>
                  <a:pt x="13075" y="14919"/>
                  <a:pt x="12952" y="15080"/>
                  <a:pt x="12973" y="15255"/>
                </a:cubicBezTo>
                <a:cubicBezTo>
                  <a:pt x="12987" y="15373"/>
                  <a:pt x="13077" y="15493"/>
                  <a:pt x="13196" y="15528"/>
                </a:cubicBezTo>
                <a:cubicBezTo>
                  <a:pt x="13277" y="15552"/>
                  <a:pt x="13395" y="15528"/>
                  <a:pt x="13469" y="15503"/>
                </a:cubicBezTo>
              </a:path>
              <a:path w="7640" h="1712">
                <a:moveTo>
                  <a:pt x="13767" y="14908"/>
                </a:moveTo>
                <a:cubicBezTo>
                  <a:pt x="13750" y="14908"/>
                  <a:pt x="13734" y="14908"/>
                  <a:pt x="13717" y="14908"/>
                </a:cubicBezTo>
                <a:cubicBezTo>
                  <a:pt x="13733" y="14931"/>
                  <a:pt x="13841" y="14976"/>
                  <a:pt x="13891" y="14982"/>
                </a:cubicBezTo>
                <a:cubicBezTo>
                  <a:pt x="14021" y="14999"/>
                  <a:pt x="14185" y="14982"/>
                  <a:pt x="14312" y="14957"/>
                </a:cubicBezTo>
                <a:cubicBezTo>
                  <a:pt x="14384" y="14943"/>
                  <a:pt x="14436" y="14932"/>
                  <a:pt x="14511" y="14932"/>
                </a:cubicBezTo>
              </a:path>
              <a:path w="7640" h="1712">
                <a:moveTo>
                  <a:pt x="13791" y="15429"/>
                </a:moveTo>
                <a:cubicBezTo>
                  <a:pt x="13837" y="15394"/>
                  <a:pt x="13931" y="15384"/>
                  <a:pt x="13990" y="15379"/>
                </a:cubicBezTo>
                <a:cubicBezTo>
                  <a:pt x="14131" y="15368"/>
                  <a:pt x="14274" y="15381"/>
                  <a:pt x="14412" y="15354"/>
                </a:cubicBezTo>
                <a:cubicBezTo>
                  <a:pt x="14499" y="15337"/>
                  <a:pt x="14570" y="15329"/>
                  <a:pt x="14660" y="15329"/>
                </a:cubicBezTo>
                <a:cubicBezTo>
                  <a:pt x="14668" y="15329"/>
                  <a:pt x="14676" y="15329"/>
                  <a:pt x="14684" y="15329"/>
                </a:cubicBezTo>
              </a:path>
              <a:path w="7640" h="1712">
                <a:moveTo>
                  <a:pt x="13891" y="15776"/>
                </a:moveTo>
                <a:cubicBezTo>
                  <a:pt x="13961" y="15776"/>
                  <a:pt x="14047" y="15765"/>
                  <a:pt x="14114" y="15751"/>
                </a:cubicBezTo>
                <a:cubicBezTo>
                  <a:pt x="14241" y="15724"/>
                  <a:pt x="14381" y="15712"/>
                  <a:pt x="14511" y="15701"/>
                </a:cubicBezTo>
                <a:cubicBezTo>
                  <a:pt x="14617" y="15692"/>
                  <a:pt x="14708" y="15674"/>
                  <a:pt x="14808" y="15652"/>
                </a:cubicBezTo>
                <a:cubicBezTo>
                  <a:pt x="14839" y="15645"/>
                  <a:pt x="14853" y="15635"/>
                  <a:pt x="14883" y="15627"/>
                </a:cubicBezTo>
              </a:path>
              <a:path w="7640" h="1712">
                <a:moveTo>
                  <a:pt x="15503" y="14908"/>
                </a:moveTo>
                <a:cubicBezTo>
                  <a:pt x="15545" y="14894"/>
                  <a:pt x="15534" y="14868"/>
                  <a:pt x="15503" y="14833"/>
                </a:cubicBezTo>
                <a:cubicBezTo>
                  <a:pt x="15459" y="14784"/>
                  <a:pt x="15404" y="14809"/>
                  <a:pt x="15354" y="14833"/>
                </a:cubicBezTo>
                <a:cubicBezTo>
                  <a:pt x="15260" y="14877"/>
                  <a:pt x="15238" y="14939"/>
                  <a:pt x="15205" y="15032"/>
                </a:cubicBezTo>
                <a:cubicBezTo>
                  <a:pt x="15158" y="15165"/>
                  <a:pt x="15145" y="15266"/>
                  <a:pt x="15180" y="15404"/>
                </a:cubicBezTo>
                <a:cubicBezTo>
                  <a:pt x="15213" y="15532"/>
                  <a:pt x="15318" y="15652"/>
                  <a:pt x="15453" y="15677"/>
                </a:cubicBezTo>
                <a:cubicBezTo>
                  <a:pt x="15563" y="15698"/>
                  <a:pt x="15652" y="15664"/>
                  <a:pt x="15751" y="15627"/>
                </a:cubicBezTo>
                <a:cubicBezTo>
                  <a:pt x="15776" y="15619"/>
                  <a:pt x="15800" y="15610"/>
                  <a:pt x="15825" y="15602"/>
                </a:cubicBezTo>
              </a:path>
              <a:path w="7640" h="1712">
                <a:moveTo>
                  <a:pt x="16197" y="15230"/>
                </a:moveTo>
                <a:cubicBezTo>
                  <a:pt x="16503" y="15230"/>
                  <a:pt x="16809" y="15230"/>
                  <a:pt x="17115" y="15230"/>
                </a:cubicBezTo>
              </a:path>
              <a:path w="7640" h="1712">
                <a:moveTo>
                  <a:pt x="17661" y="14833"/>
                </a:moveTo>
                <a:cubicBezTo>
                  <a:pt x="17661" y="14977"/>
                  <a:pt x="17672" y="15114"/>
                  <a:pt x="17686" y="15255"/>
                </a:cubicBezTo>
                <a:cubicBezTo>
                  <a:pt x="17695" y="15349"/>
                  <a:pt x="17697" y="15439"/>
                  <a:pt x="17711" y="15528"/>
                </a:cubicBezTo>
                <a:cubicBezTo>
                  <a:pt x="17711" y="15544"/>
                  <a:pt x="17711" y="15561"/>
                  <a:pt x="17711" y="15577"/>
                </a:cubicBezTo>
              </a:path>
              <a:path w="7640" h="1712">
                <a:moveTo>
                  <a:pt x="17587" y="15205"/>
                </a:moveTo>
                <a:cubicBezTo>
                  <a:pt x="17747" y="15205"/>
                  <a:pt x="17902" y="15197"/>
                  <a:pt x="18058" y="15180"/>
                </a:cubicBezTo>
                <a:cubicBezTo>
                  <a:pt x="18151" y="15170"/>
                  <a:pt x="18245" y="15168"/>
                  <a:pt x="18331" y="15131"/>
                </a:cubicBezTo>
                <a:cubicBezTo>
                  <a:pt x="18347" y="15123"/>
                  <a:pt x="18364" y="15114"/>
                  <a:pt x="18380" y="15106"/>
                </a:cubicBezTo>
              </a:path>
              <a:path w="7640" h="1712">
                <a:moveTo>
                  <a:pt x="18479" y="14808"/>
                </a:moveTo>
                <a:cubicBezTo>
                  <a:pt x="18479" y="14800"/>
                  <a:pt x="18479" y="14792"/>
                  <a:pt x="18479" y="14784"/>
                </a:cubicBezTo>
                <a:cubicBezTo>
                  <a:pt x="18425" y="14802"/>
                  <a:pt x="18441" y="14875"/>
                  <a:pt x="18430" y="14932"/>
                </a:cubicBezTo>
                <a:cubicBezTo>
                  <a:pt x="18395" y="15115"/>
                  <a:pt x="18337" y="15292"/>
                  <a:pt x="18331" y="15478"/>
                </a:cubicBezTo>
                <a:cubicBezTo>
                  <a:pt x="18331" y="15546"/>
                  <a:pt x="18334" y="15565"/>
                  <a:pt x="18306" y="15602"/>
                </a:cubicBezTo>
              </a:path>
              <a:path w="7640" h="1712">
                <a:moveTo>
                  <a:pt x="11857" y="15180"/>
                </a:moveTo>
                <a:cubicBezTo>
                  <a:pt x="11832" y="15180"/>
                  <a:pt x="11824" y="15180"/>
                  <a:pt x="11807" y="15180"/>
                </a:cubicBezTo>
                <a:cubicBezTo>
                  <a:pt x="11870" y="15218"/>
                  <a:pt x="11951" y="15228"/>
                  <a:pt x="12030" y="15230"/>
                </a:cubicBezTo>
                <a:cubicBezTo>
                  <a:pt x="12182" y="15234"/>
                  <a:pt x="12330" y="15238"/>
                  <a:pt x="12477" y="15205"/>
                </a:cubicBezTo>
                <a:cubicBezTo>
                  <a:pt x="12565" y="15185"/>
                  <a:pt x="12631" y="15186"/>
                  <a:pt x="12700" y="15131"/>
                </a:cubicBezTo>
              </a:path>
              <a:path w="7640" h="1712">
                <a:moveTo>
                  <a:pt x="10840" y="14684"/>
                </a:moveTo>
                <a:cubicBezTo>
                  <a:pt x="10875" y="14782"/>
                  <a:pt x="10872" y="14880"/>
                  <a:pt x="10889" y="14982"/>
                </a:cubicBezTo>
                <a:cubicBezTo>
                  <a:pt x="10910" y="15108"/>
                  <a:pt x="10914" y="15225"/>
                  <a:pt x="10914" y="15354"/>
                </a:cubicBezTo>
                <a:cubicBezTo>
                  <a:pt x="10914" y="15404"/>
                  <a:pt x="10914" y="15453"/>
                  <a:pt x="10914" y="15503"/>
                </a:cubicBezTo>
              </a:path>
              <a:path w="7640" h="1712">
                <a:moveTo>
                  <a:pt x="10964" y="15205"/>
                </a:moveTo>
                <a:cubicBezTo>
                  <a:pt x="11015" y="15205"/>
                  <a:pt x="11040" y="15187"/>
                  <a:pt x="11088" y="15180"/>
                </a:cubicBezTo>
                <a:cubicBezTo>
                  <a:pt x="11208" y="15163"/>
                  <a:pt x="11277" y="15140"/>
                  <a:pt x="11385" y="15081"/>
                </a:cubicBezTo>
                <a:cubicBezTo>
                  <a:pt x="11402" y="15073"/>
                  <a:pt x="11418" y="15064"/>
                  <a:pt x="11435" y="15056"/>
                </a:cubicBezTo>
              </a:path>
              <a:path w="7640" h="1712">
                <a:moveTo>
                  <a:pt x="11410" y="14610"/>
                </a:moveTo>
                <a:cubicBezTo>
                  <a:pt x="11385" y="14701"/>
                  <a:pt x="11364" y="14788"/>
                  <a:pt x="11361" y="14883"/>
                </a:cubicBezTo>
                <a:cubicBezTo>
                  <a:pt x="11353" y="15139"/>
                  <a:pt x="11361" y="15396"/>
                  <a:pt x="11361" y="15652"/>
                </a:cubicBezTo>
              </a:path>
              <a:path w="7640" h="1712">
                <a:moveTo>
                  <a:pt x="12254" y="15602"/>
                </a:moveTo>
                <a:cubicBezTo>
                  <a:pt x="12254" y="15668"/>
                  <a:pt x="12251" y="15715"/>
                  <a:pt x="12278" y="15776"/>
                </a:cubicBezTo>
                <a:cubicBezTo>
                  <a:pt x="12310" y="15849"/>
                  <a:pt x="12338" y="15931"/>
                  <a:pt x="12378" y="15999"/>
                </a:cubicBezTo>
                <a:cubicBezTo>
                  <a:pt x="12434" y="16095"/>
                  <a:pt x="12527" y="16195"/>
                  <a:pt x="12626" y="16247"/>
                </a:cubicBezTo>
                <a:cubicBezTo>
                  <a:pt x="12736" y="16304"/>
                  <a:pt x="12878" y="16317"/>
                  <a:pt x="12998" y="16321"/>
                </a:cubicBezTo>
                <a:cubicBezTo>
                  <a:pt x="13120" y="16325"/>
                  <a:pt x="13205" y="16289"/>
                  <a:pt x="13320" y="16272"/>
                </a:cubicBezTo>
                <a:cubicBezTo>
                  <a:pt x="13404" y="16260"/>
                  <a:pt x="13468" y="16248"/>
                  <a:pt x="13543" y="16197"/>
                </a:cubicBezTo>
                <a:cubicBezTo>
                  <a:pt x="13580" y="16172"/>
                  <a:pt x="13612" y="16129"/>
                  <a:pt x="13643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73720" y="5929200"/>
            <a:ext cx="519120" cy="32220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2477" y="16520"/>
                </a:moveTo>
                <a:cubicBezTo>
                  <a:pt x="12522" y="16535"/>
                  <a:pt x="12488" y="16594"/>
                  <a:pt x="12477" y="16644"/>
                </a:cubicBezTo>
                <a:cubicBezTo>
                  <a:pt x="12451" y="16762"/>
                  <a:pt x="12452" y="16870"/>
                  <a:pt x="12452" y="16991"/>
                </a:cubicBezTo>
                <a:cubicBezTo>
                  <a:pt x="12452" y="17070"/>
                  <a:pt x="12427" y="17135"/>
                  <a:pt x="12427" y="17214"/>
                </a:cubicBezTo>
                <a:cubicBezTo>
                  <a:pt x="12427" y="17222"/>
                  <a:pt x="12427" y="17231"/>
                  <a:pt x="12427" y="17239"/>
                </a:cubicBezTo>
              </a:path>
              <a:path w="1440" h="894">
                <a:moveTo>
                  <a:pt x="12998" y="16669"/>
                </a:moveTo>
                <a:cubicBezTo>
                  <a:pt x="12948" y="16669"/>
                  <a:pt x="12916" y="16686"/>
                  <a:pt x="12874" y="16718"/>
                </a:cubicBezTo>
                <a:cubicBezTo>
                  <a:pt x="12810" y="16766"/>
                  <a:pt x="12777" y="16814"/>
                  <a:pt x="12774" y="16892"/>
                </a:cubicBezTo>
                <a:cubicBezTo>
                  <a:pt x="12769" y="17012"/>
                  <a:pt x="12808" y="17012"/>
                  <a:pt x="12898" y="17066"/>
                </a:cubicBezTo>
                <a:cubicBezTo>
                  <a:pt x="12955" y="17100"/>
                  <a:pt x="13057" y="17109"/>
                  <a:pt x="13097" y="17165"/>
                </a:cubicBezTo>
                <a:cubicBezTo>
                  <a:pt x="13149" y="17237"/>
                  <a:pt x="13112" y="17276"/>
                  <a:pt x="13047" y="17314"/>
                </a:cubicBezTo>
                <a:cubicBezTo>
                  <a:pt x="12987" y="17349"/>
                  <a:pt x="12967" y="17363"/>
                  <a:pt x="12898" y="17363"/>
                </a:cubicBezTo>
                <a:cubicBezTo>
                  <a:pt x="12898" y="17286"/>
                  <a:pt x="12888" y="17212"/>
                  <a:pt x="12923" y="17140"/>
                </a:cubicBezTo>
                <a:cubicBezTo>
                  <a:pt x="12974" y="17036"/>
                  <a:pt x="13037" y="16942"/>
                  <a:pt x="13097" y="16842"/>
                </a:cubicBezTo>
                <a:cubicBezTo>
                  <a:pt x="13124" y="16797"/>
                  <a:pt x="13119" y="16781"/>
                  <a:pt x="13146" y="16743"/>
                </a:cubicBezTo>
              </a:path>
              <a:path w="1440" h="894">
                <a:moveTo>
                  <a:pt x="13370" y="16718"/>
                </a:moveTo>
                <a:cubicBezTo>
                  <a:pt x="13336" y="16808"/>
                  <a:pt x="13323" y="16892"/>
                  <a:pt x="13320" y="16991"/>
                </a:cubicBezTo>
                <a:cubicBezTo>
                  <a:pt x="13317" y="17070"/>
                  <a:pt x="13328" y="17188"/>
                  <a:pt x="13419" y="17214"/>
                </a:cubicBezTo>
                <a:cubicBezTo>
                  <a:pt x="13494" y="17236"/>
                  <a:pt x="13561" y="17169"/>
                  <a:pt x="13593" y="17115"/>
                </a:cubicBezTo>
                <a:cubicBezTo>
                  <a:pt x="13635" y="17045"/>
                  <a:pt x="13621" y="16999"/>
                  <a:pt x="13568" y="16942"/>
                </a:cubicBezTo>
                <a:cubicBezTo>
                  <a:pt x="13508" y="16877"/>
                  <a:pt x="13440" y="16866"/>
                  <a:pt x="13370" y="16818"/>
                </a:cubicBezTo>
                <a:cubicBezTo>
                  <a:pt x="13347" y="16795"/>
                  <a:pt x="13339" y="16791"/>
                  <a:pt x="13345" y="16768"/>
                </a:cubicBezTo>
              </a:path>
              <a:path w="1440" h="894">
                <a:moveTo>
                  <a:pt x="13717" y="16545"/>
                </a:moveTo>
                <a:cubicBezTo>
                  <a:pt x="13729" y="16594"/>
                  <a:pt x="13741" y="16594"/>
                  <a:pt x="13791" y="16594"/>
                </a:cubicBezTo>
                <a:cubicBezTo>
                  <a:pt x="13834" y="16594"/>
                  <a:pt x="13862" y="16559"/>
                  <a:pt x="13866" y="16520"/>
                </a:cubicBezTo>
                <a:cubicBezTo>
                  <a:pt x="13869" y="16490"/>
                  <a:pt x="13822" y="16472"/>
                  <a:pt x="13791" y="16470"/>
                </a:cubicBezTo>
                <a:cubicBezTo>
                  <a:pt x="13735" y="16466"/>
                  <a:pt x="13699" y="16469"/>
                  <a:pt x="13667" y="16520"/>
                </a:cubicBezTo>
                <a:cubicBezTo>
                  <a:pt x="13648" y="16561"/>
                  <a:pt x="13640" y="16567"/>
                  <a:pt x="13643" y="165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y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known as acetyl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, un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 of chain alkynes - subtract 4 H from alkane for each trip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trip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reactive than alk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4840" y="1330200"/>
            <a:ext cx="1581120" cy="455760"/>
          </a:xfrm>
          <a:custGeom>
            <a:avLst/>
            <a:gdLst/>
            <a:ahLst/>
            <a:rect l="l" t="t" r="r" b="b"/>
            <a:pathLst>
              <a:path w="4391" h="1266">
                <a:moveTo>
                  <a:pt x="17239" y="3746"/>
                </a:moveTo>
                <a:cubicBezTo>
                  <a:pt x="17257" y="3807"/>
                  <a:pt x="17264" y="3817"/>
                  <a:pt x="17264" y="3870"/>
                </a:cubicBezTo>
                <a:cubicBezTo>
                  <a:pt x="17264" y="3818"/>
                  <a:pt x="17269" y="3817"/>
                  <a:pt x="17239" y="3795"/>
                </a:cubicBezTo>
                <a:cubicBezTo>
                  <a:pt x="17178" y="3749"/>
                  <a:pt x="17170" y="3703"/>
                  <a:pt x="17090" y="3696"/>
                </a:cubicBezTo>
                <a:cubicBezTo>
                  <a:pt x="17013" y="3689"/>
                  <a:pt x="16951" y="3763"/>
                  <a:pt x="16917" y="3820"/>
                </a:cubicBezTo>
                <a:cubicBezTo>
                  <a:pt x="16853" y="3927"/>
                  <a:pt x="16788" y="4116"/>
                  <a:pt x="16818" y="4242"/>
                </a:cubicBezTo>
                <a:cubicBezTo>
                  <a:pt x="16833" y="4304"/>
                  <a:pt x="16926" y="4489"/>
                  <a:pt x="16991" y="4514"/>
                </a:cubicBezTo>
                <a:cubicBezTo>
                  <a:pt x="17048" y="4536"/>
                  <a:pt x="17189" y="4518"/>
                  <a:pt x="17239" y="4490"/>
                </a:cubicBezTo>
                <a:cubicBezTo>
                  <a:pt x="17247" y="4482"/>
                  <a:pt x="17256" y="4473"/>
                  <a:pt x="17264" y="4465"/>
                </a:cubicBezTo>
              </a:path>
              <a:path w="4391" h="1266">
                <a:moveTo>
                  <a:pt x="17537" y="4415"/>
                </a:moveTo>
                <a:cubicBezTo>
                  <a:pt x="17560" y="4477"/>
                  <a:pt x="17561" y="4557"/>
                  <a:pt x="17587" y="4614"/>
                </a:cubicBezTo>
                <a:cubicBezTo>
                  <a:pt x="17597" y="4637"/>
                  <a:pt x="17611" y="4711"/>
                  <a:pt x="17611" y="4663"/>
                </a:cubicBezTo>
                <a:cubicBezTo>
                  <a:pt x="17611" y="4605"/>
                  <a:pt x="17611" y="4569"/>
                  <a:pt x="17636" y="4514"/>
                </a:cubicBezTo>
                <a:cubicBezTo>
                  <a:pt x="17647" y="4490"/>
                  <a:pt x="17693" y="4396"/>
                  <a:pt x="17735" y="4415"/>
                </a:cubicBezTo>
                <a:cubicBezTo>
                  <a:pt x="17797" y="4443"/>
                  <a:pt x="17821" y="4488"/>
                  <a:pt x="17859" y="4539"/>
                </a:cubicBezTo>
                <a:cubicBezTo>
                  <a:pt x="17892" y="4583"/>
                  <a:pt x="17919" y="4624"/>
                  <a:pt x="17959" y="4663"/>
                </a:cubicBezTo>
              </a:path>
              <a:path w="4391" h="1266">
                <a:moveTo>
                  <a:pt x="18083" y="3770"/>
                </a:moveTo>
                <a:cubicBezTo>
                  <a:pt x="18123" y="3784"/>
                  <a:pt x="18138" y="3841"/>
                  <a:pt x="18157" y="3894"/>
                </a:cubicBezTo>
                <a:cubicBezTo>
                  <a:pt x="18195" y="4000"/>
                  <a:pt x="18215" y="4112"/>
                  <a:pt x="18256" y="4217"/>
                </a:cubicBezTo>
                <a:cubicBezTo>
                  <a:pt x="18283" y="4287"/>
                  <a:pt x="18325" y="4345"/>
                  <a:pt x="18331" y="4415"/>
                </a:cubicBezTo>
                <a:cubicBezTo>
                  <a:pt x="18331" y="4423"/>
                  <a:pt x="18331" y="4432"/>
                  <a:pt x="18331" y="4440"/>
                </a:cubicBezTo>
              </a:path>
              <a:path w="4391" h="1266">
                <a:moveTo>
                  <a:pt x="18182" y="4217"/>
                </a:moveTo>
                <a:cubicBezTo>
                  <a:pt x="18196" y="4162"/>
                  <a:pt x="18229" y="4145"/>
                  <a:pt x="18281" y="4118"/>
                </a:cubicBezTo>
                <a:cubicBezTo>
                  <a:pt x="18353" y="4080"/>
                  <a:pt x="18436" y="4061"/>
                  <a:pt x="18504" y="4018"/>
                </a:cubicBezTo>
                <a:cubicBezTo>
                  <a:pt x="18531" y="4001"/>
                  <a:pt x="18556" y="3967"/>
                  <a:pt x="18579" y="3944"/>
                </a:cubicBezTo>
              </a:path>
              <a:path w="4391" h="1266">
                <a:moveTo>
                  <a:pt x="18529" y="3820"/>
                </a:moveTo>
                <a:cubicBezTo>
                  <a:pt x="18466" y="3740"/>
                  <a:pt x="18502" y="3746"/>
                  <a:pt x="18430" y="3746"/>
                </a:cubicBezTo>
                <a:cubicBezTo>
                  <a:pt x="18430" y="3881"/>
                  <a:pt x="18424" y="4009"/>
                  <a:pt x="18455" y="4142"/>
                </a:cubicBezTo>
                <a:cubicBezTo>
                  <a:pt x="18481" y="4253"/>
                  <a:pt x="18508" y="4376"/>
                  <a:pt x="18579" y="4465"/>
                </a:cubicBezTo>
              </a:path>
              <a:path w="4391" h="1266">
                <a:moveTo>
                  <a:pt x="18926" y="4490"/>
                </a:moveTo>
                <a:cubicBezTo>
                  <a:pt x="18992" y="4477"/>
                  <a:pt x="19010" y="4448"/>
                  <a:pt x="19075" y="4490"/>
                </a:cubicBezTo>
                <a:cubicBezTo>
                  <a:pt x="19144" y="4535"/>
                  <a:pt x="19131" y="4625"/>
                  <a:pt x="19100" y="4688"/>
                </a:cubicBezTo>
                <a:cubicBezTo>
                  <a:pt x="19046" y="4796"/>
                  <a:pt x="18953" y="4861"/>
                  <a:pt x="18852" y="4911"/>
                </a:cubicBezTo>
                <a:cubicBezTo>
                  <a:pt x="18799" y="4937"/>
                  <a:pt x="18792" y="4955"/>
                  <a:pt x="18777" y="4911"/>
                </a:cubicBezTo>
                <a:cubicBezTo>
                  <a:pt x="18800" y="4833"/>
                  <a:pt x="18846" y="4827"/>
                  <a:pt x="18926" y="4787"/>
                </a:cubicBezTo>
                <a:cubicBezTo>
                  <a:pt x="19000" y="4750"/>
                  <a:pt x="19036" y="4763"/>
                  <a:pt x="19100" y="4812"/>
                </a:cubicBezTo>
                <a:cubicBezTo>
                  <a:pt x="19127" y="4832"/>
                  <a:pt x="19150" y="4863"/>
                  <a:pt x="19174" y="4887"/>
                </a:cubicBezTo>
              </a:path>
              <a:path w="4391" h="1266">
                <a:moveTo>
                  <a:pt x="19323" y="4688"/>
                </a:moveTo>
                <a:cubicBezTo>
                  <a:pt x="19375" y="4723"/>
                  <a:pt x="19324" y="4752"/>
                  <a:pt x="19348" y="4812"/>
                </a:cubicBezTo>
                <a:cubicBezTo>
                  <a:pt x="19365" y="4856"/>
                  <a:pt x="19372" y="4884"/>
                  <a:pt x="19372" y="4936"/>
                </a:cubicBezTo>
                <a:cubicBezTo>
                  <a:pt x="19402" y="4897"/>
                  <a:pt x="19411" y="4852"/>
                  <a:pt x="19447" y="4812"/>
                </a:cubicBezTo>
                <a:cubicBezTo>
                  <a:pt x="19486" y="4769"/>
                  <a:pt x="19517" y="4792"/>
                  <a:pt x="19546" y="4837"/>
                </a:cubicBezTo>
                <a:cubicBezTo>
                  <a:pt x="19569" y="4873"/>
                  <a:pt x="19601" y="4941"/>
                  <a:pt x="19645" y="4961"/>
                </a:cubicBezTo>
                <a:cubicBezTo>
                  <a:pt x="19653" y="4961"/>
                  <a:pt x="19662" y="4961"/>
                  <a:pt x="19670" y="4961"/>
                </a:cubicBezTo>
              </a:path>
              <a:path w="4391" h="1266">
                <a:moveTo>
                  <a:pt x="19918" y="4738"/>
                </a:moveTo>
                <a:cubicBezTo>
                  <a:pt x="19975" y="4727"/>
                  <a:pt x="20036" y="4695"/>
                  <a:pt x="20092" y="4688"/>
                </a:cubicBezTo>
                <a:cubicBezTo>
                  <a:pt x="20178" y="4677"/>
                  <a:pt x="20256" y="4644"/>
                  <a:pt x="20340" y="4638"/>
                </a:cubicBezTo>
                <a:cubicBezTo>
                  <a:pt x="20377" y="4635"/>
                  <a:pt x="20350" y="4632"/>
                  <a:pt x="20340" y="4663"/>
                </a:cubicBezTo>
              </a:path>
              <a:path w="4391" h="1266">
                <a:moveTo>
                  <a:pt x="20588" y="4440"/>
                </a:moveTo>
                <a:cubicBezTo>
                  <a:pt x="20588" y="4379"/>
                  <a:pt x="20598" y="4393"/>
                  <a:pt x="20638" y="4366"/>
                </a:cubicBezTo>
                <a:cubicBezTo>
                  <a:pt x="20698" y="4325"/>
                  <a:pt x="20791" y="4331"/>
                  <a:pt x="20861" y="4366"/>
                </a:cubicBezTo>
                <a:cubicBezTo>
                  <a:pt x="20978" y="4424"/>
                  <a:pt x="21004" y="4492"/>
                  <a:pt x="21010" y="4614"/>
                </a:cubicBezTo>
                <a:cubicBezTo>
                  <a:pt x="21014" y="4710"/>
                  <a:pt x="20962" y="4782"/>
                  <a:pt x="20886" y="4837"/>
                </a:cubicBezTo>
                <a:cubicBezTo>
                  <a:pt x="20837" y="4872"/>
                  <a:pt x="20816" y="4879"/>
                  <a:pt x="20762" y="4887"/>
                </a:cubicBezTo>
                <a:cubicBezTo>
                  <a:pt x="20746" y="4860"/>
                  <a:pt x="20716" y="4799"/>
                  <a:pt x="20737" y="4762"/>
                </a:cubicBezTo>
                <a:cubicBezTo>
                  <a:pt x="20771" y="4703"/>
                  <a:pt x="20867" y="4747"/>
                  <a:pt x="20910" y="4762"/>
                </a:cubicBezTo>
                <a:cubicBezTo>
                  <a:pt x="21005" y="4795"/>
                  <a:pt x="21068" y="4864"/>
                  <a:pt x="21158" y="4911"/>
                </a:cubicBezTo>
                <a:cubicBezTo>
                  <a:pt x="21175" y="4919"/>
                  <a:pt x="21191" y="4928"/>
                  <a:pt x="21208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38920" y="3429000"/>
            <a:ext cx="1054080" cy="376200"/>
          </a:xfrm>
          <a:custGeom>
            <a:avLst/>
            <a:gdLst/>
            <a:ahLst/>
            <a:rect l="l" t="t" r="r" b="b"/>
            <a:pathLst>
              <a:path w="2928" h="1043">
                <a:moveTo>
                  <a:pt x="16917" y="9823"/>
                </a:moveTo>
                <a:cubicBezTo>
                  <a:pt x="16917" y="9891"/>
                  <a:pt x="16921" y="9779"/>
                  <a:pt x="16917" y="9773"/>
                </a:cubicBezTo>
                <a:cubicBezTo>
                  <a:pt x="16883" y="9712"/>
                  <a:pt x="16828" y="9723"/>
                  <a:pt x="16768" y="9723"/>
                </a:cubicBezTo>
                <a:cubicBezTo>
                  <a:pt x="16671" y="9723"/>
                  <a:pt x="16563" y="9803"/>
                  <a:pt x="16520" y="9897"/>
                </a:cubicBezTo>
                <a:cubicBezTo>
                  <a:pt x="16465" y="10018"/>
                  <a:pt x="16487" y="10162"/>
                  <a:pt x="16594" y="10244"/>
                </a:cubicBezTo>
                <a:cubicBezTo>
                  <a:pt x="16706" y="10329"/>
                  <a:pt x="16853" y="10366"/>
                  <a:pt x="16991" y="10344"/>
                </a:cubicBezTo>
                <a:cubicBezTo>
                  <a:pt x="17016" y="10336"/>
                  <a:pt x="17041" y="10327"/>
                  <a:pt x="17066" y="10319"/>
                </a:cubicBezTo>
              </a:path>
              <a:path w="2928" h="1043">
                <a:moveTo>
                  <a:pt x="17388" y="10120"/>
                </a:moveTo>
                <a:cubicBezTo>
                  <a:pt x="17459" y="10120"/>
                  <a:pt x="17344" y="10116"/>
                  <a:pt x="17338" y="10120"/>
                </a:cubicBezTo>
                <a:cubicBezTo>
                  <a:pt x="17313" y="10134"/>
                  <a:pt x="17292" y="10195"/>
                  <a:pt x="17289" y="10220"/>
                </a:cubicBezTo>
                <a:cubicBezTo>
                  <a:pt x="17282" y="10282"/>
                  <a:pt x="17343" y="10318"/>
                  <a:pt x="17388" y="10344"/>
                </a:cubicBezTo>
                <a:cubicBezTo>
                  <a:pt x="17419" y="10362"/>
                  <a:pt x="17500" y="10402"/>
                  <a:pt x="17512" y="10443"/>
                </a:cubicBezTo>
                <a:cubicBezTo>
                  <a:pt x="17530" y="10504"/>
                  <a:pt x="17500" y="10529"/>
                  <a:pt x="17462" y="10567"/>
                </a:cubicBezTo>
              </a:path>
              <a:path w="2928" h="1043">
                <a:moveTo>
                  <a:pt x="17388" y="10120"/>
                </a:moveTo>
                <a:cubicBezTo>
                  <a:pt x="17434" y="10109"/>
                  <a:pt x="17492" y="10099"/>
                  <a:pt x="17537" y="10071"/>
                </a:cubicBezTo>
                <a:cubicBezTo>
                  <a:pt x="17565" y="10043"/>
                  <a:pt x="17578" y="10034"/>
                  <a:pt x="17611" y="10046"/>
                </a:cubicBezTo>
              </a:path>
              <a:path w="2928" h="1043">
                <a:moveTo>
                  <a:pt x="17884" y="9575"/>
                </a:moveTo>
                <a:cubicBezTo>
                  <a:pt x="17835" y="9591"/>
                  <a:pt x="17890" y="9647"/>
                  <a:pt x="17909" y="9699"/>
                </a:cubicBezTo>
                <a:cubicBezTo>
                  <a:pt x="17953" y="9819"/>
                  <a:pt x="17977" y="9947"/>
                  <a:pt x="18008" y="10071"/>
                </a:cubicBezTo>
                <a:cubicBezTo>
                  <a:pt x="18028" y="10152"/>
                  <a:pt x="18043" y="10253"/>
                  <a:pt x="18083" y="10319"/>
                </a:cubicBezTo>
              </a:path>
              <a:path w="2928" h="1043">
                <a:moveTo>
                  <a:pt x="17934" y="9971"/>
                </a:moveTo>
                <a:cubicBezTo>
                  <a:pt x="17989" y="9971"/>
                  <a:pt x="18032" y="9953"/>
                  <a:pt x="18083" y="9947"/>
                </a:cubicBezTo>
                <a:cubicBezTo>
                  <a:pt x="18176" y="9935"/>
                  <a:pt x="18243" y="9911"/>
                  <a:pt x="18331" y="9872"/>
                </a:cubicBezTo>
              </a:path>
              <a:path w="2928" h="1043">
                <a:moveTo>
                  <a:pt x="18281" y="9550"/>
                </a:moveTo>
                <a:cubicBezTo>
                  <a:pt x="18273" y="9542"/>
                  <a:pt x="18264" y="9533"/>
                  <a:pt x="18256" y="9525"/>
                </a:cubicBezTo>
                <a:cubicBezTo>
                  <a:pt x="18211" y="9600"/>
                  <a:pt x="18237" y="9662"/>
                  <a:pt x="18256" y="9748"/>
                </a:cubicBezTo>
                <a:cubicBezTo>
                  <a:pt x="18289" y="9899"/>
                  <a:pt x="18356" y="10046"/>
                  <a:pt x="18380" y="10195"/>
                </a:cubicBezTo>
                <a:cubicBezTo>
                  <a:pt x="18392" y="10270"/>
                  <a:pt x="18367" y="10319"/>
                  <a:pt x="18455" y="10319"/>
                </a:cubicBezTo>
              </a:path>
              <a:path w="2928" h="1043">
                <a:moveTo>
                  <a:pt x="18703" y="10071"/>
                </a:moveTo>
                <a:cubicBezTo>
                  <a:pt x="18727" y="10135"/>
                  <a:pt x="18728" y="10176"/>
                  <a:pt x="18728" y="10244"/>
                </a:cubicBezTo>
                <a:cubicBezTo>
                  <a:pt x="18728" y="10297"/>
                  <a:pt x="18751" y="10354"/>
                  <a:pt x="18777" y="10393"/>
                </a:cubicBezTo>
                <a:cubicBezTo>
                  <a:pt x="18800" y="10416"/>
                  <a:pt x="18804" y="10424"/>
                  <a:pt x="18827" y="10418"/>
                </a:cubicBezTo>
              </a:path>
              <a:path w="2928" h="1043">
                <a:moveTo>
                  <a:pt x="18901" y="10319"/>
                </a:moveTo>
                <a:cubicBezTo>
                  <a:pt x="18959" y="10237"/>
                  <a:pt x="18973" y="10202"/>
                  <a:pt x="19050" y="10170"/>
                </a:cubicBezTo>
                <a:cubicBezTo>
                  <a:pt x="19117" y="10142"/>
                  <a:pt x="19207" y="10143"/>
                  <a:pt x="19248" y="10220"/>
                </a:cubicBezTo>
                <a:cubicBezTo>
                  <a:pt x="19289" y="10296"/>
                  <a:pt x="19231" y="10407"/>
                  <a:pt x="19199" y="10468"/>
                </a:cubicBezTo>
                <a:cubicBezTo>
                  <a:pt x="19168" y="10527"/>
                  <a:pt x="19163" y="10542"/>
                  <a:pt x="19100" y="10542"/>
                </a:cubicBezTo>
                <a:cubicBezTo>
                  <a:pt x="19100" y="10494"/>
                  <a:pt x="19095" y="10462"/>
                  <a:pt x="19124" y="10418"/>
                </a:cubicBezTo>
                <a:cubicBezTo>
                  <a:pt x="19164" y="10357"/>
                  <a:pt x="19209" y="10405"/>
                  <a:pt x="19248" y="10418"/>
                </a:cubicBezTo>
                <a:cubicBezTo>
                  <a:pt x="19306" y="10438"/>
                  <a:pt x="19364" y="10464"/>
                  <a:pt x="1942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75680" y="3517920"/>
            <a:ext cx="607680" cy="169920"/>
          </a:xfrm>
          <a:custGeom>
            <a:avLst/>
            <a:gdLst/>
            <a:ahLst/>
            <a:rect l="l" t="t" r="r" b="b"/>
            <a:pathLst>
              <a:path w="1687" h="472">
                <a:moveTo>
                  <a:pt x="20737" y="9872"/>
                </a:moveTo>
                <a:cubicBezTo>
                  <a:pt x="20696" y="9892"/>
                  <a:pt x="20652" y="9911"/>
                  <a:pt x="20613" y="9947"/>
                </a:cubicBezTo>
                <a:cubicBezTo>
                  <a:pt x="20559" y="9997"/>
                  <a:pt x="20470" y="10059"/>
                  <a:pt x="20489" y="10145"/>
                </a:cubicBezTo>
                <a:cubicBezTo>
                  <a:pt x="20510" y="10242"/>
                  <a:pt x="20597" y="10224"/>
                  <a:pt x="20662" y="10195"/>
                </a:cubicBezTo>
                <a:cubicBezTo>
                  <a:pt x="20736" y="10162"/>
                  <a:pt x="20712" y="10121"/>
                  <a:pt x="20712" y="10046"/>
                </a:cubicBezTo>
                <a:cubicBezTo>
                  <a:pt x="20712" y="10021"/>
                  <a:pt x="20712" y="9996"/>
                  <a:pt x="20712" y="9971"/>
                </a:cubicBezTo>
                <a:cubicBezTo>
                  <a:pt x="20753" y="10054"/>
                  <a:pt x="20796" y="10104"/>
                  <a:pt x="20861" y="10170"/>
                </a:cubicBezTo>
                <a:cubicBezTo>
                  <a:pt x="20918" y="10228"/>
                  <a:pt x="20957" y="10268"/>
                  <a:pt x="21034" y="10220"/>
                </a:cubicBezTo>
                <a:cubicBezTo>
                  <a:pt x="21099" y="10179"/>
                  <a:pt x="21126" y="10086"/>
                  <a:pt x="21158" y="10021"/>
                </a:cubicBezTo>
                <a:cubicBezTo>
                  <a:pt x="21182" y="9973"/>
                  <a:pt x="21190" y="9959"/>
                  <a:pt x="21183" y="9922"/>
                </a:cubicBezTo>
                <a:cubicBezTo>
                  <a:pt x="21198" y="9944"/>
                  <a:pt x="21215" y="9971"/>
                  <a:pt x="21233" y="10021"/>
                </a:cubicBezTo>
                <a:cubicBezTo>
                  <a:pt x="21242" y="10047"/>
                  <a:pt x="21243" y="10125"/>
                  <a:pt x="21258" y="10145"/>
                </a:cubicBezTo>
                <a:cubicBezTo>
                  <a:pt x="21266" y="10145"/>
                  <a:pt x="21274" y="10145"/>
                  <a:pt x="21282" y="10145"/>
                </a:cubicBezTo>
                <a:cubicBezTo>
                  <a:pt x="21312" y="10095"/>
                  <a:pt x="21318" y="10048"/>
                  <a:pt x="21357" y="9996"/>
                </a:cubicBezTo>
                <a:cubicBezTo>
                  <a:pt x="21381" y="9964"/>
                  <a:pt x="21413" y="9933"/>
                  <a:pt x="21456" y="9947"/>
                </a:cubicBezTo>
                <a:cubicBezTo>
                  <a:pt x="21498" y="9961"/>
                  <a:pt x="21561" y="10024"/>
                  <a:pt x="21605" y="10046"/>
                </a:cubicBezTo>
                <a:cubicBezTo>
                  <a:pt x="21687" y="10088"/>
                  <a:pt x="21799" y="10072"/>
                  <a:pt x="21878" y="10021"/>
                </a:cubicBezTo>
                <a:cubicBezTo>
                  <a:pt x="21936" y="9984"/>
                  <a:pt x="22031" y="9918"/>
                  <a:pt x="22051" y="9847"/>
                </a:cubicBezTo>
                <a:cubicBezTo>
                  <a:pt x="22061" y="9809"/>
                  <a:pt x="22043" y="9801"/>
                  <a:pt x="22027" y="9773"/>
                </a:cubicBezTo>
                <a:cubicBezTo>
                  <a:pt x="21946" y="9785"/>
                  <a:pt x="21920" y="9822"/>
                  <a:pt x="21878" y="9897"/>
                </a:cubicBezTo>
                <a:cubicBezTo>
                  <a:pt x="21816" y="10008"/>
                  <a:pt x="21921" y="10064"/>
                  <a:pt x="22002" y="10120"/>
                </a:cubicBezTo>
                <a:cubicBezTo>
                  <a:pt x="22080" y="10172"/>
                  <a:pt x="22108" y="10190"/>
                  <a:pt x="22175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62760" y="3990960"/>
            <a:ext cx="1125360" cy="322200"/>
          </a:xfrm>
          <a:custGeom>
            <a:avLst/>
            <a:gdLst/>
            <a:ahLst/>
            <a:rect l="l" t="t" r="r" b="b"/>
            <a:pathLst>
              <a:path w="3127" h="894">
                <a:moveTo>
                  <a:pt x="17190" y="11162"/>
                </a:moveTo>
                <a:cubicBezTo>
                  <a:pt x="17177" y="11085"/>
                  <a:pt x="17149" y="11112"/>
                  <a:pt x="17066" y="11112"/>
                </a:cubicBezTo>
                <a:cubicBezTo>
                  <a:pt x="16980" y="11112"/>
                  <a:pt x="16902" y="11183"/>
                  <a:pt x="16867" y="11261"/>
                </a:cubicBezTo>
                <a:cubicBezTo>
                  <a:pt x="16820" y="11365"/>
                  <a:pt x="16867" y="11547"/>
                  <a:pt x="16942" y="11633"/>
                </a:cubicBezTo>
                <a:cubicBezTo>
                  <a:pt x="17014" y="11715"/>
                  <a:pt x="17160" y="11767"/>
                  <a:pt x="17264" y="11782"/>
                </a:cubicBezTo>
                <a:cubicBezTo>
                  <a:pt x="17289" y="11782"/>
                  <a:pt x="17313" y="11782"/>
                  <a:pt x="17338" y="11782"/>
                </a:cubicBezTo>
              </a:path>
              <a:path w="3127" h="894">
                <a:moveTo>
                  <a:pt x="17711" y="11509"/>
                </a:moveTo>
                <a:cubicBezTo>
                  <a:pt x="17655" y="11542"/>
                  <a:pt x="17580" y="11585"/>
                  <a:pt x="17512" y="11609"/>
                </a:cubicBezTo>
                <a:cubicBezTo>
                  <a:pt x="17475" y="11622"/>
                  <a:pt x="17430" y="11643"/>
                  <a:pt x="17487" y="11683"/>
                </a:cubicBezTo>
                <a:cubicBezTo>
                  <a:pt x="17546" y="11724"/>
                  <a:pt x="17735" y="11761"/>
                  <a:pt x="17760" y="11832"/>
                </a:cubicBezTo>
                <a:cubicBezTo>
                  <a:pt x="17780" y="11887"/>
                  <a:pt x="17748" y="11916"/>
                  <a:pt x="17735" y="11956"/>
                </a:cubicBezTo>
                <a:cubicBezTo>
                  <a:pt x="17735" y="11981"/>
                  <a:pt x="17735" y="11989"/>
                  <a:pt x="17711" y="11981"/>
                </a:cubicBezTo>
              </a:path>
              <a:path w="3127" h="894">
                <a:moveTo>
                  <a:pt x="17661" y="11609"/>
                </a:moveTo>
                <a:cubicBezTo>
                  <a:pt x="17701" y="11558"/>
                  <a:pt x="17720" y="11514"/>
                  <a:pt x="17785" y="11509"/>
                </a:cubicBezTo>
                <a:cubicBezTo>
                  <a:pt x="17834" y="11505"/>
                  <a:pt x="17890" y="11489"/>
                  <a:pt x="17934" y="11460"/>
                </a:cubicBezTo>
                <a:cubicBezTo>
                  <a:pt x="17942" y="11452"/>
                  <a:pt x="17951" y="11443"/>
                  <a:pt x="17959" y="11435"/>
                </a:cubicBezTo>
              </a:path>
              <a:path w="3127" h="894">
                <a:moveTo>
                  <a:pt x="18182" y="11212"/>
                </a:moveTo>
                <a:cubicBezTo>
                  <a:pt x="18182" y="11195"/>
                  <a:pt x="18182" y="11179"/>
                  <a:pt x="18182" y="11162"/>
                </a:cubicBezTo>
                <a:cubicBezTo>
                  <a:pt x="18220" y="11225"/>
                  <a:pt x="18232" y="11309"/>
                  <a:pt x="18256" y="11385"/>
                </a:cubicBezTo>
                <a:cubicBezTo>
                  <a:pt x="18291" y="11499"/>
                  <a:pt x="18326" y="11601"/>
                  <a:pt x="18380" y="11708"/>
                </a:cubicBezTo>
                <a:cubicBezTo>
                  <a:pt x="18388" y="11724"/>
                  <a:pt x="18397" y="11741"/>
                  <a:pt x="18405" y="11757"/>
                </a:cubicBezTo>
              </a:path>
              <a:path w="3127" h="894">
                <a:moveTo>
                  <a:pt x="18355" y="11485"/>
                </a:moveTo>
                <a:cubicBezTo>
                  <a:pt x="18363" y="11460"/>
                  <a:pt x="18414" y="11442"/>
                  <a:pt x="18455" y="11435"/>
                </a:cubicBezTo>
                <a:cubicBezTo>
                  <a:pt x="18521" y="11423"/>
                  <a:pt x="18576" y="11385"/>
                  <a:pt x="18628" y="11336"/>
                </a:cubicBezTo>
                <a:cubicBezTo>
                  <a:pt x="18675" y="11292"/>
                  <a:pt x="18701" y="11230"/>
                  <a:pt x="18678" y="11162"/>
                </a:cubicBezTo>
                <a:cubicBezTo>
                  <a:pt x="18658" y="11102"/>
                  <a:pt x="18633" y="11098"/>
                  <a:pt x="18579" y="11088"/>
                </a:cubicBezTo>
                <a:cubicBezTo>
                  <a:pt x="18592" y="11205"/>
                  <a:pt x="18633" y="11301"/>
                  <a:pt x="18678" y="11410"/>
                </a:cubicBezTo>
                <a:cubicBezTo>
                  <a:pt x="18742" y="11563"/>
                  <a:pt x="18812" y="11687"/>
                  <a:pt x="18926" y="11807"/>
                </a:cubicBezTo>
                <a:cubicBezTo>
                  <a:pt x="18977" y="11858"/>
                  <a:pt x="18995" y="11874"/>
                  <a:pt x="19050" y="11857"/>
                </a:cubicBezTo>
              </a:path>
              <a:path w="3127" h="894">
                <a:moveTo>
                  <a:pt x="19248" y="11485"/>
                </a:moveTo>
                <a:cubicBezTo>
                  <a:pt x="19259" y="11526"/>
                  <a:pt x="19292" y="11563"/>
                  <a:pt x="19298" y="11609"/>
                </a:cubicBezTo>
                <a:cubicBezTo>
                  <a:pt x="19310" y="11696"/>
                  <a:pt x="19317" y="11736"/>
                  <a:pt x="19372" y="11807"/>
                </a:cubicBezTo>
              </a:path>
              <a:path w="3127" h="894">
                <a:moveTo>
                  <a:pt x="19571" y="11633"/>
                </a:moveTo>
                <a:cubicBezTo>
                  <a:pt x="19608" y="11645"/>
                  <a:pt x="19599" y="11691"/>
                  <a:pt x="19621" y="11733"/>
                </a:cubicBezTo>
                <a:cubicBezTo>
                  <a:pt x="19651" y="11791"/>
                  <a:pt x="19775" y="11808"/>
                  <a:pt x="19844" y="11782"/>
                </a:cubicBezTo>
                <a:cubicBezTo>
                  <a:pt x="19907" y="11758"/>
                  <a:pt x="19994" y="11711"/>
                  <a:pt x="19968" y="11633"/>
                </a:cubicBezTo>
                <a:cubicBezTo>
                  <a:pt x="19944" y="11561"/>
                  <a:pt x="19864" y="11521"/>
                  <a:pt x="19794" y="11509"/>
                </a:cubicBezTo>
                <a:cubicBezTo>
                  <a:pt x="19724" y="11497"/>
                  <a:pt x="19671" y="11532"/>
                  <a:pt x="1964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5240" y="3983040"/>
            <a:ext cx="571680" cy="152280"/>
          </a:xfrm>
          <a:custGeom>
            <a:avLst/>
            <a:gdLst/>
            <a:ahLst/>
            <a:rect l="l" t="t" r="r" b="b"/>
            <a:pathLst>
              <a:path w="1588" h="423">
                <a:moveTo>
                  <a:pt x="21010" y="11336"/>
                </a:moveTo>
                <a:cubicBezTo>
                  <a:pt x="20972" y="11392"/>
                  <a:pt x="20955" y="11395"/>
                  <a:pt x="20960" y="11435"/>
                </a:cubicBezTo>
                <a:cubicBezTo>
                  <a:pt x="21031" y="11409"/>
                  <a:pt x="21075" y="11391"/>
                  <a:pt x="21134" y="11336"/>
                </a:cubicBezTo>
                <a:cubicBezTo>
                  <a:pt x="21167" y="11306"/>
                  <a:pt x="21169" y="11273"/>
                  <a:pt x="21183" y="11237"/>
                </a:cubicBezTo>
                <a:cubicBezTo>
                  <a:pt x="21122" y="11237"/>
                  <a:pt x="21084" y="11234"/>
                  <a:pt x="21034" y="11261"/>
                </a:cubicBezTo>
                <a:cubicBezTo>
                  <a:pt x="20971" y="11294"/>
                  <a:pt x="20963" y="11344"/>
                  <a:pt x="21010" y="11410"/>
                </a:cubicBezTo>
                <a:cubicBezTo>
                  <a:pt x="21073" y="11498"/>
                  <a:pt x="21209" y="11501"/>
                  <a:pt x="21307" y="11485"/>
                </a:cubicBezTo>
                <a:cubicBezTo>
                  <a:pt x="21416" y="11467"/>
                  <a:pt x="21502" y="11410"/>
                  <a:pt x="21580" y="11336"/>
                </a:cubicBezTo>
                <a:cubicBezTo>
                  <a:pt x="21619" y="11299"/>
                  <a:pt x="21666" y="11242"/>
                  <a:pt x="21729" y="11261"/>
                </a:cubicBezTo>
                <a:cubicBezTo>
                  <a:pt x="21761" y="11271"/>
                  <a:pt x="21769" y="11296"/>
                  <a:pt x="21779" y="11336"/>
                </a:cubicBezTo>
                <a:cubicBezTo>
                  <a:pt x="21779" y="11361"/>
                  <a:pt x="21779" y="11369"/>
                  <a:pt x="21779" y="11385"/>
                </a:cubicBezTo>
                <a:cubicBezTo>
                  <a:pt x="21831" y="11378"/>
                  <a:pt x="21838" y="11377"/>
                  <a:pt x="21878" y="11336"/>
                </a:cubicBezTo>
                <a:cubicBezTo>
                  <a:pt x="21920" y="11293"/>
                  <a:pt x="21960" y="11235"/>
                  <a:pt x="22027" y="11237"/>
                </a:cubicBezTo>
                <a:cubicBezTo>
                  <a:pt x="22094" y="11239"/>
                  <a:pt x="22114" y="11297"/>
                  <a:pt x="22175" y="11311"/>
                </a:cubicBezTo>
                <a:cubicBezTo>
                  <a:pt x="22251" y="11329"/>
                  <a:pt x="22299" y="11345"/>
                  <a:pt x="22374" y="11311"/>
                </a:cubicBezTo>
                <a:cubicBezTo>
                  <a:pt x="22428" y="11287"/>
                  <a:pt x="22490" y="11237"/>
                  <a:pt x="22523" y="11187"/>
                </a:cubicBezTo>
                <a:cubicBezTo>
                  <a:pt x="22549" y="11147"/>
                  <a:pt x="22561" y="11081"/>
                  <a:pt x="22498" y="11063"/>
                </a:cubicBezTo>
                <a:cubicBezTo>
                  <a:pt x="22429" y="11043"/>
                  <a:pt x="22386" y="11132"/>
                  <a:pt x="22374" y="11187"/>
                </a:cubicBezTo>
                <a:cubicBezTo>
                  <a:pt x="22353" y="11281"/>
                  <a:pt x="22396" y="11319"/>
                  <a:pt x="22473" y="11361"/>
                </a:cubicBezTo>
                <a:cubicBezTo>
                  <a:pt x="22490" y="11369"/>
                  <a:pt x="22506" y="11377"/>
                  <a:pt x="22523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5680" y="4518000"/>
            <a:ext cx="1081080" cy="366840"/>
          </a:xfrm>
          <a:custGeom>
            <a:avLst/>
            <a:gdLst/>
            <a:ahLst/>
            <a:rect l="l" t="t" r="r" b="b"/>
            <a:pathLst>
              <a:path w="3003" h="1018">
                <a:moveTo>
                  <a:pt x="17587" y="12675"/>
                </a:moveTo>
                <a:cubicBezTo>
                  <a:pt x="17547" y="12606"/>
                  <a:pt x="17526" y="12569"/>
                  <a:pt x="17438" y="12626"/>
                </a:cubicBezTo>
                <a:cubicBezTo>
                  <a:pt x="17330" y="12695"/>
                  <a:pt x="17256" y="12823"/>
                  <a:pt x="17239" y="12948"/>
                </a:cubicBezTo>
                <a:cubicBezTo>
                  <a:pt x="17215" y="13117"/>
                  <a:pt x="17284" y="13203"/>
                  <a:pt x="17438" y="13246"/>
                </a:cubicBezTo>
                <a:cubicBezTo>
                  <a:pt x="17563" y="13281"/>
                  <a:pt x="17638" y="13269"/>
                  <a:pt x="17760" y="13246"/>
                </a:cubicBezTo>
              </a:path>
              <a:path w="3003" h="1018">
                <a:moveTo>
                  <a:pt x="18132" y="13097"/>
                </a:moveTo>
                <a:cubicBezTo>
                  <a:pt x="18124" y="13089"/>
                  <a:pt x="18115" y="13080"/>
                  <a:pt x="18107" y="13072"/>
                </a:cubicBezTo>
                <a:cubicBezTo>
                  <a:pt x="18063" y="13117"/>
                  <a:pt x="18004" y="13159"/>
                  <a:pt x="17983" y="13221"/>
                </a:cubicBezTo>
                <a:cubicBezTo>
                  <a:pt x="17972" y="13253"/>
                  <a:pt x="18034" y="13305"/>
                  <a:pt x="18058" y="13320"/>
                </a:cubicBezTo>
                <a:cubicBezTo>
                  <a:pt x="18102" y="13348"/>
                  <a:pt x="18151" y="13363"/>
                  <a:pt x="18157" y="13419"/>
                </a:cubicBezTo>
                <a:cubicBezTo>
                  <a:pt x="18164" y="13479"/>
                  <a:pt x="18147" y="13499"/>
                  <a:pt x="18132" y="13543"/>
                </a:cubicBezTo>
                <a:cubicBezTo>
                  <a:pt x="18132" y="13551"/>
                  <a:pt x="18132" y="13560"/>
                  <a:pt x="18132" y="13568"/>
                </a:cubicBezTo>
              </a:path>
              <a:path w="3003" h="1018">
                <a:moveTo>
                  <a:pt x="18157" y="13047"/>
                </a:moveTo>
                <a:cubicBezTo>
                  <a:pt x="18195" y="13018"/>
                  <a:pt x="18208" y="13022"/>
                  <a:pt x="18256" y="13022"/>
                </a:cubicBezTo>
                <a:cubicBezTo>
                  <a:pt x="18289" y="13022"/>
                  <a:pt x="18306" y="13022"/>
                  <a:pt x="18331" y="13022"/>
                </a:cubicBezTo>
              </a:path>
              <a:path w="3003" h="1018">
                <a:moveTo>
                  <a:pt x="18579" y="12700"/>
                </a:moveTo>
                <a:cubicBezTo>
                  <a:pt x="18604" y="12650"/>
                  <a:pt x="18615" y="12760"/>
                  <a:pt x="18628" y="12799"/>
                </a:cubicBezTo>
                <a:cubicBezTo>
                  <a:pt x="18661" y="12895"/>
                  <a:pt x="18716" y="12976"/>
                  <a:pt x="18752" y="13072"/>
                </a:cubicBezTo>
                <a:cubicBezTo>
                  <a:pt x="18775" y="13133"/>
                  <a:pt x="18798" y="13187"/>
                  <a:pt x="18827" y="13246"/>
                </a:cubicBezTo>
              </a:path>
              <a:path w="3003" h="1018">
                <a:moveTo>
                  <a:pt x="18802" y="13047"/>
                </a:moveTo>
                <a:cubicBezTo>
                  <a:pt x="18802" y="12955"/>
                  <a:pt x="18800" y="12975"/>
                  <a:pt x="18876" y="12948"/>
                </a:cubicBezTo>
                <a:cubicBezTo>
                  <a:pt x="18956" y="12920"/>
                  <a:pt x="19072" y="12867"/>
                  <a:pt x="19124" y="12799"/>
                </a:cubicBezTo>
                <a:cubicBezTo>
                  <a:pt x="19169" y="12740"/>
                  <a:pt x="19151" y="12684"/>
                  <a:pt x="19124" y="12626"/>
                </a:cubicBezTo>
                <a:cubicBezTo>
                  <a:pt x="19103" y="12582"/>
                  <a:pt x="19100" y="12570"/>
                  <a:pt x="19075" y="12551"/>
                </a:cubicBezTo>
                <a:cubicBezTo>
                  <a:pt x="19029" y="12582"/>
                  <a:pt x="19049" y="12663"/>
                  <a:pt x="19075" y="12725"/>
                </a:cubicBezTo>
                <a:cubicBezTo>
                  <a:pt x="19126" y="12848"/>
                  <a:pt x="19209" y="13025"/>
                  <a:pt x="19298" y="13122"/>
                </a:cubicBezTo>
                <a:cubicBezTo>
                  <a:pt x="19348" y="13176"/>
                  <a:pt x="19410" y="13206"/>
                  <a:pt x="19472" y="13221"/>
                </a:cubicBezTo>
              </a:path>
              <a:path w="3003" h="1018">
                <a:moveTo>
                  <a:pt x="19968" y="13072"/>
                </a:moveTo>
                <a:cubicBezTo>
                  <a:pt x="19955" y="13032"/>
                  <a:pt x="19921" y="13026"/>
                  <a:pt x="19869" y="13022"/>
                </a:cubicBezTo>
                <a:cubicBezTo>
                  <a:pt x="19837" y="13019"/>
                  <a:pt x="19761" y="13067"/>
                  <a:pt x="19745" y="13097"/>
                </a:cubicBezTo>
                <a:cubicBezTo>
                  <a:pt x="19720" y="13144"/>
                  <a:pt x="19759" y="13181"/>
                  <a:pt x="19794" y="13196"/>
                </a:cubicBezTo>
                <a:cubicBezTo>
                  <a:pt x="19886" y="13236"/>
                  <a:pt x="19979" y="13235"/>
                  <a:pt x="20067" y="13271"/>
                </a:cubicBezTo>
                <a:cubicBezTo>
                  <a:pt x="20110" y="13289"/>
                  <a:pt x="20177" y="13333"/>
                  <a:pt x="20141" y="13395"/>
                </a:cubicBezTo>
                <a:cubicBezTo>
                  <a:pt x="20123" y="13425"/>
                  <a:pt x="20037" y="13512"/>
                  <a:pt x="19993" y="13494"/>
                </a:cubicBezTo>
                <a:cubicBezTo>
                  <a:pt x="19985" y="13486"/>
                  <a:pt x="19976" y="13477"/>
                  <a:pt x="19968" y="13469"/>
                </a:cubicBezTo>
                <a:cubicBezTo>
                  <a:pt x="19980" y="13374"/>
                  <a:pt x="20018" y="13281"/>
                  <a:pt x="20067" y="13196"/>
                </a:cubicBezTo>
                <a:cubicBezTo>
                  <a:pt x="20118" y="13107"/>
                  <a:pt x="20188" y="13033"/>
                  <a:pt x="20241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78800" y="4510080"/>
            <a:ext cx="590400" cy="312840"/>
          </a:xfrm>
          <a:custGeom>
            <a:avLst/>
            <a:gdLst/>
            <a:ahLst/>
            <a:rect l="l" t="t" r="r" b="b"/>
            <a:pathLst>
              <a:path w="1638" h="870">
                <a:moveTo>
                  <a:pt x="21357" y="12700"/>
                </a:moveTo>
                <a:cubicBezTo>
                  <a:pt x="21341" y="12737"/>
                  <a:pt x="21310" y="12809"/>
                  <a:pt x="21382" y="12824"/>
                </a:cubicBezTo>
                <a:cubicBezTo>
                  <a:pt x="21482" y="12845"/>
                  <a:pt x="21609" y="12827"/>
                  <a:pt x="21704" y="12799"/>
                </a:cubicBezTo>
                <a:cubicBezTo>
                  <a:pt x="21725" y="12793"/>
                  <a:pt x="21853" y="12756"/>
                  <a:pt x="21828" y="12700"/>
                </a:cubicBezTo>
                <a:cubicBezTo>
                  <a:pt x="21820" y="12692"/>
                  <a:pt x="21811" y="12683"/>
                  <a:pt x="21803" y="12675"/>
                </a:cubicBezTo>
                <a:cubicBezTo>
                  <a:pt x="21749" y="12689"/>
                  <a:pt x="21722" y="12743"/>
                  <a:pt x="21704" y="12799"/>
                </a:cubicBezTo>
                <a:cubicBezTo>
                  <a:pt x="21660" y="12935"/>
                  <a:pt x="21670" y="13085"/>
                  <a:pt x="21704" y="13221"/>
                </a:cubicBezTo>
                <a:cubicBezTo>
                  <a:pt x="21720" y="13284"/>
                  <a:pt x="21750" y="13338"/>
                  <a:pt x="21779" y="13395"/>
                </a:cubicBezTo>
              </a:path>
              <a:path w="1638" h="870">
                <a:moveTo>
                  <a:pt x="22126" y="12700"/>
                </a:moveTo>
                <a:cubicBezTo>
                  <a:pt x="22169" y="12758"/>
                  <a:pt x="22143" y="12756"/>
                  <a:pt x="22126" y="12824"/>
                </a:cubicBezTo>
                <a:cubicBezTo>
                  <a:pt x="22119" y="12853"/>
                  <a:pt x="22126" y="12893"/>
                  <a:pt x="22126" y="12923"/>
                </a:cubicBezTo>
                <a:cubicBezTo>
                  <a:pt x="22149" y="12915"/>
                  <a:pt x="22179" y="12882"/>
                  <a:pt x="22200" y="12849"/>
                </a:cubicBezTo>
                <a:cubicBezTo>
                  <a:pt x="22228" y="12805"/>
                  <a:pt x="22265" y="12700"/>
                  <a:pt x="22299" y="12675"/>
                </a:cubicBezTo>
                <a:cubicBezTo>
                  <a:pt x="22324" y="12657"/>
                  <a:pt x="22385" y="12679"/>
                  <a:pt x="22399" y="12700"/>
                </a:cubicBezTo>
                <a:cubicBezTo>
                  <a:pt x="22430" y="12746"/>
                  <a:pt x="22464" y="12808"/>
                  <a:pt x="22523" y="12824"/>
                </a:cubicBezTo>
                <a:cubicBezTo>
                  <a:pt x="22564" y="12824"/>
                  <a:pt x="22572" y="12824"/>
                  <a:pt x="22597" y="12824"/>
                </a:cubicBezTo>
              </a:path>
              <a:path w="1638" h="870">
                <a:moveTo>
                  <a:pt x="22746" y="12700"/>
                </a:moveTo>
                <a:cubicBezTo>
                  <a:pt x="22746" y="12725"/>
                  <a:pt x="22746" y="12733"/>
                  <a:pt x="22746" y="12750"/>
                </a:cubicBezTo>
                <a:cubicBezTo>
                  <a:pt x="22781" y="12750"/>
                  <a:pt x="22849" y="12751"/>
                  <a:pt x="22870" y="12725"/>
                </a:cubicBezTo>
                <a:cubicBezTo>
                  <a:pt x="22902" y="12686"/>
                  <a:pt x="22939" y="12625"/>
                  <a:pt x="22944" y="12576"/>
                </a:cubicBezTo>
                <a:cubicBezTo>
                  <a:pt x="22944" y="12568"/>
                  <a:pt x="22944" y="12559"/>
                  <a:pt x="22944" y="12551"/>
                </a:cubicBezTo>
                <a:cubicBezTo>
                  <a:pt x="22883" y="12526"/>
                  <a:pt x="22834" y="12570"/>
                  <a:pt x="22820" y="12650"/>
                </a:cubicBezTo>
                <a:cubicBezTo>
                  <a:pt x="22803" y="12750"/>
                  <a:pt x="22821" y="12874"/>
                  <a:pt x="22895" y="12948"/>
                </a:cubicBezTo>
                <a:cubicBezTo>
                  <a:pt x="22920" y="12965"/>
                  <a:pt x="22944" y="12981"/>
                  <a:pt x="22969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roma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1 or more 6 C unsaturated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zene 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reactions different than alk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n sooty instead of c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go substitution instead of 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z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, BP = 80°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C-C bond lengths and bond angles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0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nd lengths between C-C and C=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ar mole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nanc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9880" y="4876920"/>
            <a:ext cx="4760280" cy="1460520"/>
            <a:chOff x="3809880" y="4876920"/>
            <a:chExt cx="4760280" cy="1460520"/>
          </a:xfrm>
        </p:grpSpPr>
        <p:graphicFrame>
          <p:nvGraphicFramePr>
            <p:cNvPr id="149" name=""/>
            <p:cNvGraphicFramePr/>
            <p:nvPr/>
          </p:nvGraphicFramePr>
          <p:xfrm>
            <a:off x="3809880" y="4876920"/>
            <a:ext cx="3178440" cy="146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4876920"/>
                      <a:ext cx="317844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7728840" y="5038560"/>
              <a:ext cx="841320" cy="990720"/>
              <a:chOff x="7728840" y="5038560"/>
              <a:chExt cx="841320" cy="990720"/>
            </a:xfrm>
          </p:grpSpPr>
          <p:sp>
            <p:nvSpPr>
              <p:cNvPr id="152" name=""/>
              <p:cNvSpPr/>
              <p:nvPr/>
            </p:nvSpPr>
            <p:spPr>
              <a:xfrm flipH="1" rot="16200000">
                <a:off x="7653600" y="5113080"/>
                <a:ext cx="990720" cy="841320"/>
              </a:xfrm>
              <a:prstGeom prst="hexagon">
                <a:avLst>
                  <a:gd name="adj" fmla="val 29423"/>
                  <a:gd name="vf" fmla="val 115470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54840" y="5289480"/>
                <a:ext cx="585720" cy="573120"/>
              </a:xfrm>
              <a:prstGeom prst="ellipse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129440" y="5451480"/>
              <a:ext cx="414360" cy="168120"/>
              <a:chOff x="7129440" y="5451480"/>
              <a:chExt cx="414360" cy="168120"/>
            </a:xfrm>
          </p:grpSpPr>
          <p:sp>
            <p:nvSpPr>
              <p:cNvPr id="155" name=""/>
              <p:cNvSpPr/>
              <p:nvPr/>
            </p:nvSpPr>
            <p:spPr>
              <a:xfrm>
                <a:off x="7129440" y="545148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29440" y="553572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29440" y="561960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aming Benzene Derivativ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name either benzene or one of the common deriv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ng numbered from position of main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= ortho (o), 3 = meta (m), 4 = para (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84720" y="2895480"/>
            <a:ext cx="5758560" cy="3360600"/>
            <a:chOff x="1584720" y="2895480"/>
            <a:chExt cx="5758560" cy="3360600"/>
          </a:xfrm>
        </p:grpSpPr>
        <p:sp>
          <p:nvSpPr>
            <p:cNvPr id="161" name=""/>
            <p:cNvSpPr/>
            <p:nvPr/>
          </p:nvSpPr>
          <p:spPr>
            <a:xfrm>
              <a:off x="6594840" y="5967360"/>
              <a:ext cx="748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p-Creso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5880" y="5967360"/>
              <a:ext cx="10044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m-Toluidi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16760" y="5967360"/>
              <a:ext cx="794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-Xyl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5480" y="5967360"/>
              <a:ext cx="693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nisol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8440" y="5967360"/>
              <a:ext cx="675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nili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1960" y="5969160"/>
              <a:ext cx="638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Pheno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0680" y="5094360"/>
              <a:ext cx="42408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260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1560" y="509436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676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9640" y="4206960"/>
              <a:ext cx="1132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cetopheno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5440" y="3560760"/>
              <a:ext cx="423720" cy="439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68800" y="4206960"/>
              <a:ext cx="1114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Benzaldehyd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0560" y="4206960"/>
              <a:ext cx="72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Benzoi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00560" y="4367160"/>
              <a:ext cx="501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85160" y="4206960"/>
              <a:ext cx="684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Styr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8360" y="4206960"/>
              <a:ext cx="730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um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4720" y="4206960"/>
              <a:ext cx="72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Tolu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8588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0520" y="509436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3872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7364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7508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3800" y="355932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680" y="3559320"/>
              <a:ext cx="42516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59696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159192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919160" y="3979800"/>
              <a:ext cx="3398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5252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32120" y="339408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60488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2420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47644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47140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798640" y="3979800"/>
              <a:ext cx="3398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1600" y="339408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8436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368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35772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351240" y="396684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68100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328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9396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363840" y="3379680"/>
              <a:ext cx="3142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604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25592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249800" y="396684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7956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184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9252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62400" y="3379680"/>
              <a:ext cx="3142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8460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2136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11632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44320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7548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5616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12928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4824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08720" y="3164040"/>
              <a:ext cx="9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38680" y="313704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838680" y="319248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583160" y="3158640"/>
              <a:ext cx="1872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94160" y="3084480"/>
              <a:ext cx="10476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1160" y="3036960"/>
              <a:ext cx="10476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5213160" y="3017880"/>
              <a:ext cx="19836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41960" y="3067200"/>
              <a:ext cx="13320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1280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607760" y="550188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935000" y="5514840"/>
              <a:ext cx="33840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692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47960" y="4929120"/>
              <a:ext cx="3124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620720" y="4914720"/>
              <a:ext cx="31284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004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7032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465280" y="5501880"/>
              <a:ext cx="33840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79216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0512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478240" y="491472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9720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058080" y="3579480"/>
              <a:ext cx="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053040" y="3965400"/>
              <a:ext cx="33840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379920" y="3979800"/>
              <a:ext cx="3394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13640" y="3592440"/>
              <a:ext cx="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92880" y="33973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066000" y="338256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84960" y="3241800"/>
              <a:ext cx="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446520" y="3166920"/>
              <a:ext cx="9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78680" y="3078000"/>
              <a:ext cx="12384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03880" y="3030480"/>
              <a:ext cx="1238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39084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385800" y="550188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713040" y="5514840"/>
              <a:ext cx="3398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640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6000" y="49291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98760" y="4914720"/>
              <a:ext cx="31284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808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26420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257720" y="550188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58748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1976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44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270320" y="4914720"/>
              <a:ext cx="3142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252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915080" y="5052960"/>
              <a:ext cx="13320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7704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472000" y="5501880"/>
              <a:ext cx="33840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798880" y="5514840"/>
              <a:ext cx="33948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3260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11840" y="49291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484960" y="491472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0392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127560" y="5500440"/>
              <a:ext cx="12852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8332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6576840" y="550188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90696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888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1992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589800" y="4914720"/>
              <a:ext cx="3142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200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12000" y="569412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156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664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26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986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908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9208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812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0280" y="3057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42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002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924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57560" y="3057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730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90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792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540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5756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6320" y="290340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2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68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9960" y="2895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4832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255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8128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7344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704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3360" y="3059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0840" y="289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89360" y="3059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75400" y="3059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7560" y="31035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21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540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8144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360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7948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6552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948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93920" y="48988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9960" y="48988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73560" y="49417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9232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783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052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02440" y="550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96040" y="550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88200" y="55548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896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8500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7860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4640" y="5816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86440" y="5816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ny organic compounds, C-to-H bonds are replaced by bonds to other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Halogen, C-to-O, C-to-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asionally (C-to-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compounds are generally consider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carbon deriv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ally hydrocarbons with a few substit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substituted bonds are more reactive than C-H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molecules with the substituted bonds react, the reaction site is generally at the substituted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substituted atoms or groups of atoms are call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al groups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y generally determine the chemical reactions an organic molecule will under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lso have influences on intermolecular attractions and therefore phys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7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n –OH group in place of a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 H-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cohol molecules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bility in water decreases as length of carbon chain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reactions include substitution for OH, elimination, ox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coh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37339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–OH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from the end closest to the –OH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7200" y="250920"/>
            <a:ext cx="2776680" cy="677880"/>
          </a:xfrm>
          <a:custGeom>
            <a:avLst/>
            <a:gdLst/>
            <a:ahLst/>
            <a:rect l="l" t="t" r="r" b="b"/>
            <a:pathLst>
              <a:path w="7715" h="1886">
                <a:moveTo>
                  <a:pt x="17190" y="744"/>
                </a:moveTo>
                <a:cubicBezTo>
                  <a:pt x="17212" y="722"/>
                  <a:pt x="17220" y="717"/>
                  <a:pt x="17214" y="695"/>
                </a:cubicBezTo>
                <a:cubicBezTo>
                  <a:pt x="17118" y="695"/>
                  <a:pt x="17083" y="693"/>
                  <a:pt x="16991" y="744"/>
                </a:cubicBezTo>
                <a:cubicBezTo>
                  <a:pt x="16895" y="797"/>
                  <a:pt x="16757" y="901"/>
                  <a:pt x="16768" y="1017"/>
                </a:cubicBezTo>
                <a:cubicBezTo>
                  <a:pt x="16779" y="1137"/>
                  <a:pt x="17030" y="1181"/>
                  <a:pt x="17115" y="1191"/>
                </a:cubicBezTo>
                <a:cubicBezTo>
                  <a:pt x="17242" y="1205"/>
                  <a:pt x="17363" y="1185"/>
                  <a:pt x="17487" y="1166"/>
                </a:cubicBezTo>
              </a:path>
              <a:path w="7715" h="1886">
                <a:moveTo>
                  <a:pt x="17810" y="943"/>
                </a:moveTo>
                <a:cubicBezTo>
                  <a:pt x="17830" y="999"/>
                  <a:pt x="17923" y="981"/>
                  <a:pt x="17983" y="992"/>
                </a:cubicBezTo>
                <a:cubicBezTo>
                  <a:pt x="18083" y="1011"/>
                  <a:pt x="18153" y="1017"/>
                  <a:pt x="18256" y="1017"/>
                </a:cubicBezTo>
              </a:path>
              <a:path w="7715" h="1886">
                <a:moveTo>
                  <a:pt x="18703" y="868"/>
                </a:moveTo>
                <a:cubicBezTo>
                  <a:pt x="18589" y="868"/>
                  <a:pt x="18535" y="879"/>
                  <a:pt x="18430" y="918"/>
                </a:cubicBezTo>
                <a:cubicBezTo>
                  <a:pt x="18353" y="947"/>
                  <a:pt x="18223" y="1008"/>
                  <a:pt x="18256" y="1116"/>
                </a:cubicBezTo>
                <a:cubicBezTo>
                  <a:pt x="18315" y="1307"/>
                  <a:pt x="18544" y="1348"/>
                  <a:pt x="18703" y="1364"/>
                </a:cubicBezTo>
              </a:path>
              <a:path w="7715" h="1886">
                <a:moveTo>
                  <a:pt x="19199" y="1091"/>
                </a:moveTo>
                <a:cubicBezTo>
                  <a:pt x="19182" y="1091"/>
                  <a:pt x="19166" y="1091"/>
                  <a:pt x="19149" y="1091"/>
                </a:cubicBezTo>
                <a:cubicBezTo>
                  <a:pt x="19196" y="1126"/>
                  <a:pt x="19288" y="1135"/>
                  <a:pt x="19348" y="1141"/>
                </a:cubicBezTo>
                <a:cubicBezTo>
                  <a:pt x="19494" y="1155"/>
                  <a:pt x="19648" y="1141"/>
                  <a:pt x="19794" y="1141"/>
                </a:cubicBezTo>
              </a:path>
              <a:path w="7715" h="1886">
                <a:moveTo>
                  <a:pt x="20265" y="1042"/>
                </a:moveTo>
                <a:cubicBezTo>
                  <a:pt x="20165" y="1014"/>
                  <a:pt x="20118" y="1011"/>
                  <a:pt x="20017" y="1042"/>
                </a:cubicBezTo>
                <a:cubicBezTo>
                  <a:pt x="19939" y="1066"/>
                  <a:pt x="19801" y="1100"/>
                  <a:pt x="19769" y="1191"/>
                </a:cubicBezTo>
                <a:cubicBezTo>
                  <a:pt x="19730" y="1302"/>
                  <a:pt x="19837" y="1413"/>
                  <a:pt x="19918" y="1463"/>
                </a:cubicBezTo>
                <a:cubicBezTo>
                  <a:pt x="20015" y="1512"/>
                  <a:pt x="20045" y="1528"/>
                  <a:pt x="20117" y="1538"/>
                </a:cubicBezTo>
              </a:path>
              <a:path w="7715" h="1886">
                <a:moveTo>
                  <a:pt x="21010" y="1265"/>
                </a:moveTo>
                <a:cubicBezTo>
                  <a:pt x="21055" y="1245"/>
                  <a:pt x="21091" y="1226"/>
                  <a:pt x="21134" y="1215"/>
                </a:cubicBezTo>
                <a:cubicBezTo>
                  <a:pt x="21066" y="1182"/>
                  <a:pt x="20981" y="1192"/>
                  <a:pt x="20910" y="1240"/>
                </a:cubicBezTo>
                <a:cubicBezTo>
                  <a:pt x="20795" y="1317"/>
                  <a:pt x="20799" y="1387"/>
                  <a:pt x="20861" y="1488"/>
                </a:cubicBezTo>
                <a:cubicBezTo>
                  <a:pt x="20931" y="1603"/>
                  <a:pt x="21125" y="1647"/>
                  <a:pt x="21258" y="1662"/>
                </a:cubicBezTo>
                <a:cubicBezTo>
                  <a:pt x="21299" y="1662"/>
                  <a:pt x="21341" y="1662"/>
                  <a:pt x="21382" y="1662"/>
                </a:cubicBezTo>
              </a:path>
              <a:path w="7715" h="1886">
                <a:moveTo>
                  <a:pt x="22275" y="1439"/>
                </a:moveTo>
                <a:cubicBezTo>
                  <a:pt x="22234" y="1415"/>
                  <a:pt x="22180" y="1402"/>
                  <a:pt x="22126" y="1414"/>
                </a:cubicBezTo>
                <a:cubicBezTo>
                  <a:pt x="22026" y="1437"/>
                  <a:pt x="21945" y="1525"/>
                  <a:pt x="21977" y="1637"/>
                </a:cubicBezTo>
                <a:cubicBezTo>
                  <a:pt x="22019" y="1785"/>
                  <a:pt x="22152" y="1845"/>
                  <a:pt x="22275" y="1910"/>
                </a:cubicBezTo>
              </a:path>
              <a:path w="7715" h="1886">
                <a:moveTo>
                  <a:pt x="22622" y="1637"/>
                </a:moveTo>
                <a:cubicBezTo>
                  <a:pt x="22636" y="1594"/>
                  <a:pt x="22697" y="1624"/>
                  <a:pt x="22746" y="1637"/>
                </a:cubicBezTo>
                <a:cubicBezTo>
                  <a:pt x="22840" y="1662"/>
                  <a:pt x="22897" y="1703"/>
                  <a:pt x="22994" y="1712"/>
                </a:cubicBezTo>
              </a:path>
              <a:path w="7715" h="1886">
                <a:moveTo>
                  <a:pt x="22845" y="1860"/>
                </a:moveTo>
                <a:cubicBezTo>
                  <a:pt x="22822" y="1883"/>
                  <a:pt x="22814" y="1887"/>
                  <a:pt x="22820" y="1910"/>
                </a:cubicBezTo>
                <a:cubicBezTo>
                  <a:pt x="22897" y="1920"/>
                  <a:pt x="22962" y="1935"/>
                  <a:pt x="23044" y="1935"/>
                </a:cubicBezTo>
              </a:path>
              <a:path w="7715" h="1886">
                <a:moveTo>
                  <a:pt x="23564" y="1786"/>
                </a:moveTo>
                <a:cubicBezTo>
                  <a:pt x="23485" y="1805"/>
                  <a:pt x="23345" y="1813"/>
                  <a:pt x="23316" y="1910"/>
                </a:cubicBezTo>
                <a:cubicBezTo>
                  <a:pt x="23288" y="2007"/>
                  <a:pt x="23448" y="2051"/>
                  <a:pt x="23515" y="2059"/>
                </a:cubicBezTo>
                <a:cubicBezTo>
                  <a:pt x="23609" y="2071"/>
                  <a:pt x="23721" y="2082"/>
                  <a:pt x="23763" y="1984"/>
                </a:cubicBezTo>
                <a:cubicBezTo>
                  <a:pt x="23788" y="1925"/>
                  <a:pt x="23671" y="1843"/>
                  <a:pt x="23639" y="1811"/>
                </a:cubicBezTo>
              </a:path>
              <a:path w="7715" h="1886">
                <a:moveTo>
                  <a:pt x="24085" y="1935"/>
                </a:moveTo>
                <a:cubicBezTo>
                  <a:pt x="24034" y="1987"/>
                  <a:pt x="24006" y="1983"/>
                  <a:pt x="23961" y="2034"/>
                </a:cubicBezTo>
                <a:cubicBezTo>
                  <a:pt x="23910" y="2092"/>
                  <a:pt x="23909" y="2143"/>
                  <a:pt x="23887" y="2208"/>
                </a:cubicBezTo>
                <a:cubicBezTo>
                  <a:pt x="23869" y="2262"/>
                  <a:pt x="23862" y="2277"/>
                  <a:pt x="23862" y="2332"/>
                </a:cubicBezTo>
              </a:path>
              <a:path w="7715" h="1886">
                <a:moveTo>
                  <a:pt x="23912" y="2084"/>
                </a:moveTo>
                <a:cubicBezTo>
                  <a:pt x="23912" y="2092"/>
                  <a:pt x="23912" y="2100"/>
                  <a:pt x="23912" y="2108"/>
                </a:cubicBezTo>
                <a:cubicBezTo>
                  <a:pt x="23948" y="2108"/>
                  <a:pt x="23984" y="2115"/>
                  <a:pt x="24011" y="2133"/>
                </a:cubicBezTo>
                <a:cubicBezTo>
                  <a:pt x="24057" y="2163"/>
                  <a:pt x="24085" y="2193"/>
                  <a:pt x="24135" y="2208"/>
                </a:cubicBezTo>
                <a:cubicBezTo>
                  <a:pt x="24177" y="2221"/>
                  <a:pt x="24169" y="2202"/>
                  <a:pt x="24209" y="2232"/>
                </a:cubicBezTo>
              </a:path>
              <a:path w="7715" h="1886">
                <a:moveTo>
                  <a:pt x="24482" y="2133"/>
                </a:moveTo>
                <a:cubicBezTo>
                  <a:pt x="24408" y="2133"/>
                  <a:pt x="24453" y="2149"/>
                  <a:pt x="24408" y="2208"/>
                </a:cubicBezTo>
                <a:cubicBezTo>
                  <a:pt x="24352" y="2281"/>
                  <a:pt x="24259" y="2416"/>
                  <a:pt x="24234" y="2505"/>
                </a:cubicBezTo>
                <a:cubicBezTo>
                  <a:pt x="24234" y="2547"/>
                  <a:pt x="24234" y="2555"/>
                  <a:pt x="24234" y="2580"/>
                </a:cubicBezTo>
              </a:path>
              <a:path w="7715" h="1886">
                <a:moveTo>
                  <a:pt x="21605" y="1414"/>
                </a:moveTo>
                <a:cubicBezTo>
                  <a:pt x="21645" y="1474"/>
                  <a:pt x="21674" y="1484"/>
                  <a:pt x="21754" y="1488"/>
                </a:cubicBezTo>
                <a:cubicBezTo>
                  <a:pt x="21812" y="1488"/>
                  <a:pt x="21837" y="1488"/>
                  <a:pt x="21878" y="1488"/>
                </a:cubicBezTo>
              </a:path>
              <a:path w="7715" h="1886">
                <a:moveTo>
                  <a:pt x="20538" y="1265"/>
                </a:moveTo>
                <a:cubicBezTo>
                  <a:pt x="20479" y="1265"/>
                  <a:pt x="20617" y="1311"/>
                  <a:pt x="20638" y="1315"/>
                </a:cubicBezTo>
                <a:cubicBezTo>
                  <a:pt x="20716" y="1329"/>
                  <a:pt x="20759" y="1336"/>
                  <a:pt x="20836" y="13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4000" y="677880"/>
            <a:ext cx="2662200" cy="1903320"/>
          </a:xfrm>
          <a:custGeom>
            <a:avLst/>
            <a:gdLst/>
            <a:ahLst/>
            <a:rect l="l" t="t" r="r" b="b"/>
            <a:pathLst>
              <a:path w="7393" h="5285">
                <a:moveTo>
                  <a:pt x="17462" y="3175"/>
                </a:moveTo>
                <a:cubicBezTo>
                  <a:pt x="17393" y="3114"/>
                  <a:pt x="17355" y="3074"/>
                  <a:pt x="17264" y="3125"/>
                </a:cubicBezTo>
                <a:cubicBezTo>
                  <a:pt x="17141" y="3194"/>
                  <a:pt x="17056" y="3302"/>
                  <a:pt x="16991" y="3423"/>
                </a:cubicBezTo>
                <a:cubicBezTo>
                  <a:pt x="16931" y="3535"/>
                  <a:pt x="16916" y="3625"/>
                  <a:pt x="17041" y="3696"/>
                </a:cubicBezTo>
                <a:cubicBezTo>
                  <a:pt x="17138" y="3751"/>
                  <a:pt x="17264" y="3719"/>
                  <a:pt x="17363" y="3696"/>
                </a:cubicBezTo>
              </a:path>
              <a:path w="7393" h="5285">
                <a:moveTo>
                  <a:pt x="17438" y="2555"/>
                </a:moveTo>
                <a:cubicBezTo>
                  <a:pt x="17354" y="2638"/>
                  <a:pt x="17327" y="2691"/>
                  <a:pt x="17289" y="2803"/>
                </a:cubicBezTo>
                <a:cubicBezTo>
                  <a:pt x="17258" y="2895"/>
                  <a:pt x="17264" y="2980"/>
                  <a:pt x="17264" y="3076"/>
                </a:cubicBezTo>
                <a:cubicBezTo>
                  <a:pt x="17264" y="3084"/>
                  <a:pt x="17264" y="3093"/>
                  <a:pt x="17264" y="3101"/>
                </a:cubicBezTo>
              </a:path>
              <a:path w="7393" h="5285">
                <a:moveTo>
                  <a:pt x="16346" y="3572"/>
                </a:moveTo>
                <a:cubicBezTo>
                  <a:pt x="16321" y="3572"/>
                  <a:pt x="16313" y="3572"/>
                  <a:pt x="16321" y="3547"/>
                </a:cubicBezTo>
                <a:cubicBezTo>
                  <a:pt x="16375" y="3515"/>
                  <a:pt x="16453" y="3492"/>
                  <a:pt x="16520" y="3473"/>
                </a:cubicBezTo>
                <a:cubicBezTo>
                  <a:pt x="16618" y="3445"/>
                  <a:pt x="16719" y="3423"/>
                  <a:pt x="16818" y="3398"/>
                </a:cubicBezTo>
              </a:path>
              <a:path w="7393" h="5285">
                <a:moveTo>
                  <a:pt x="17140" y="3969"/>
                </a:moveTo>
                <a:cubicBezTo>
                  <a:pt x="17094" y="4048"/>
                  <a:pt x="17090" y="4070"/>
                  <a:pt x="17090" y="4167"/>
                </a:cubicBezTo>
                <a:cubicBezTo>
                  <a:pt x="17090" y="4250"/>
                  <a:pt x="17090" y="4332"/>
                  <a:pt x="17090" y="4415"/>
                </a:cubicBezTo>
              </a:path>
              <a:path w="7393" h="5285">
                <a:moveTo>
                  <a:pt x="17115" y="1935"/>
                </a:moveTo>
                <a:cubicBezTo>
                  <a:pt x="17095" y="2008"/>
                  <a:pt x="17090" y="2058"/>
                  <a:pt x="17090" y="2133"/>
                </a:cubicBezTo>
                <a:cubicBezTo>
                  <a:pt x="17090" y="2216"/>
                  <a:pt x="17103" y="2257"/>
                  <a:pt x="17140" y="2332"/>
                </a:cubicBezTo>
              </a:path>
              <a:path w="7393" h="5285">
                <a:moveTo>
                  <a:pt x="17140" y="2183"/>
                </a:moveTo>
                <a:cubicBezTo>
                  <a:pt x="17196" y="2169"/>
                  <a:pt x="17251" y="2153"/>
                  <a:pt x="17314" y="2133"/>
                </a:cubicBezTo>
                <a:cubicBezTo>
                  <a:pt x="17397" y="2107"/>
                  <a:pt x="17479" y="2084"/>
                  <a:pt x="17562" y="2059"/>
                </a:cubicBezTo>
              </a:path>
              <a:path w="7393" h="5285">
                <a:moveTo>
                  <a:pt x="17562" y="1885"/>
                </a:moveTo>
                <a:cubicBezTo>
                  <a:pt x="17473" y="1925"/>
                  <a:pt x="17487" y="1902"/>
                  <a:pt x="17487" y="1984"/>
                </a:cubicBezTo>
                <a:cubicBezTo>
                  <a:pt x="17487" y="2076"/>
                  <a:pt x="17537" y="2146"/>
                  <a:pt x="17562" y="2232"/>
                </a:cubicBezTo>
                <a:cubicBezTo>
                  <a:pt x="17570" y="2265"/>
                  <a:pt x="17579" y="2299"/>
                  <a:pt x="17587" y="2332"/>
                </a:cubicBezTo>
              </a:path>
              <a:path w="7393" h="5285">
                <a:moveTo>
                  <a:pt x="15825" y="3497"/>
                </a:moveTo>
                <a:cubicBezTo>
                  <a:pt x="15776" y="3540"/>
                  <a:pt x="15672" y="3605"/>
                  <a:pt x="15652" y="3671"/>
                </a:cubicBezTo>
                <a:cubicBezTo>
                  <a:pt x="15631" y="3742"/>
                  <a:pt x="15643" y="3908"/>
                  <a:pt x="15677" y="3969"/>
                </a:cubicBezTo>
                <a:cubicBezTo>
                  <a:pt x="15701" y="3994"/>
                  <a:pt x="15709" y="4002"/>
                  <a:pt x="15726" y="4018"/>
                </a:cubicBezTo>
              </a:path>
              <a:path w="7393" h="5285">
                <a:moveTo>
                  <a:pt x="15677" y="3870"/>
                </a:moveTo>
                <a:cubicBezTo>
                  <a:pt x="15740" y="3833"/>
                  <a:pt x="15790" y="3786"/>
                  <a:pt x="15850" y="3746"/>
                </a:cubicBezTo>
                <a:cubicBezTo>
                  <a:pt x="15867" y="3738"/>
                  <a:pt x="15883" y="3729"/>
                  <a:pt x="15900" y="3721"/>
                </a:cubicBezTo>
              </a:path>
              <a:path w="7393" h="5285">
                <a:moveTo>
                  <a:pt x="15999" y="3473"/>
                </a:moveTo>
                <a:cubicBezTo>
                  <a:pt x="15959" y="3453"/>
                  <a:pt x="15952" y="3444"/>
                  <a:pt x="15925" y="3448"/>
                </a:cubicBezTo>
                <a:cubicBezTo>
                  <a:pt x="15907" y="3538"/>
                  <a:pt x="15916" y="3553"/>
                  <a:pt x="15925" y="3646"/>
                </a:cubicBezTo>
                <a:cubicBezTo>
                  <a:pt x="15936" y="3763"/>
                  <a:pt x="15940" y="3878"/>
                  <a:pt x="15949" y="3994"/>
                </a:cubicBezTo>
              </a:path>
              <a:path w="7393" h="5285">
                <a:moveTo>
                  <a:pt x="16966" y="4564"/>
                </a:moveTo>
                <a:cubicBezTo>
                  <a:pt x="16929" y="4640"/>
                  <a:pt x="16878" y="4727"/>
                  <a:pt x="16867" y="4812"/>
                </a:cubicBezTo>
                <a:cubicBezTo>
                  <a:pt x="16853" y="4922"/>
                  <a:pt x="16896" y="4984"/>
                  <a:pt x="16966" y="5060"/>
                </a:cubicBezTo>
                <a:cubicBezTo>
                  <a:pt x="16974" y="5068"/>
                  <a:pt x="16983" y="5077"/>
                  <a:pt x="16991" y="5085"/>
                </a:cubicBezTo>
              </a:path>
              <a:path w="7393" h="5285">
                <a:moveTo>
                  <a:pt x="16867" y="5035"/>
                </a:moveTo>
                <a:cubicBezTo>
                  <a:pt x="16885" y="4984"/>
                  <a:pt x="16961" y="4968"/>
                  <a:pt x="17016" y="4936"/>
                </a:cubicBezTo>
                <a:cubicBezTo>
                  <a:pt x="17100" y="4888"/>
                  <a:pt x="17182" y="4838"/>
                  <a:pt x="17264" y="4787"/>
                </a:cubicBezTo>
              </a:path>
              <a:path w="7393" h="5285">
                <a:moveTo>
                  <a:pt x="17314" y="4490"/>
                </a:moveTo>
                <a:cubicBezTo>
                  <a:pt x="17217" y="4528"/>
                  <a:pt x="17192" y="4547"/>
                  <a:pt x="17214" y="4663"/>
                </a:cubicBezTo>
                <a:cubicBezTo>
                  <a:pt x="17231" y="4749"/>
                  <a:pt x="17283" y="4799"/>
                  <a:pt x="17338" y="4862"/>
                </a:cubicBezTo>
              </a:path>
              <a:path w="7393" h="5285">
                <a:moveTo>
                  <a:pt x="17760" y="3522"/>
                </a:moveTo>
                <a:cubicBezTo>
                  <a:pt x="17816" y="3522"/>
                  <a:pt x="17858" y="3504"/>
                  <a:pt x="17909" y="3497"/>
                </a:cubicBezTo>
                <a:cubicBezTo>
                  <a:pt x="18026" y="3482"/>
                  <a:pt x="18140" y="3457"/>
                  <a:pt x="18256" y="3423"/>
                </a:cubicBezTo>
                <a:cubicBezTo>
                  <a:pt x="18329" y="3399"/>
                  <a:pt x="18353" y="3390"/>
                  <a:pt x="18405" y="3398"/>
                </a:cubicBezTo>
              </a:path>
              <a:path w="7393" h="5285">
                <a:moveTo>
                  <a:pt x="18926" y="3200"/>
                </a:moveTo>
                <a:cubicBezTo>
                  <a:pt x="18918" y="3192"/>
                  <a:pt x="18909" y="3183"/>
                  <a:pt x="18901" y="3175"/>
                </a:cubicBezTo>
                <a:cubicBezTo>
                  <a:pt x="18835" y="3192"/>
                  <a:pt x="18847" y="3258"/>
                  <a:pt x="18827" y="3324"/>
                </a:cubicBezTo>
                <a:cubicBezTo>
                  <a:pt x="18791" y="3441"/>
                  <a:pt x="18796" y="3496"/>
                  <a:pt x="18901" y="3572"/>
                </a:cubicBezTo>
                <a:cubicBezTo>
                  <a:pt x="18999" y="3643"/>
                  <a:pt x="19089" y="3569"/>
                  <a:pt x="19174" y="3522"/>
                </a:cubicBezTo>
                <a:cubicBezTo>
                  <a:pt x="19258" y="3476"/>
                  <a:pt x="19269" y="3416"/>
                  <a:pt x="19273" y="3324"/>
                </a:cubicBezTo>
                <a:cubicBezTo>
                  <a:pt x="19278" y="3223"/>
                  <a:pt x="19193" y="3147"/>
                  <a:pt x="19100" y="3125"/>
                </a:cubicBezTo>
                <a:cubicBezTo>
                  <a:pt x="19044" y="3112"/>
                  <a:pt x="19000" y="3131"/>
                  <a:pt x="18951" y="3150"/>
                </a:cubicBezTo>
              </a:path>
              <a:path w="7393" h="5285">
                <a:moveTo>
                  <a:pt x="19496" y="3076"/>
                </a:moveTo>
                <a:cubicBezTo>
                  <a:pt x="19458" y="3089"/>
                  <a:pt x="19450" y="3124"/>
                  <a:pt x="19447" y="3175"/>
                </a:cubicBezTo>
                <a:cubicBezTo>
                  <a:pt x="19442" y="3262"/>
                  <a:pt x="19466" y="3318"/>
                  <a:pt x="19496" y="3398"/>
                </a:cubicBezTo>
                <a:cubicBezTo>
                  <a:pt x="19518" y="3456"/>
                  <a:pt x="19557" y="3518"/>
                  <a:pt x="19571" y="3572"/>
                </a:cubicBezTo>
              </a:path>
              <a:path w="7393" h="5285">
                <a:moveTo>
                  <a:pt x="19546" y="3398"/>
                </a:moveTo>
                <a:cubicBezTo>
                  <a:pt x="19628" y="3357"/>
                  <a:pt x="19719" y="3368"/>
                  <a:pt x="19794" y="3324"/>
                </a:cubicBezTo>
                <a:cubicBezTo>
                  <a:pt x="19844" y="3294"/>
                  <a:pt x="19934" y="3253"/>
                  <a:pt x="19968" y="3200"/>
                </a:cubicBezTo>
                <a:cubicBezTo>
                  <a:pt x="20018" y="3122"/>
                  <a:pt x="19981" y="3134"/>
                  <a:pt x="19943" y="3076"/>
                </a:cubicBezTo>
                <a:cubicBezTo>
                  <a:pt x="19908" y="3021"/>
                  <a:pt x="19937" y="3016"/>
                  <a:pt x="19893" y="3001"/>
                </a:cubicBezTo>
                <a:cubicBezTo>
                  <a:pt x="19908" y="3061"/>
                  <a:pt x="19936" y="3131"/>
                  <a:pt x="19943" y="3200"/>
                </a:cubicBezTo>
                <a:cubicBezTo>
                  <a:pt x="19953" y="3308"/>
                  <a:pt x="19968" y="3416"/>
                  <a:pt x="19993" y="3522"/>
                </a:cubicBezTo>
                <a:cubicBezTo>
                  <a:pt x="20001" y="3547"/>
                  <a:pt x="20009" y="3572"/>
                  <a:pt x="20017" y="3597"/>
                </a:cubicBezTo>
              </a:path>
              <a:path w="7393" h="5285">
                <a:moveTo>
                  <a:pt x="18951" y="3870"/>
                </a:moveTo>
                <a:cubicBezTo>
                  <a:pt x="19021" y="3852"/>
                  <a:pt x="19094" y="3811"/>
                  <a:pt x="19174" y="3795"/>
                </a:cubicBezTo>
                <a:cubicBezTo>
                  <a:pt x="19397" y="3750"/>
                  <a:pt x="19620" y="3752"/>
                  <a:pt x="19844" y="3721"/>
                </a:cubicBezTo>
                <a:cubicBezTo>
                  <a:pt x="19988" y="3701"/>
                  <a:pt x="20120" y="3696"/>
                  <a:pt x="20265" y="3696"/>
                </a:cubicBezTo>
              </a:path>
              <a:path w="7393" h="5285">
                <a:moveTo>
                  <a:pt x="18827" y="4862"/>
                </a:moveTo>
                <a:cubicBezTo>
                  <a:pt x="18807" y="4922"/>
                  <a:pt x="18805" y="4946"/>
                  <a:pt x="18802" y="5011"/>
                </a:cubicBezTo>
                <a:cubicBezTo>
                  <a:pt x="18799" y="5078"/>
                  <a:pt x="18832" y="5135"/>
                  <a:pt x="18876" y="5184"/>
                </a:cubicBezTo>
                <a:cubicBezTo>
                  <a:pt x="18899" y="5207"/>
                  <a:pt x="18907" y="5211"/>
                  <a:pt x="18901" y="5234"/>
                </a:cubicBezTo>
                <a:cubicBezTo>
                  <a:pt x="18923" y="5191"/>
                  <a:pt x="18956" y="5136"/>
                  <a:pt x="18976" y="5085"/>
                </a:cubicBezTo>
                <a:cubicBezTo>
                  <a:pt x="19005" y="5011"/>
                  <a:pt x="19046" y="4919"/>
                  <a:pt x="19124" y="4887"/>
                </a:cubicBezTo>
                <a:cubicBezTo>
                  <a:pt x="19132" y="4887"/>
                  <a:pt x="19141" y="4887"/>
                  <a:pt x="19149" y="4887"/>
                </a:cubicBezTo>
                <a:cubicBezTo>
                  <a:pt x="19179" y="4946"/>
                  <a:pt x="19174" y="4984"/>
                  <a:pt x="19174" y="5060"/>
                </a:cubicBezTo>
                <a:cubicBezTo>
                  <a:pt x="19174" y="5108"/>
                  <a:pt x="19185" y="5121"/>
                  <a:pt x="19199" y="5159"/>
                </a:cubicBezTo>
                <a:cubicBezTo>
                  <a:pt x="19243" y="5134"/>
                  <a:pt x="19287" y="5110"/>
                  <a:pt x="19323" y="5060"/>
                </a:cubicBezTo>
                <a:cubicBezTo>
                  <a:pt x="19364" y="5002"/>
                  <a:pt x="19372" y="4972"/>
                  <a:pt x="19422" y="4936"/>
                </a:cubicBezTo>
                <a:cubicBezTo>
                  <a:pt x="19470" y="4971"/>
                  <a:pt x="19488" y="4995"/>
                  <a:pt x="19521" y="5060"/>
                </a:cubicBezTo>
                <a:cubicBezTo>
                  <a:pt x="19564" y="5145"/>
                  <a:pt x="19657" y="5155"/>
                  <a:pt x="19745" y="5159"/>
                </a:cubicBezTo>
                <a:cubicBezTo>
                  <a:pt x="19786" y="5161"/>
                  <a:pt x="19933" y="5129"/>
                  <a:pt x="19918" y="5060"/>
                </a:cubicBezTo>
                <a:cubicBezTo>
                  <a:pt x="19903" y="4992"/>
                  <a:pt x="19858" y="4964"/>
                  <a:pt x="19794" y="4961"/>
                </a:cubicBezTo>
                <a:cubicBezTo>
                  <a:pt x="19761" y="4961"/>
                  <a:pt x="19745" y="4961"/>
                  <a:pt x="19720" y="4961"/>
                </a:cubicBezTo>
                <a:cubicBezTo>
                  <a:pt x="19733" y="5044"/>
                  <a:pt x="19698" y="5060"/>
                  <a:pt x="19769" y="5135"/>
                </a:cubicBezTo>
                <a:cubicBezTo>
                  <a:pt x="19852" y="5223"/>
                  <a:pt x="20008" y="5227"/>
                  <a:pt x="20117" y="5234"/>
                </a:cubicBezTo>
              </a:path>
              <a:path w="7393" h="5285">
                <a:moveTo>
                  <a:pt x="20414" y="4465"/>
                </a:moveTo>
                <a:cubicBezTo>
                  <a:pt x="20398" y="4457"/>
                  <a:pt x="20381" y="4448"/>
                  <a:pt x="20365" y="4440"/>
                </a:cubicBezTo>
                <a:cubicBezTo>
                  <a:pt x="20365" y="4544"/>
                  <a:pt x="20366" y="4635"/>
                  <a:pt x="20389" y="4738"/>
                </a:cubicBezTo>
                <a:cubicBezTo>
                  <a:pt x="20416" y="4856"/>
                  <a:pt x="20450" y="4970"/>
                  <a:pt x="20489" y="5085"/>
                </a:cubicBezTo>
              </a:path>
              <a:path w="7393" h="5285">
                <a:moveTo>
                  <a:pt x="20365" y="5085"/>
                </a:moveTo>
                <a:cubicBezTo>
                  <a:pt x="20423" y="4997"/>
                  <a:pt x="20481" y="4961"/>
                  <a:pt x="20563" y="4887"/>
                </a:cubicBezTo>
                <a:cubicBezTo>
                  <a:pt x="20648" y="4811"/>
                  <a:pt x="20829" y="4678"/>
                  <a:pt x="20861" y="4564"/>
                </a:cubicBezTo>
                <a:cubicBezTo>
                  <a:pt x="20861" y="4547"/>
                  <a:pt x="20861" y="4531"/>
                  <a:pt x="20861" y="4514"/>
                </a:cubicBezTo>
                <a:cubicBezTo>
                  <a:pt x="20837" y="4585"/>
                  <a:pt x="20814" y="4653"/>
                  <a:pt x="20811" y="4738"/>
                </a:cubicBezTo>
                <a:cubicBezTo>
                  <a:pt x="20808" y="4833"/>
                  <a:pt x="20827" y="4955"/>
                  <a:pt x="20886" y="5035"/>
                </a:cubicBezTo>
                <a:cubicBezTo>
                  <a:pt x="20930" y="5095"/>
                  <a:pt x="20933" y="5076"/>
                  <a:pt x="20960" y="5060"/>
                </a:cubicBezTo>
                <a:cubicBezTo>
                  <a:pt x="20985" y="5060"/>
                  <a:pt x="20993" y="5060"/>
                  <a:pt x="20985" y="5035"/>
                </a:cubicBezTo>
                <a:cubicBezTo>
                  <a:pt x="21032" y="5056"/>
                  <a:pt x="21052" y="5080"/>
                  <a:pt x="21109" y="5085"/>
                </a:cubicBezTo>
                <a:cubicBezTo>
                  <a:pt x="21212" y="5094"/>
                  <a:pt x="21289" y="5078"/>
                  <a:pt x="21382" y="5035"/>
                </a:cubicBezTo>
                <a:cubicBezTo>
                  <a:pt x="21434" y="5011"/>
                  <a:pt x="21466" y="4997"/>
                  <a:pt x="21456" y="4936"/>
                </a:cubicBezTo>
                <a:cubicBezTo>
                  <a:pt x="21448" y="4928"/>
                  <a:pt x="21439" y="4919"/>
                  <a:pt x="21431" y="4911"/>
                </a:cubicBezTo>
                <a:cubicBezTo>
                  <a:pt x="21390" y="4922"/>
                  <a:pt x="21357" y="4910"/>
                  <a:pt x="21332" y="4961"/>
                </a:cubicBezTo>
                <a:cubicBezTo>
                  <a:pt x="21297" y="5031"/>
                  <a:pt x="21360" y="5095"/>
                  <a:pt x="21406" y="5135"/>
                </a:cubicBezTo>
                <a:cubicBezTo>
                  <a:pt x="21450" y="5173"/>
                  <a:pt x="21477" y="5177"/>
                  <a:pt x="21530" y="5184"/>
                </a:cubicBezTo>
                <a:cubicBezTo>
                  <a:pt x="21530" y="5117"/>
                  <a:pt x="21526" y="5074"/>
                  <a:pt x="21506" y="5011"/>
                </a:cubicBezTo>
                <a:cubicBezTo>
                  <a:pt x="21527" y="5053"/>
                  <a:pt x="21520" y="5054"/>
                  <a:pt x="21555" y="5085"/>
                </a:cubicBezTo>
                <a:cubicBezTo>
                  <a:pt x="21596" y="5121"/>
                  <a:pt x="21699" y="5159"/>
                  <a:pt x="21754" y="5135"/>
                </a:cubicBezTo>
                <a:cubicBezTo>
                  <a:pt x="21801" y="5115"/>
                  <a:pt x="21834" y="5059"/>
                  <a:pt x="21878" y="5035"/>
                </a:cubicBezTo>
                <a:cubicBezTo>
                  <a:pt x="21886" y="5035"/>
                  <a:pt x="21895" y="5035"/>
                  <a:pt x="21903" y="5035"/>
                </a:cubicBezTo>
                <a:cubicBezTo>
                  <a:pt x="21908" y="5080"/>
                  <a:pt x="21892" y="5100"/>
                  <a:pt x="21927" y="5135"/>
                </a:cubicBezTo>
                <a:cubicBezTo>
                  <a:pt x="21970" y="5177"/>
                  <a:pt x="21985" y="5157"/>
                  <a:pt x="22027" y="5135"/>
                </a:cubicBezTo>
                <a:cubicBezTo>
                  <a:pt x="22066" y="5115"/>
                  <a:pt x="22124" y="5074"/>
                  <a:pt x="22151" y="5035"/>
                </a:cubicBezTo>
                <a:cubicBezTo>
                  <a:pt x="22151" y="5027"/>
                  <a:pt x="22151" y="5019"/>
                  <a:pt x="22151" y="5011"/>
                </a:cubicBezTo>
                <a:cubicBezTo>
                  <a:pt x="22173" y="5057"/>
                  <a:pt x="22179" y="5098"/>
                  <a:pt x="22225" y="5135"/>
                </a:cubicBezTo>
                <a:cubicBezTo>
                  <a:pt x="22266" y="5168"/>
                  <a:pt x="22301" y="5170"/>
                  <a:pt x="22349" y="5135"/>
                </a:cubicBezTo>
                <a:cubicBezTo>
                  <a:pt x="22377" y="5115"/>
                  <a:pt x="22398" y="5083"/>
                  <a:pt x="22423" y="5060"/>
                </a:cubicBezTo>
                <a:cubicBezTo>
                  <a:pt x="22461" y="5111"/>
                  <a:pt x="22460" y="5122"/>
                  <a:pt x="22523" y="5159"/>
                </a:cubicBezTo>
                <a:cubicBezTo>
                  <a:pt x="22581" y="5193"/>
                  <a:pt x="22581" y="5182"/>
                  <a:pt x="22622" y="5135"/>
                </a:cubicBezTo>
                <a:cubicBezTo>
                  <a:pt x="22653" y="5100"/>
                  <a:pt x="22664" y="5052"/>
                  <a:pt x="22622" y="5011"/>
                </a:cubicBezTo>
                <a:cubicBezTo>
                  <a:pt x="22591" y="4980"/>
                  <a:pt x="22513" y="4976"/>
                  <a:pt x="22473" y="4986"/>
                </a:cubicBezTo>
                <a:cubicBezTo>
                  <a:pt x="22448" y="4986"/>
                  <a:pt x="22440" y="4986"/>
                  <a:pt x="22448" y="5011"/>
                </a:cubicBezTo>
              </a:path>
              <a:path w="7393" h="5285">
                <a:moveTo>
                  <a:pt x="22796" y="4440"/>
                </a:moveTo>
                <a:cubicBezTo>
                  <a:pt x="22796" y="4569"/>
                  <a:pt x="22835" y="4642"/>
                  <a:pt x="22870" y="4762"/>
                </a:cubicBezTo>
                <a:cubicBezTo>
                  <a:pt x="22913" y="4908"/>
                  <a:pt x="22942" y="4996"/>
                  <a:pt x="23044" y="5110"/>
                </a:cubicBezTo>
              </a:path>
              <a:path w="7393" h="5285">
                <a:moveTo>
                  <a:pt x="20439" y="6846"/>
                </a:moveTo>
                <a:cubicBezTo>
                  <a:pt x="20575" y="6846"/>
                  <a:pt x="20707" y="6855"/>
                  <a:pt x="20836" y="6871"/>
                </a:cubicBezTo>
                <a:cubicBezTo>
                  <a:pt x="20953" y="6886"/>
                  <a:pt x="21067" y="6895"/>
                  <a:pt x="21183" y="6921"/>
                </a:cubicBezTo>
                <a:cubicBezTo>
                  <a:pt x="21317" y="6951"/>
                  <a:pt x="21447" y="6973"/>
                  <a:pt x="21580" y="6995"/>
                </a:cubicBezTo>
                <a:cubicBezTo>
                  <a:pt x="21736" y="7021"/>
                  <a:pt x="21897" y="7016"/>
                  <a:pt x="22051" y="7045"/>
                </a:cubicBezTo>
                <a:cubicBezTo>
                  <a:pt x="22176" y="7068"/>
                  <a:pt x="22298" y="7096"/>
                  <a:pt x="22423" y="7119"/>
                </a:cubicBezTo>
                <a:cubicBezTo>
                  <a:pt x="22498" y="7133"/>
                  <a:pt x="22571" y="7165"/>
                  <a:pt x="22647" y="7169"/>
                </a:cubicBezTo>
                <a:cubicBezTo>
                  <a:pt x="22688" y="7171"/>
                  <a:pt x="22730" y="7169"/>
                  <a:pt x="22771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70160" y="2438280"/>
            <a:ext cx="777960" cy="27000"/>
          </a:xfrm>
          <a:custGeom>
            <a:avLst/>
            <a:gdLst/>
            <a:ahLst/>
            <a:rect l="l" t="t" r="r" b="b"/>
            <a:pathLst>
              <a:path w="2159" h="75">
                <a:moveTo>
                  <a:pt x="8806" y="6846"/>
                </a:moveTo>
                <a:cubicBezTo>
                  <a:pt x="9036" y="6846"/>
                  <a:pt x="9275" y="6868"/>
                  <a:pt x="9500" y="6821"/>
                </a:cubicBezTo>
                <a:cubicBezTo>
                  <a:pt x="9646" y="6791"/>
                  <a:pt x="9798" y="6776"/>
                  <a:pt x="9947" y="6772"/>
                </a:cubicBezTo>
                <a:cubicBezTo>
                  <a:pt x="10203" y="6765"/>
                  <a:pt x="10466" y="6763"/>
                  <a:pt x="10716" y="6796"/>
                </a:cubicBezTo>
                <a:cubicBezTo>
                  <a:pt x="10777" y="6804"/>
                  <a:pt x="10826" y="6818"/>
                  <a:pt x="10889" y="6821"/>
                </a:cubicBezTo>
                <a:cubicBezTo>
                  <a:pt x="10931" y="6821"/>
                  <a:pt x="10939" y="6821"/>
                  <a:pt x="10964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fying Carb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rbons in an organic molecule are classified based on the number of other carbons they are attached 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ary Carbon, 1°, = carbon attached to one other carb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ary Carbon, 2°, = carbon attached to 2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rtiary Carbon, 3°, = carbon attached to 3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Quaternary Carbon, 4°, = carbon attached to 4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unreac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ydrogens are classified based on carbon they are attached 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hydrogens on a 1° carbon are called 1° hydroge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 Determines Propert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compounds all contain 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,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carbonates and carbides are inorg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ommon elements are H, O, N, (P, 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has versatile bonding patter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s, rings, multiple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 length nearly limit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compounds generally coval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ar; Gases, liquids or low melting solids; Varying solubilities; Nonconductive in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- C bonds unreactive (very s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fying Alcoho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cohols are classified based on the carbon they are attached 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mary Alcohol, 1°, = OH group on 1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ary Alcohol, 2°, = OH group on 2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rtiary Alcohol, 3°, = OH group on 3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57400" y="3581280"/>
          <a:ext cx="5232240" cy="26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523224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dehydes and Ket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contain C=O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y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ketones, the carbonyl group is attached to 2 carbon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iddle of a chain or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dehydes, the carbonyl group is attached to a carbon and a hyd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2 H in the case of formaldehy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on the end of a ch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25360" y="438120"/>
            <a:ext cx="768600" cy="365040"/>
          </a:xfrm>
          <a:custGeom>
            <a:avLst/>
            <a:gdLst/>
            <a:ahLst/>
            <a:rect l="l" t="t" r="r" b="b"/>
            <a:pathLst>
              <a:path w="2135" h="1018">
                <a:moveTo>
                  <a:pt x="3597" y="1736"/>
                </a:moveTo>
                <a:cubicBezTo>
                  <a:pt x="3623" y="1647"/>
                  <a:pt x="3628" y="1637"/>
                  <a:pt x="3572" y="1563"/>
                </a:cubicBezTo>
                <a:cubicBezTo>
                  <a:pt x="3544" y="1526"/>
                  <a:pt x="3491" y="1517"/>
                  <a:pt x="3448" y="1513"/>
                </a:cubicBezTo>
                <a:cubicBezTo>
                  <a:pt x="3365" y="1506"/>
                  <a:pt x="3311" y="1604"/>
                  <a:pt x="3274" y="1662"/>
                </a:cubicBezTo>
                <a:cubicBezTo>
                  <a:pt x="3193" y="1788"/>
                  <a:pt x="3101" y="1950"/>
                  <a:pt x="3125" y="2108"/>
                </a:cubicBezTo>
                <a:cubicBezTo>
                  <a:pt x="3145" y="2239"/>
                  <a:pt x="3304" y="2229"/>
                  <a:pt x="3398" y="2232"/>
                </a:cubicBezTo>
                <a:cubicBezTo>
                  <a:pt x="3506" y="2232"/>
                  <a:pt x="3548" y="2230"/>
                  <a:pt x="3621" y="2208"/>
                </a:cubicBezTo>
              </a:path>
              <a:path w="2135" h="1018">
                <a:moveTo>
                  <a:pt x="3969" y="1786"/>
                </a:moveTo>
                <a:cubicBezTo>
                  <a:pt x="4034" y="1786"/>
                  <a:pt x="4079" y="1754"/>
                  <a:pt x="4142" y="1736"/>
                </a:cubicBezTo>
                <a:cubicBezTo>
                  <a:pt x="4269" y="1700"/>
                  <a:pt x="4386" y="1646"/>
                  <a:pt x="4514" y="1612"/>
                </a:cubicBezTo>
                <a:cubicBezTo>
                  <a:pt x="4547" y="1604"/>
                  <a:pt x="4581" y="1596"/>
                  <a:pt x="4614" y="1588"/>
                </a:cubicBezTo>
              </a:path>
              <a:path w="2135" h="1018">
                <a:moveTo>
                  <a:pt x="5184" y="1215"/>
                </a:moveTo>
                <a:cubicBezTo>
                  <a:pt x="5092" y="1223"/>
                  <a:pt x="4982" y="1244"/>
                  <a:pt x="4911" y="1315"/>
                </a:cubicBezTo>
                <a:cubicBezTo>
                  <a:pt x="4839" y="1387"/>
                  <a:pt x="4772" y="1533"/>
                  <a:pt x="4787" y="1637"/>
                </a:cubicBezTo>
                <a:cubicBezTo>
                  <a:pt x="4808" y="1777"/>
                  <a:pt x="4896" y="1821"/>
                  <a:pt x="5011" y="1860"/>
                </a:cubicBezTo>
                <a:cubicBezTo>
                  <a:pt x="5096" y="1889"/>
                  <a:pt x="5170" y="1885"/>
                  <a:pt x="5259" y="18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81160" y="347760"/>
            <a:ext cx="1027080" cy="287280"/>
          </a:xfrm>
          <a:custGeom>
            <a:avLst/>
            <a:gdLst/>
            <a:ahLst/>
            <a:rect l="l" t="t" r="r" b="b"/>
            <a:pathLst>
              <a:path w="2854" h="795">
                <a:moveTo>
                  <a:pt x="5779" y="1513"/>
                </a:moveTo>
                <a:cubicBezTo>
                  <a:pt x="5875" y="1513"/>
                  <a:pt x="5959" y="1517"/>
                  <a:pt x="6052" y="1488"/>
                </a:cubicBezTo>
                <a:cubicBezTo>
                  <a:pt x="6135" y="1462"/>
                  <a:pt x="6216" y="1436"/>
                  <a:pt x="6300" y="1414"/>
                </a:cubicBezTo>
              </a:path>
              <a:path w="2854" h="795">
                <a:moveTo>
                  <a:pt x="6945" y="1191"/>
                </a:moveTo>
                <a:cubicBezTo>
                  <a:pt x="6890" y="1157"/>
                  <a:pt x="6833" y="1173"/>
                  <a:pt x="6772" y="1215"/>
                </a:cubicBezTo>
                <a:cubicBezTo>
                  <a:pt x="6703" y="1263"/>
                  <a:pt x="6620" y="1401"/>
                  <a:pt x="6623" y="1488"/>
                </a:cubicBezTo>
                <a:cubicBezTo>
                  <a:pt x="6626" y="1581"/>
                  <a:pt x="6699" y="1733"/>
                  <a:pt x="6796" y="1761"/>
                </a:cubicBezTo>
                <a:cubicBezTo>
                  <a:pt x="6896" y="1761"/>
                  <a:pt x="6929" y="1761"/>
                  <a:pt x="6995" y="1761"/>
                </a:cubicBezTo>
              </a:path>
              <a:path w="2854" h="795">
                <a:moveTo>
                  <a:pt x="7293" y="1265"/>
                </a:moveTo>
                <a:cubicBezTo>
                  <a:pt x="7359" y="1265"/>
                  <a:pt x="7400" y="1228"/>
                  <a:pt x="7466" y="1215"/>
                </a:cubicBezTo>
                <a:cubicBezTo>
                  <a:pt x="7541" y="1201"/>
                  <a:pt x="7609" y="1191"/>
                  <a:pt x="7689" y="1191"/>
                </a:cubicBezTo>
                <a:cubicBezTo>
                  <a:pt x="7697" y="1191"/>
                  <a:pt x="7706" y="1191"/>
                  <a:pt x="7714" y="1191"/>
                </a:cubicBezTo>
              </a:path>
              <a:path w="2854" h="795">
                <a:moveTo>
                  <a:pt x="7392" y="1513"/>
                </a:moveTo>
                <a:cubicBezTo>
                  <a:pt x="7462" y="1503"/>
                  <a:pt x="7519" y="1465"/>
                  <a:pt x="7590" y="1439"/>
                </a:cubicBezTo>
                <a:cubicBezTo>
                  <a:pt x="7658" y="1414"/>
                  <a:pt x="7718" y="1397"/>
                  <a:pt x="7789" y="1389"/>
                </a:cubicBezTo>
              </a:path>
              <a:path w="2854" h="795">
                <a:moveTo>
                  <a:pt x="8260" y="1017"/>
                </a:moveTo>
                <a:cubicBezTo>
                  <a:pt x="8207" y="1099"/>
                  <a:pt x="8133" y="1212"/>
                  <a:pt x="8136" y="1315"/>
                </a:cubicBezTo>
                <a:cubicBezTo>
                  <a:pt x="8140" y="1431"/>
                  <a:pt x="8233" y="1496"/>
                  <a:pt x="8334" y="1513"/>
                </a:cubicBezTo>
                <a:cubicBezTo>
                  <a:pt x="8450" y="1533"/>
                  <a:pt x="8554" y="1462"/>
                  <a:pt x="8607" y="1364"/>
                </a:cubicBezTo>
                <a:cubicBezTo>
                  <a:pt x="8670" y="1248"/>
                  <a:pt x="8607" y="1158"/>
                  <a:pt x="8533" y="1067"/>
                </a:cubicBezTo>
                <a:cubicBezTo>
                  <a:pt x="8477" y="998"/>
                  <a:pt x="8392" y="977"/>
                  <a:pt x="8310" y="9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1880" y="339840"/>
            <a:ext cx="1554120" cy="571320"/>
          </a:xfrm>
          <a:custGeom>
            <a:avLst/>
            <a:gdLst/>
            <a:ahLst/>
            <a:rect l="l" t="t" r="r" b="b"/>
            <a:pathLst>
              <a:path w="4317" h="1588">
                <a:moveTo>
                  <a:pt x="15379" y="1166"/>
                </a:moveTo>
                <a:cubicBezTo>
                  <a:pt x="15370" y="1130"/>
                  <a:pt x="15352" y="1099"/>
                  <a:pt x="15304" y="1116"/>
                </a:cubicBezTo>
                <a:cubicBezTo>
                  <a:pt x="15208" y="1151"/>
                  <a:pt x="15163" y="1209"/>
                  <a:pt x="15106" y="1290"/>
                </a:cubicBezTo>
                <a:cubicBezTo>
                  <a:pt x="15051" y="1369"/>
                  <a:pt x="14992" y="1470"/>
                  <a:pt x="15056" y="1563"/>
                </a:cubicBezTo>
                <a:cubicBezTo>
                  <a:pt x="15113" y="1646"/>
                  <a:pt x="15238" y="1659"/>
                  <a:pt x="15329" y="1662"/>
                </a:cubicBezTo>
                <a:cubicBezTo>
                  <a:pt x="15427" y="1665"/>
                  <a:pt x="15486" y="1643"/>
                  <a:pt x="15577" y="1612"/>
                </a:cubicBezTo>
              </a:path>
              <a:path w="4317" h="1588">
                <a:moveTo>
                  <a:pt x="15925" y="1339"/>
                </a:moveTo>
                <a:cubicBezTo>
                  <a:pt x="15982" y="1325"/>
                  <a:pt x="16034" y="1327"/>
                  <a:pt x="16098" y="1315"/>
                </a:cubicBezTo>
                <a:cubicBezTo>
                  <a:pt x="16206" y="1294"/>
                  <a:pt x="16309" y="1269"/>
                  <a:pt x="16421" y="1265"/>
                </a:cubicBezTo>
                <a:cubicBezTo>
                  <a:pt x="16495" y="1262"/>
                  <a:pt x="16570" y="1265"/>
                  <a:pt x="16644" y="1265"/>
                </a:cubicBezTo>
              </a:path>
              <a:path w="4317" h="1588">
                <a:moveTo>
                  <a:pt x="17338" y="1141"/>
                </a:moveTo>
                <a:cubicBezTo>
                  <a:pt x="17324" y="1082"/>
                  <a:pt x="17300" y="1070"/>
                  <a:pt x="17239" y="1067"/>
                </a:cubicBezTo>
                <a:cubicBezTo>
                  <a:pt x="17161" y="1063"/>
                  <a:pt x="17066" y="1106"/>
                  <a:pt x="17016" y="1166"/>
                </a:cubicBezTo>
                <a:cubicBezTo>
                  <a:pt x="16965" y="1228"/>
                  <a:pt x="16952" y="1295"/>
                  <a:pt x="16991" y="1364"/>
                </a:cubicBezTo>
                <a:cubicBezTo>
                  <a:pt x="17057" y="1479"/>
                  <a:pt x="17212" y="1500"/>
                  <a:pt x="17338" y="1513"/>
                </a:cubicBezTo>
                <a:cubicBezTo>
                  <a:pt x="17438" y="1523"/>
                  <a:pt x="17518" y="1492"/>
                  <a:pt x="17611" y="1463"/>
                </a:cubicBezTo>
              </a:path>
              <a:path w="4317" h="1588">
                <a:moveTo>
                  <a:pt x="17314" y="1612"/>
                </a:moveTo>
                <a:cubicBezTo>
                  <a:pt x="17268" y="1623"/>
                  <a:pt x="17248" y="1660"/>
                  <a:pt x="17239" y="1712"/>
                </a:cubicBezTo>
                <a:cubicBezTo>
                  <a:pt x="17224" y="1796"/>
                  <a:pt x="17239" y="1898"/>
                  <a:pt x="17239" y="1984"/>
                </a:cubicBezTo>
              </a:path>
              <a:path w="4317" h="1588">
                <a:moveTo>
                  <a:pt x="17636" y="1637"/>
                </a:moveTo>
                <a:cubicBezTo>
                  <a:pt x="17673" y="1637"/>
                  <a:pt x="17633" y="1648"/>
                  <a:pt x="17611" y="1687"/>
                </a:cubicBezTo>
                <a:cubicBezTo>
                  <a:pt x="17567" y="1764"/>
                  <a:pt x="17541" y="1823"/>
                  <a:pt x="17537" y="1910"/>
                </a:cubicBezTo>
                <a:cubicBezTo>
                  <a:pt x="17535" y="1959"/>
                  <a:pt x="17553" y="1989"/>
                  <a:pt x="17562" y="2034"/>
                </a:cubicBezTo>
              </a:path>
              <a:path w="4317" h="1588">
                <a:moveTo>
                  <a:pt x="17487" y="2183"/>
                </a:moveTo>
                <a:cubicBezTo>
                  <a:pt x="17416" y="2228"/>
                  <a:pt x="17316" y="2264"/>
                  <a:pt x="17264" y="2332"/>
                </a:cubicBezTo>
                <a:cubicBezTo>
                  <a:pt x="17199" y="2416"/>
                  <a:pt x="17275" y="2503"/>
                  <a:pt x="17363" y="2530"/>
                </a:cubicBezTo>
                <a:cubicBezTo>
                  <a:pt x="17444" y="2555"/>
                  <a:pt x="17585" y="2533"/>
                  <a:pt x="17661" y="2505"/>
                </a:cubicBezTo>
                <a:cubicBezTo>
                  <a:pt x="17729" y="2480"/>
                  <a:pt x="17772" y="2393"/>
                  <a:pt x="17711" y="2332"/>
                </a:cubicBezTo>
                <a:cubicBezTo>
                  <a:pt x="17669" y="2290"/>
                  <a:pt x="17590" y="2261"/>
                  <a:pt x="17537" y="2232"/>
                </a:cubicBezTo>
              </a:path>
              <a:path w="4317" h="1588">
                <a:moveTo>
                  <a:pt x="17959" y="1265"/>
                </a:moveTo>
                <a:cubicBezTo>
                  <a:pt x="17892" y="1265"/>
                  <a:pt x="18085" y="1241"/>
                  <a:pt x="18107" y="1240"/>
                </a:cubicBezTo>
                <a:cubicBezTo>
                  <a:pt x="18234" y="1236"/>
                  <a:pt x="18350" y="1215"/>
                  <a:pt x="18479" y="1215"/>
                </a:cubicBezTo>
                <a:cubicBezTo>
                  <a:pt x="18512" y="1215"/>
                  <a:pt x="18546" y="1215"/>
                  <a:pt x="18579" y="1215"/>
                </a:cubicBezTo>
              </a:path>
              <a:path w="4317" h="1588">
                <a:moveTo>
                  <a:pt x="19298" y="1067"/>
                </a:moveTo>
                <a:cubicBezTo>
                  <a:pt x="19309" y="1033"/>
                  <a:pt x="19333" y="1036"/>
                  <a:pt x="19348" y="992"/>
                </a:cubicBezTo>
                <a:cubicBezTo>
                  <a:pt x="19348" y="984"/>
                  <a:pt x="19348" y="975"/>
                  <a:pt x="19348" y="967"/>
                </a:cubicBezTo>
                <a:cubicBezTo>
                  <a:pt x="19312" y="941"/>
                  <a:pt x="19273" y="932"/>
                  <a:pt x="19224" y="943"/>
                </a:cubicBezTo>
                <a:cubicBezTo>
                  <a:pt x="19135" y="963"/>
                  <a:pt x="19021" y="1010"/>
                  <a:pt x="18951" y="1067"/>
                </a:cubicBezTo>
                <a:cubicBezTo>
                  <a:pt x="18857" y="1143"/>
                  <a:pt x="18781" y="1243"/>
                  <a:pt x="18852" y="1364"/>
                </a:cubicBezTo>
                <a:cubicBezTo>
                  <a:pt x="18910" y="1464"/>
                  <a:pt x="19070" y="1501"/>
                  <a:pt x="19174" y="1513"/>
                </a:cubicBezTo>
                <a:cubicBezTo>
                  <a:pt x="19265" y="1513"/>
                  <a:pt x="19290" y="1513"/>
                  <a:pt x="19348" y="15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Keton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used as polar solvent when presence of OH cause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tone – R1 = R2 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il polish remover, paint sol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K = methyl ethyl ketone – R1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R2 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int solvent, gasoline add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ldehy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trong odors, Used as fragrances and food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ldehyde – R1 = R2 =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s, when dissolved in water = forma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pected carcin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in the production of foams and adhes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taldehyde – R1 = H, R2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248520" y="1828800"/>
          <a:ext cx="263196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828800"/>
                    <a:ext cx="26319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7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2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dehy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aldehyde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the chain calling the carbonyl C position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Ket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carbon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the chain from the end closest to the carbon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boxylic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arboxyl group,  R1-CO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on end of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id functional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by oxidation of 1° alcoh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stronger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ic Acid, R1 =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 and ant s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tic Acid, R1 =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e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486400" y="2209680"/>
          <a:ext cx="3451320" cy="21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513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1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cid H of carboxy group with R group,  R1-COOR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et, fruity o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by reacting carboxylic acid with an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1-COOH + R2-O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1-COOR2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like neutralization, alcohol not a ba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54400" y="4683240"/>
          <a:ext cx="262584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4683240"/>
                    <a:ext cx="26258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Carboxylic Acid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carboxy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calling the carboxy C posi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–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E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ester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R2 as alk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R1 and carboxy C like acid except change 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–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ding to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t the pieces together, alkyl group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0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0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0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ly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organic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arge, molar masses 10,000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n-like molecules made by linking together small molecule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mer units usually indicated in name with the prefix “poly-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yethylene, polypropylene, polystyr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nking Mono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ition Polyme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monomers linked by each molecule attaching to chain by a synthesis typ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ensation Polyme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monomers linked when a reaction occurs that splits out a small molecule, lik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opoly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monomer units a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poly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ve multiple monomer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bon Bon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can bond to other carbon atoms in an almost infinite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 to a maximum of four other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or other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4 single covalent bonds = tetrahed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2 single &amp; 1 double covalent bond = trigonal pla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1 single &amp; 1 triple covalent bond = 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ydrocarb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carbons contain only C &amp;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phatic or ar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 hydrocarb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rated or unsaturated alipha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ated = alkanes, unsaturated = alkenes or alky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saturated have double or triple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chains or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ng molecules have two less H than chain so that ends                                            can j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s may be straight or bran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 paraff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ph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formula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n+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unre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in chains or/and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ups at ends of chains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ups in the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nched or Straight-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ight-chain =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ensed formula has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each end and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ensed Structural Formul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ed atoms listed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al atom with attached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 normal bonding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o determine position of multiple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) used to indicate more than 1 identical group attached to same previous central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ess () group listed first in which c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ed to next central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6089760"/>
            <a:ext cx="1509480" cy="447480"/>
          </a:xfrm>
          <a:custGeom>
            <a:avLst/>
            <a:gdLst/>
            <a:ahLst/>
            <a:rect l="l" t="t" r="r" b="b"/>
            <a:pathLst>
              <a:path w="4193" h="1241">
                <a:moveTo>
                  <a:pt x="6251" y="17066"/>
                </a:moveTo>
                <a:cubicBezTo>
                  <a:pt x="6251" y="17099"/>
                  <a:pt x="6251" y="17132"/>
                  <a:pt x="6251" y="17165"/>
                </a:cubicBezTo>
                <a:cubicBezTo>
                  <a:pt x="6251" y="17105"/>
                  <a:pt x="6242" y="17116"/>
                  <a:pt x="6201" y="17090"/>
                </a:cubicBezTo>
                <a:cubicBezTo>
                  <a:pt x="6141" y="17052"/>
                  <a:pt x="6099" y="17077"/>
                  <a:pt x="6052" y="17140"/>
                </a:cubicBezTo>
                <a:cubicBezTo>
                  <a:pt x="5996" y="17214"/>
                  <a:pt x="5945" y="17293"/>
                  <a:pt x="5928" y="17388"/>
                </a:cubicBezTo>
                <a:cubicBezTo>
                  <a:pt x="5907" y="17503"/>
                  <a:pt x="5981" y="17565"/>
                  <a:pt x="6052" y="17636"/>
                </a:cubicBezTo>
                <a:cubicBezTo>
                  <a:pt x="6131" y="17715"/>
                  <a:pt x="6194" y="17711"/>
                  <a:pt x="6300" y="17711"/>
                </a:cubicBezTo>
                <a:cubicBezTo>
                  <a:pt x="6360" y="17711"/>
                  <a:pt x="6360" y="17701"/>
                  <a:pt x="6400" y="17661"/>
                </a:cubicBezTo>
              </a:path>
              <a:path w="4193" h="1241">
                <a:moveTo>
                  <a:pt x="6623" y="17140"/>
                </a:moveTo>
                <a:cubicBezTo>
                  <a:pt x="6623" y="17231"/>
                  <a:pt x="6630" y="17325"/>
                  <a:pt x="6648" y="17413"/>
                </a:cubicBezTo>
                <a:cubicBezTo>
                  <a:pt x="6666" y="17501"/>
                  <a:pt x="6728" y="17577"/>
                  <a:pt x="6747" y="17661"/>
                </a:cubicBezTo>
                <a:cubicBezTo>
                  <a:pt x="6747" y="17706"/>
                  <a:pt x="6743" y="17719"/>
                  <a:pt x="6772" y="17735"/>
                </a:cubicBezTo>
              </a:path>
              <a:path w="4193" h="1241">
                <a:moveTo>
                  <a:pt x="6722" y="17562"/>
                </a:moveTo>
                <a:cubicBezTo>
                  <a:pt x="6793" y="17490"/>
                  <a:pt x="6827" y="17450"/>
                  <a:pt x="6871" y="17363"/>
                </a:cubicBezTo>
                <a:cubicBezTo>
                  <a:pt x="6898" y="17311"/>
                  <a:pt x="6941" y="17275"/>
                  <a:pt x="6945" y="17214"/>
                </a:cubicBezTo>
                <a:cubicBezTo>
                  <a:pt x="6951" y="17125"/>
                  <a:pt x="6926" y="17160"/>
                  <a:pt x="6896" y="17115"/>
                </a:cubicBezTo>
                <a:cubicBezTo>
                  <a:pt x="6896" y="17090"/>
                  <a:pt x="6896" y="17082"/>
                  <a:pt x="6871" y="17090"/>
                </a:cubicBezTo>
                <a:cubicBezTo>
                  <a:pt x="6871" y="17163"/>
                  <a:pt x="6878" y="17218"/>
                  <a:pt x="6896" y="17289"/>
                </a:cubicBezTo>
                <a:cubicBezTo>
                  <a:pt x="6933" y="17436"/>
                  <a:pt x="6998" y="17570"/>
                  <a:pt x="7045" y="17711"/>
                </a:cubicBezTo>
                <a:cubicBezTo>
                  <a:pt x="7077" y="17808"/>
                  <a:pt x="7076" y="17817"/>
                  <a:pt x="7144" y="17884"/>
                </a:cubicBezTo>
              </a:path>
              <a:path w="4193" h="1241">
                <a:moveTo>
                  <a:pt x="7293" y="17562"/>
                </a:moveTo>
                <a:cubicBezTo>
                  <a:pt x="7349" y="17628"/>
                  <a:pt x="7342" y="17626"/>
                  <a:pt x="7342" y="17711"/>
                </a:cubicBezTo>
                <a:cubicBezTo>
                  <a:pt x="7342" y="17744"/>
                  <a:pt x="7342" y="17777"/>
                  <a:pt x="7342" y="17810"/>
                </a:cubicBezTo>
                <a:cubicBezTo>
                  <a:pt x="7422" y="17810"/>
                  <a:pt x="7405" y="17820"/>
                  <a:pt x="7466" y="17859"/>
                </a:cubicBezTo>
                <a:cubicBezTo>
                  <a:pt x="7530" y="17900"/>
                  <a:pt x="7561" y="17904"/>
                  <a:pt x="7565" y="17983"/>
                </a:cubicBezTo>
                <a:cubicBezTo>
                  <a:pt x="7568" y="18043"/>
                  <a:pt x="7531" y="18088"/>
                  <a:pt x="7491" y="18132"/>
                </a:cubicBezTo>
                <a:cubicBezTo>
                  <a:pt x="7463" y="18163"/>
                  <a:pt x="7455" y="18157"/>
                  <a:pt x="7417" y="18157"/>
                </a:cubicBezTo>
              </a:path>
              <a:path w="4193" h="1241">
                <a:moveTo>
                  <a:pt x="7938" y="17090"/>
                </a:moveTo>
                <a:cubicBezTo>
                  <a:pt x="7867" y="17131"/>
                  <a:pt x="7825" y="17175"/>
                  <a:pt x="7813" y="17264"/>
                </a:cubicBezTo>
                <a:cubicBezTo>
                  <a:pt x="7790" y="17437"/>
                  <a:pt x="7813" y="17628"/>
                  <a:pt x="7888" y="17785"/>
                </a:cubicBezTo>
                <a:cubicBezTo>
                  <a:pt x="7945" y="17904"/>
                  <a:pt x="8054" y="18047"/>
                  <a:pt x="8186" y="18083"/>
                </a:cubicBezTo>
                <a:cubicBezTo>
                  <a:pt x="8245" y="18083"/>
                  <a:pt x="8271" y="18080"/>
                  <a:pt x="8310" y="18058"/>
                </a:cubicBezTo>
              </a:path>
              <a:path w="4193" h="1241">
                <a:moveTo>
                  <a:pt x="8384" y="17214"/>
                </a:moveTo>
                <a:cubicBezTo>
                  <a:pt x="8400" y="17276"/>
                  <a:pt x="8439" y="17344"/>
                  <a:pt x="8458" y="17413"/>
                </a:cubicBezTo>
                <a:cubicBezTo>
                  <a:pt x="8488" y="17521"/>
                  <a:pt x="8527" y="17629"/>
                  <a:pt x="8558" y="17735"/>
                </a:cubicBezTo>
                <a:cubicBezTo>
                  <a:pt x="8558" y="17763"/>
                  <a:pt x="8560" y="17774"/>
                  <a:pt x="8582" y="17785"/>
                </a:cubicBezTo>
              </a:path>
              <a:path w="4193" h="1241">
                <a:moveTo>
                  <a:pt x="8458" y="17512"/>
                </a:moveTo>
                <a:cubicBezTo>
                  <a:pt x="8474" y="17560"/>
                  <a:pt x="8560" y="17541"/>
                  <a:pt x="8607" y="17512"/>
                </a:cubicBezTo>
                <a:cubicBezTo>
                  <a:pt x="8678" y="17468"/>
                  <a:pt x="8737" y="17409"/>
                  <a:pt x="8781" y="17338"/>
                </a:cubicBezTo>
              </a:path>
              <a:path w="4193" h="1241">
                <a:moveTo>
                  <a:pt x="8682" y="17115"/>
                </a:moveTo>
                <a:cubicBezTo>
                  <a:pt x="8682" y="17169"/>
                  <a:pt x="8687" y="17186"/>
                  <a:pt x="8706" y="17239"/>
                </a:cubicBezTo>
                <a:cubicBezTo>
                  <a:pt x="8744" y="17344"/>
                  <a:pt x="8742" y="17454"/>
                  <a:pt x="8781" y="17562"/>
                </a:cubicBezTo>
                <a:cubicBezTo>
                  <a:pt x="8798" y="17608"/>
                  <a:pt x="8822" y="17675"/>
                  <a:pt x="8855" y="17686"/>
                </a:cubicBezTo>
              </a:path>
              <a:path w="4193" h="1241">
                <a:moveTo>
                  <a:pt x="8210" y="17363"/>
                </a:moveTo>
                <a:cubicBezTo>
                  <a:pt x="8210" y="17409"/>
                  <a:pt x="8224" y="17343"/>
                  <a:pt x="8186" y="17338"/>
                </a:cubicBezTo>
                <a:cubicBezTo>
                  <a:pt x="8140" y="17332"/>
                  <a:pt x="8117" y="17402"/>
                  <a:pt x="8111" y="17438"/>
                </a:cubicBezTo>
                <a:cubicBezTo>
                  <a:pt x="8098" y="17513"/>
                  <a:pt x="8167" y="17630"/>
                  <a:pt x="8210" y="17686"/>
                </a:cubicBezTo>
                <a:cubicBezTo>
                  <a:pt x="8238" y="17722"/>
                  <a:pt x="8332" y="17799"/>
                  <a:pt x="8384" y="17785"/>
                </a:cubicBezTo>
                <a:cubicBezTo>
                  <a:pt x="8428" y="17763"/>
                  <a:pt x="8439" y="17760"/>
                  <a:pt x="8458" y="17735"/>
                </a:cubicBezTo>
              </a:path>
              <a:path w="4193" h="1241">
                <a:moveTo>
                  <a:pt x="9029" y="17562"/>
                </a:moveTo>
                <a:cubicBezTo>
                  <a:pt x="9062" y="17562"/>
                  <a:pt x="9095" y="17562"/>
                  <a:pt x="9128" y="17562"/>
                </a:cubicBezTo>
                <a:cubicBezTo>
                  <a:pt x="9128" y="17625"/>
                  <a:pt x="9130" y="17654"/>
                  <a:pt x="9103" y="17711"/>
                </a:cubicBezTo>
                <a:cubicBezTo>
                  <a:pt x="9084" y="17752"/>
                  <a:pt x="9064" y="17771"/>
                  <a:pt x="9054" y="17810"/>
                </a:cubicBezTo>
                <a:cubicBezTo>
                  <a:pt x="9114" y="17810"/>
                  <a:pt x="9155" y="17795"/>
                  <a:pt x="9203" y="17785"/>
                </a:cubicBezTo>
                <a:cubicBezTo>
                  <a:pt x="9264" y="17773"/>
                  <a:pt x="9258" y="17779"/>
                  <a:pt x="9302" y="17735"/>
                </a:cubicBezTo>
              </a:path>
              <a:path w="4193" h="1241">
                <a:moveTo>
                  <a:pt x="9128" y="16917"/>
                </a:moveTo>
                <a:cubicBezTo>
                  <a:pt x="9172" y="16939"/>
                  <a:pt x="9238" y="17018"/>
                  <a:pt x="9277" y="17066"/>
                </a:cubicBezTo>
                <a:cubicBezTo>
                  <a:pt x="9375" y="17185"/>
                  <a:pt x="9449" y="17342"/>
                  <a:pt x="9500" y="17487"/>
                </a:cubicBezTo>
                <a:cubicBezTo>
                  <a:pt x="9538" y="17597"/>
                  <a:pt x="9540" y="17726"/>
                  <a:pt x="9500" y="17835"/>
                </a:cubicBezTo>
                <a:cubicBezTo>
                  <a:pt x="9474" y="17905"/>
                  <a:pt x="9441" y="17957"/>
                  <a:pt x="9376" y="17983"/>
                </a:cubicBezTo>
              </a:path>
              <a:path w="4193" h="1241">
                <a:moveTo>
                  <a:pt x="9872" y="17686"/>
                </a:moveTo>
                <a:cubicBezTo>
                  <a:pt x="9915" y="17675"/>
                  <a:pt x="9949" y="17644"/>
                  <a:pt x="9996" y="17636"/>
                </a:cubicBezTo>
                <a:cubicBezTo>
                  <a:pt x="10045" y="17627"/>
                  <a:pt x="10070" y="17611"/>
                  <a:pt x="10120" y="17611"/>
                </a:cubicBezTo>
              </a:path>
              <a:path w="4193" h="1241">
                <a:moveTo>
                  <a:pt x="9872" y="17686"/>
                </a:moveTo>
                <a:cubicBezTo>
                  <a:pt x="9812" y="17746"/>
                  <a:pt x="9749" y="17799"/>
                  <a:pt x="9723" y="17884"/>
                </a:cubicBezTo>
                <a:cubicBezTo>
                  <a:pt x="9723" y="17909"/>
                  <a:pt x="9723" y="17917"/>
                  <a:pt x="9723" y="17934"/>
                </a:cubicBezTo>
                <a:cubicBezTo>
                  <a:pt x="9785" y="17934"/>
                  <a:pt x="9815" y="17897"/>
                  <a:pt x="9872" y="17884"/>
                </a:cubicBezTo>
                <a:cubicBezTo>
                  <a:pt x="9935" y="17870"/>
                  <a:pt x="9993" y="17842"/>
                  <a:pt x="10046" y="17884"/>
                </a:cubicBezTo>
                <a:cubicBezTo>
                  <a:pt x="10072" y="17905"/>
                  <a:pt x="10092" y="17977"/>
                  <a:pt x="10071" y="18008"/>
                </a:cubicBezTo>
                <a:cubicBezTo>
                  <a:pt x="10029" y="18071"/>
                  <a:pt x="9962" y="18100"/>
                  <a:pt x="9897" y="18132"/>
                </a:cubicBezTo>
                <a:cubicBezTo>
                  <a:pt x="9849" y="18156"/>
                  <a:pt x="9845" y="18157"/>
                  <a:pt x="9798" y="181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1040" y="6153120"/>
            <a:ext cx="509760" cy="490680"/>
          </a:xfrm>
          <a:custGeom>
            <a:avLst/>
            <a:gdLst/>
            <a:ahLst/>
            <a:rect l="l" t="t" r="r" b="b"/>
            <a:pathLst>
              <a:path w="1415" h="1366">
                <a:moveTo>
                  <a:pt x="10939" y="17115"/>
                </a:moveTo>
                <a:cubicBezTo>
                  <a:pt x="10901" y="17092"/>
                  <a:pt x="10841" y="17075"/>
                  <a:pt x="10790" y="17090"/>
                </a:cubicBezTo>
                <a:cubicBezTo>
                  <a:pt x="10711" y="17113"/>
                  <a:pt x="10629" y="17210"/>
                  <a:pt x="10616" y="17289"/>
                </a:cubicBezTo>
                <a:cubicBezTo>
                  <a:pt x="10592" y="17434"/>
                  <a:pt x="10627" y="17524"/>
                  <a:pt x="10740" y="17611"/>
                </a:cubicBezTo>
                <a:cubicBezTo>
                  <a:pt x="10846" y="17693"/>
                  <a:pt x="10923" y="17657"/>
                  <a:pt x="11038" y="17611"/>
                </a:cubicBezTo>
              </a:path>
              <a:path w="1415" h="1366">
                <a:moveTo>
                  <a:pt x="11261" y="17214"/>
                </a:moveTo>
                <a:cubicBezTo>
                  <a:pt x="11261" y="17143"/>
                  <a:pt x="11261" y="17337"/>
                  <a:pt x="11261" y="17338"/>
                </a:cubicBezTo>
                <a:cubicBezTo>
                  <a:pt x="11261" y="17468"/>
                  <a:pt x="11266" y="17589"/>
                  <a:pt x="11286" y="17711"/>
                </a:cubicBezTo>
                <a:cubicBezTo>
                  <a:pt x="11286" y="17727"/>
                  <a:pt x="11286" y="17744"/>
                  <a:pt x="11286" y="17760"/>
                </a:cubicBezTo>
              </a:path>
              <a:path w="1415" h="1366">
                <a:moveTo>
                  <a:pt x="11237" y="17487"/>
                </a:moveTo>
                <a:cubicBezTo>
                  <a:pt x="11237" y="17495"/>
                  <a:pt x="11237" y="17504"/>
                  <a:pt x="11237" y="17512"/>
                </a:cubicBezTo>
                <a:cubicBezTo>
                  <a:pt x="11292" y="17512"/>
                  <a:pt x="11338" y="17494"/>
                  <a:pt x="11385" y="17462"/>
                </a:cubicBezTo>
                <a:cubicBezTo>
                  <a:pt x="11430" y="17431"/>
                  <a:pt x="11471" y="17403"/>
                  <a:pt x="11509" y="17363"/>
                </a:cubicBezTo>
              </a:path>
              <a:path w="1415" h="1366">
                <a:moveTo>
                  <a:pt x="11584" y="17190"/>
                </a:moveTo>
                <a:cubicBezTo>
                  <a:pt x="11506" y="17228"/>
                  <a:pt x="11464" y="17246"/>
                  <a:pt x="11460" y="17338"/>
                </a:cubicBezTo>
                <a:cubicBezTo>
                  <a:pt x="11455" y="17449"/>
                  <a:pt x="11457" y="17554"/>
                  <a:pt x="11485" y="17661"/>
                </a:cubicBezTo>
                <a:cubicBezTo>
                  <a:pt x="11506" y="17741"/>
                  <a:pt x="11525" y="17802"/>
                  <a:pt x="11584" y="17859"/>
                </a:cubicBezTo>
              </a:path>
              <a:path w="1415" h="1366">
                <a:moveTo>
                  <a:pt x="11881" y="17735"/>
                </a:moveTo>
                <a:cubicBezTo>
                  <a:pt x="11889" y="17727"/>
                  <a:pt x="11898" y="17719"/>
                  <a:pt x="11906" y="17711"/>
                </a:cubicBezTo>
                <a:cubicBezTo>
                  <a:pt x="11939" y="17754"/>
                  <a:pt x="11931" y="17777"/>
                  <a:pt x="11931" y="17835"/>
                </a:cubicBezTo>
                <a:cubicBezTo>
                  <a:pt x="11931" y="17922"/>
                  <a:pt x="11910" y="17918"/>
                  <a:pt x="11881" y="17983"/>
                </a:cubicBezTo>
                <a:cubicBezTo>
                  <a:pt x="11865" y="18018"/>
                  <a:pt x="11869" y="17996"/>
                  <a:pt x="11857" y="18033"/>
                </a:cubicBezTo>
                <a:cubicBezTo>
                  <a:pt x="11907" y="18033"/>
                  <a:pt x="11915" y="18034"/>
                  <a:pt x="11956" y="18058"/>
                </a:cubicBezTo>
                <a:cubicBezTo>
                  <a:pt x="12021" y="18096"/>
                  <a:pt x="12052" y="18151"/>
                  <a:pt x="12030" y="18231"/>
                </a:cubicBezTo>
                <a:cubicBezTo>
                  <a:pt x="12012" y="18294"/>
                  <a:pt x="11938" y="18379"/>
                  <a:pt x="11881" y="18405"/>
                </a:cubicBezTo>
                <a:cubicBezTo>
                  <a:pt x="11814" y="18428"/>
                  <a:pt x="11796" y="18433"/>
                  <a:pt x="11757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41960" y="6045120"/>
            <a:ext cx="374760" cy="635040"/>
          </a:xfrm>
          <a:custGeom>
            <a:avLst/>
            <a:gdLst/>
            <a:ahLst/>
            <a:rect l="l" t="t" r="r" b="b"/>
            <a:pathLst>
              <a:path w="1043" h="1762">
                <a:moveTo>
                  <a:pt x="15528" y="17413"/>
                </a:moveTo>
                <a:cubicBezTo>
                  <a:pt x="15451" y="17361"/>
                  <a:pt x="15413" y="17343"/>
                  <a:pt x="15329" y="17388"/>
                </a:cubicBezTo>
                <a:cubicBezTo>
                  <a:pt x="15233" y="17440"/>
                  <a:pt x="15208" y="17535"/>
                  <a:pt x="15180" y="17636"/>
                </a:cubicBezTo>
                <a:cubicBezTo>
                  <a:pt x="15154" y="17728"/>
                  <a:pt x="15132" y="17876"/>
                  <a:pt x="15205" y="17959"/>
                </a:cubicBezTo>
                <a:cubicBezTo>
                  <a:pt x="15263" y="18024"/>
                  <a:pt x="15378" y="18008"/>
                  <a:pt x="15453" y="18008"/>
                </a:cubicBezTo>
                <a:cubicBezTo>
                  <a:pt x="15528" y="18008"/>
                  <a:pt x="15552" y="18008"/>
                  <a:pt x="15602" y="18008"/>
                </a:cubicBezTo>
              </a:path>
              <a:path w="1043" h="1762">
                <a:moveTo>
                  <a:pt x="15280" y="16793"/>
                </a:moveTo>
                <a:cubicBezTo>
                  <a:pt x="15219" y="16808"/>
                  <a:pt x="15230" y="16831"/>
                  <a:pt x="15230" y="16892"/>
                </a:cubicBezTo>
                <a:cubicBezTo>
                  <a:pt x="15230" y="16998"/>
                  <a:pt x="15232" y="17090"/>
                  <a:pt x="15255" y="17190"/>
                </a:cubicBezTo>
                <a:cubicBezTo>
                  <a:pt x="15255" y="17198"/>
                  <a:pt x="15255" y="17206"/>
                  <a:pt x="15255" y="17214"/>
                </a:cubicBezTo>
              </a:path>
              <a:path w="1043" h="1762">
                <a:moveTo>
                  <a:pt x="14560" y="17735"/>
                </a:moveTo>
                <a:cubicBezTo>
                  <a:pt x="14653" y="17735"/>
                  <a:pt x="14747" y="17747"/>
                  <a:pt x="14833" y="17711"/>
                </a:cubicBezTo>
                <a:cubicBezTo>
                  <a:pt x="14874" y="17691"/>
                  <a:pt x="14880" y="17682"/>
                  <a:pt x="14908" y="17686"/>
                </a:cubicBezTo>
              </a:path>
              <a:path w="1043" h="1762">
                <a:moveTo>
                  <a:pt x="15453" y="18207"/>
                </a:moveTo>
                <a:cubicBezTo>
                  <a:pt x="15424" y="18256"/>
                  <a:pt x="15429" y="18295"/>
                  <a:pt x="15429" y="18355"/>
                </a:cubicBezTo>
                <a:cubicBezTo>
                  <a:pt x="15429" y="18415"/>
                  <a:pt x="15422" y="18482"/>
                  <a:pt x="15453" y="18529"/>
                </a:cubicBezTo>
                <a:cubicBezTo>
                  <a:pt x="15476" y="18552"/>
                  <a:pt x="15480" y="18560"/>
                  <a:pt x="15503" y="185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69000" y="6000840"/>
            <a:ext cx="2786040" cy="803160"/>
          </a:xfrm>
          <a:custGeom>
            <a:avLst/>
            <a:gdLst/>
            <a:ahLst/>
            <a:rect l="l" t="t" r="r" b="b"/>
            <a:pathLst>
              <a:path w="7740" h="2233">
                <a:moveTo>
                  <a:pt x="16024" y="17760"/>
                </a:moveTo>
                <a:cubicBezTo>
                  <a:pt x="16097" y="17760"/>
                  <a:pt x="16152" y="17743"/>
                  <a:pt x="16222" y="17735"/>
                </a:cubicBezTo>
                <a:cubicBezTo>
                  <a:pt x="16289" y="17727"/>
                  <a:pt x="16354" y="17711"/>
                  <a:pt x="16421" y="17711"/>
                </a:cubicBezTo>
              </a:path>
              <a:path w="7740" h="2233">
                <a:moveTo>
                  <a:pt x="17016" y="17388"/>
                </a:moveTo>
                <a:cubicBezTo>
                  <a:pt x="16959" y="17388"/>
                  <a:pt x="16863" y="17368"/>
                  <a:pt x="16818" y="17413"/>
                </a:cubicBezTo>
                <a:cubicBezTo>
                  <a:pt x="16751" y="17480"/>
                  <a:pt x="16705" y="17592"/>
                  <a:pt x="16694" y="17686"/>
                </a:cubicBezTo>
                <a:cubicBezTo>
                  <a:pt x="16680" y="17801"/>
                  <a:pt x="16710" y="17887"/>
                  <a:pt x="16818" y="17934"/>
                </a:cubicBezTo>
                <a:cubicBezTo>
                  <a:pt x="16912" y="17975"/>
                  <a:pt x="16996" y="17916"/>
                  <a:pt x="17090" y="17884"/>
                </a:cubicBezTo>
              </a:path>
              <a:path w="7740" h="2233">
                <a:moveTo>
                  <a:pt x="16917" y="16718"/>
                </a:moveTo>
                <a:cubicBezTo>
                  <a:pt x="16884" y="16756"/>
                  <a:pt x="16820" y="16805"/>
                  <a:pt x="16842" y="16867"/>
                </a:cubicBezTo>
                <a:cubicBezTo>
                  <a:pt x="16864" y="16911"/>
                  <a:pt x="16867" y="16923"/>
                  <a:pt x="16892" y="16942"/>
                </a:cubicBezTo>
              </a:path>
              <a:path w="7740" h="2233">
                <a:moveTo>
                  <a:pt x="16842" y="18008"/>
                </a:moveTo>
                <a:cubicBezTo>
                  <a:pt x="16877" y="18055"/>
                  <a:pt x="16867" y="18095"/>
                  <a:pt x="16867" y="18157"/>
                </a:cubicBezTo>
                <a:cubicBezTo>
                  <a:pt x="16867" y="18269"/>
                  <a:pt x="16862" y="18382"/>
                  <a:pt x="16892" y="18479"/>
                </a:cubicBezTo>
                <a:cubicBezTo>
                  <a:pt x="16892" y="18507"/>
                  <a:pt x="16894" y="18513"/>
                  <a:pt x="16917" y="18479"/>
                </a:cubicBezTo>
              </a:path>
              <a:path w="7740" h="2233">
                <a:moveTo>
                  <a:pt x="16867" y="16718"/>
                </a:moveTo>
                <a:cubicBezTo>
                  <a:pt x="16828" y="16770"/>
                  <a:pt x="16842" y="16824"/>
                  <a:pt x="16842" y="16892"/>
                </a:cubicBezTo>
                <a:cubicBezTo>
                  <a:pt x="16842" y="17015"/>
                  <a:pt x="16841" y="17144"/>
                  <a:pt x="16867" y="17264"/>
                </a:cubicBezTo>
                <a:cubicBezTo>
                  <a:pt x="16887" y="17324"/>
                  <a:pt x="16886" y="17339"/>
                  <a:pt x="16917" y="17363"/>
                </a:cubicBezTo>
              </a:path>
              <a:path w="7740" h="2233">
                <a:moveTo>
                  <a:pt x="17289" y="17661"/>
                </a:moveTo>
                <a:cubicBezTo>
                  <a:pt x="17344" y="17661"/>
                  <a:pt x="17382" y="17638"/>
                  <a:pt x="17438" y="17636"/>
                </a:cubicBezTo>
                <a:cubicBezTo>
                  <a:pt x="17549" y="17631"/>
                  <a:pt x="17652" y="17615"/>
                  <a:pt x="17760" y="17611"/>
                </a:cubicBezTo>
                <a:cubicBezTo>
                  <a:pt x="17818" y="17611"/>
                  <a:pt x="17826" y="17611"/>
                  <a:pt x="17859" y="17611"/>
                </a:cubicBezTo>
              </a:path>
              <a:path w="7740" h="2233">
                <a:moveTo>
                  <a:pt x="18256" y="17388"/>
                </a:moveTo>
                <a:cubicBezTo>
                  <a:pt x="18199" y="17374"/>
                  <a:pt x="18197" y="17345"/>
                  <a:pt x="18132" y="17388"/>
                </a:cubicBezTo>
                <a:cubicBezTo>
                  <a:pt x="18041" y="17449"/>
                  <a:pt x="18036" y="17510"/>
                  <a:pt x="18033" y="17611"/>
                </a:cubicBezTo>
                <a:cubicBezTo>
                  <a:pt x="18029" y="17715"/>
                  <a:pt x="18102" y="17817"/>
                  <a:pt x="18182" y="17884"/>
                </a:cubicBezTo>
                <a:cubicBezTo>
                  <a:pt x="18246" y="17937"/>
                  <a:pt x="18346" y="17956"/>
                  <a:pt x="18430" y="17934"/>
                </a:cubicBezTo>
                <a:cubicBezTo>
                  <a:pt x="18446" y="17926"/>
                  <a:pt x="18463" y="17917"/>
                  <a:pt x="18479" y="17909"/>
                </a:cubicBezTo>
              </a:path>
              <a:path w="7740" h="2233">
                <a:moveTo>
                  <a:pt x="18157" y="16669"/>
                </a:moveTo>
                <a:cubicBezTo>
                  <a:pt x="18140" y="16669"/>
                  <a:pt x="18124" y="16669"/>
                  <a:pt x="18107" y="16669"/>
                </a:cubicBezTo>
                <a:cubicBezTo>
                  <a:pt x="18107" y="16748"/>
                  <a:pt x="18104" y="16816"/>
                  <a:pt x="18132" y="16892"/>
                </a:cubicBezTo>
                <a:cubicBezTo>
                  <a:pt x="18157" y="16961"/>
                  <a:pt x="18191" y="17043"/>
                  <a:pt x="18207" y="17115"/>
                </a:cubicBezTo>
                <a:cubicBezTo>
                  <a:pt x="18207" y="17132"/>
                  <a:pt x="18207" y="17148"/>
                  <a:pt x="18207" y="17165"/>
                </a:cubicBezTo>
              </a:path>
              <a:path w="7740" h="2233">
                <a:moveTo>
                  <a:pt x="18306" y="18008"/>
                </a:moveTo>
                <a:cubicBezTo>
                  <a:pt x="18306" y="18171"/>
                  <a:pt x="18287" y="18358"/>
                  <a:pt x="18331" y="18504"/>
                </a:cubicBezTo>
                <a:cubicBezTo>
                  <a:pt x="18342" y="18540"/>
                  <a:pt x="18338" y="18529"/>
                  <a:pt x="18380" y="18529"/>
                </a:cubicBezTo>
              </a:path>
              <a:path w="7740" h="2233">
                <a:moveTo>
                  <a:pt x="18653" y="17785"/>
                </a:moveTo>
                <a:cubicBezTo>
                  <a:pt x="18591" y="17785"/>
                  <a:pt x="18736" y="17807"/>
                  <a:pt x="18752" y="17810"/>
                </a:cubicBezTo>
                <a:cubicBezTo>
                  <a:pt x="18833" y="17824"/>
                  <a:pt x="18925" y="17772"/>
                  <a:pt x="19000" y="17760"/>
                </a:cubicBezTo>
                <a:cubicBezTo>
                  <a:pt x="19039" y="17754"/>
                  <a:pt x="19084" y="17760"/>
                  <a:pt x="19124" y="17760"/>
                </a:cubicBezTo>
              </a:path>
              <a:path w="7740" h="2233">
                <a:moveTo>
                  <a:pt x="19521" y="17512"/>
                </a:moveTo>
                <a:cubicBezTo>
                  <a:pt x="19521" y="17487"/>
                  <a:pt x="19521" y="17479"/>
                  <a:pt x="19521" y="17462"/>
                </a:cubicBezTo>
                <a:cubicBezTo>
                  <a:pt x="19469" y="17462"/>
                  <a:pt x="19409" y="17468"/>
                  <a:pt x="19372" y="17512"/>
                </a:cubicBezTo>
                <a:cubicBezTo>
                  <a:pt x="19312" y="17583"/>
                  <a:pt x="19310" y="17699"/>
                  <a:pt x="19323" y="17785"/>
                </a:cubicBezTo>
                <a:cubicBezTo>
                  <a:pt x="19344" y="17925"/>
                  <a:pt x="19405" y="17978"/>
                  <a:pt x="19521" y="18033"/>
                </a:cubicBezTo>
                <a:cubicBezTo>
                  <a:pt x="19616" y="18078"/>
                  <a:pt x="19694" y="18017"/>
                  <a:pt x="19769" y="17959"/>
                </a:cubicBezTo>
              </a:path>
              <a:path w="7740" h="2233">
                <a:moveTo>
                  <a:pt x="19521" y="16718"/>
                </a:moveTo>
                <a:cubicBezTo>
                  <a:pt x="19496" y="16818"/>
                  <a:pt x="19478" y="16936"/>
                  <a:pt x="19496" y="17041"/>
                </a:cubicBezTo>
                <a:cubicBezTo>
                  <a:pt x="19514" y="17146"/>
                  <a:pt x="19541" y="17262"/>
                  <a:pt x="19571" y="17363"/>
                </a:cubicBezTo>
                <a:cubicBezTo>
                  <a:pt x="19590" y="17421"/>
                  <a:pt x="19599" y="17427"/>
                  <a:pt x="19596" y="17462"/>
                </a:cubicBezTo>
              </a:path>
              <a:path w="7740" h="2233">
                <a:moveTo>
                  <a:pt x="19571" y="18157"/>
                </a:moveTo>
                <a:cubicBezTo>
                  <a:pt x="19571" y="18093"/>
                  <a:pt x="19548" y="18243"/>
                  <a:pt x="19546" y="18256"/>
                </a:cubicBezTo>
                <a:cubicBezTo>
                  <a:pt x="19534" y="18349"/>
                  <a:pt x="19521" y="18434"/>
                  <a:pt x="19521" y="18529"/>
                </a:cubicBezTo>
                <a:cubicBezTo>
                  <a:pt x="19521" y="18580"/>
                  <a:pt x="19505" y="18615"/>
                  <a:pt x="19546" y="18628"/>
                </a:cubicBezTo>
              </a:path>
              <a:path w="7740" h="2233">
                <a:moveTo>
                  <a:pt x="19844" y="17636"/>
                </a:moveTo>
                <a:cubicBezTo>
                  <a:pt x="19816" y="17636"/>
                  <a:pt x="19805" y="17634"/>
                  <a:pt x="19794" y="17611"/>
                </a:cubicBezTo>
                <a:cubicBezTo>
                  <a:pt x="19930" y="17611"/>
                  <a:pt x="20062" y="17614"/>
                  <a:pt x="20191" y="17587"/>
                </a:cubicBezTo>
                <a:cubicBezTo>
                  <a:pt x="20230" y="17579"/>
                  <a:pt x="20231" y="17583"/>
                  <a:pt x="20241" y="17611"/>
                </a:cubicBezTo>
              </a:path>
              <a:path w="7740" h="2233">
                <a:moveTo>
                  <a:pt x="20737" y="17438"/>
                </a:moveTo>
                <a:cubicBezTo>
                  <a:pt x="20707" y="17393"/>
                  <a:pt x="20668" y="17413"/>
                  <a:pt x="20613" y="17438"/>
                </a:cubicBezTo>
                <a:cubicBezTo>
                  <a:pt x="20526" y="17478"/>
                  <a:pt x="20454" y="17563"/>
                  <a:pt x="20439" y="17661"/>
                </a:cubicBezTo>
                <a:cubicBezTo>
                  <a:pt x="20425" y="17748"/>
                  <a:pt x="20456" y="17907"/>
                  <a:pt x="20538" y="17959"/>
                </a:cubicBezTo>
                <a:cubicBezTo>
                  <a:pt x="20607" y="18002"/>
                  <a:pt x="20709" y="17983"/>
                  <a:pt x="20786" y="17983"/>
                </a:cubicBezTo>
                <a:cubicBezTo>
                  <a:pt x="20803" y="17983"/>
                  <a:pt x="20819" y="17983"/>
                  <a:pt x="20836" y="17983"/>
                </a:cubicBezTo>
              </a:path>
              <a:path w="7740" h="2233">
                <a:moveTo>
                  <a:pt x="20712" y="16743"/>
                </a:moveTo>
                <a:cubicBezTo>
                  <a:pt x="20635" y="16842"/>
                  <a:pt x="20638" y="16890"/>
                  <a:pt x="20638" y="17016"/>
                </a:cubicBezTo>
                <a:cubicBezTo>
                  <a:pt x="20638" y="17142"/>
                  <a:pt x="20662" y="17217"/>
                  <a:pt x="20737" y="17314"/>
                </a:cubicBezTo>
              </a:path>
              <a:path w="7740" h="2233">
                <a:moveTo>
                  <a:pt x="20588" y="18107"/>
                </a:moveTo>
                <a:cubicBezTo>
                  <a:pt x="20588" y="18192"/>
                  <a:pt x="20600" y="18253"/>
                  <a:pt x="20613" y="18331"/>
                </a:cubicBezTo>
                <a:cubicBezTo>
                  <a:pt x="20623" y="18391"/>
                  <a:pt x="20638" y="18441"/>
                  <a:pt x="20638" y="18504"/>
                </a:cubicBezTo>
                <a:cubicBezTo>
                  <a:pt x="20638" y="18563"/>
                  <a:pt x="20631" y="18561"/>
                  <a:pt x="20662" y="18604"/>
                </a:cubicBezTo>
              </a:path>
              <a:path w="7740" h="2233">
                <a:moveTo>
                  <a:pt x="20985" y="17785"/>
                </a:moveTo>
                <a:cubicBezTo>
                  <a:pt x="21028" y="17817"/>
                  <a:pt x="21052" y="17832"/>
                  <a:pt x="21109" y="17835"/>
                </a:cubicBezTo>
                <a:cubicBezTo>
                  <a:pt x="21171" y="17839"/>
                  <a:pt x="21225" y="17836"/>
                  <a:pt x="21282" y="17859"/>
                </a:cubicBezTo>
                <a:cubicBezTo>
                  <a:pt x="21326" y="17877"/>
                  <a:pt x="21342" y="17899"/>
                  <a:pt x="21382" y="17909"/>
                </a:cubicBezTo>
              </a:path>
              <a:path w="7740" h="2233">
                <a:moveTo>
                  <a:pt x="21779" y="17686"/>
                </a:moveTo>
                <a:cubicBezTo>
                  <a:pt x="21770" y="17659"/>
                  <a:pt x="21761" y="17640"/>
                  <a:pt x="21729" y="17636"/>
                </a:cubicBezTo>
                <a:cubicBezTo>
                  <a:pt x="21692" y="17631"/>
                  <a:pt x="21653" y="17628"/>
                  <a:pt x="21630" y="17661"/>
                </a:cubicBezTo>
                <a:cubicBezTo>
                  <a:pt x="21578" y="17737"/>
                  <a:pt x="21558" y="17819"/>
                  <a:pt x="21555" y="17909"/>
                </a:cubicBezTo>
                <a:cubicBezTo>
                  <a:pt x="21552" y="18001"/>
                  <a:pt x="21576" y="18062"/>
                  <a:pt x="21654" y="18107"/>
                </a:cubicBezTo>
                <a:cubicBezTo>
                  <a:pt x="21749" y="18163"/>
                  <a:pt x="21793" y="18106"/>
                  <a:pt x="21878" y="18058"/>
                </a:cubicBezTo>
                <a:cubicBezTo>
                  <a:pt x="21894" y="18050"/>
                  <a:pt x="21911" y="18041"/>
                  <a:pt x="21927" y="18033"/>
                </a:cubicBezTo>
              </a:path>
              <a:path w="7740" h="2233">
                <a:moveTo>
                  <a:pt x="21878" y="16818"/>
                </a:moveTo>
                <a:cubicBezTo>
                  <a:pt x="21855" y="16903"/>
                  <a:pt x="21836" y="17000"/>
                  <a:pt x="21853" y="17090"/>
                </a:cubicBezTo>
                <a:cubicBezTo>
                  <a:pt x="21866" y="17159"/>
                  <a:pt x="21881" y="17224"/>
                  <a:pt x="21903" y="17289"/>
                </a:cubicBezTo>
              </a:path>
              <a:path w="7740" h="2233">
                <a:moveTo>
                  <a:pt x="21704" y="18231"/>
                </a:moveTo>
                <a:cubicBezTo>
                  <a:pt x="21704" y="18286"/>
                  <a:pt x="21699" y="18302"/>
                  <a:pt x="21679" y="18355"/>
                </a:cubicBezTo>
                <a:cubicBezTo>
                  <a:pt x="21648" y="18439"/>
                  <a:pt x="21630" y="18489"/>
                  <a:pt x="21630" y="18579"/>
                </a:cubicBezTo>
                <a:cubicBezTo>
                  <a:pt x="21630" y="18638"/>
                  <a:pt x="21629" y="18640"/>
                  <a:pt x="21679" y="18653"/>
                </a:cubicBezTo>
              </a:path>
              <a:path w="7740" h="2233">
                <a:moveTo>
                  <a:pt x="22250" y="17959"/>
                </a:moveTo>
                <a:cubicBezTo>
                  <a:pt x="22407" y="17959"/>
                  <a:pt x="22564" y="17959"/>
                  <a:pt x="22721" y="17959"/>
                </a:cubicBezTo>
              </a:path>
              <a:path w="7740" h="2233">
                <a:moveTo>
                  <a:pt x="23019" y="17760"/>
                </a:moveTo>
                <a:cubicBezTo>
                  <a:pt x="22961" y="17760"/>
                  <a:pt x="22915" y="17749"/>
                  <a:pt x="22870" y="17785"/>
                </a:cubicBezTo>
                <a:cubicBezTo>
                  <a:pt x="22828" y="17818"/>
                  <a:pt x="22835" y="17956"/>
                  <a:pt x="22845" y="18008"/>
                </a:cubicBezTo>
                <a:cubicBezTo>
                  <a:pt x="22866" y="18114"/>
                  <a:pt x="22901" y="18180"/>
                  <a:pt x="22994" y="18231"/>
                </a:cubicBezTo>
                <a:cubicBezTo>
                  <a:pt x="23075" y="18276"/>
                  <a:pt x="23115" y="18245"/>
                  <a:pt x="23192" y="18207"/>
                </a:cubicBezTo>
              </a:path>
              <a:path w="7740" h="2233">
                <a:moveTo>
                  <a:pt x="22994" y="16942"/>
                </a:moveTo>
                <a:cubicBezTo>
                  <a:pt x="22957" y="17040"/>
                  <a:pt x="22984" y="17089"/>
                  <a:pt x="22994" y="17190"/>
                </a:cubicBezTo>
                <a:cubicBezTo>
                  <a:pt x="23004" y="17298"/>
                  <a:pt x="23021" y="17407"/>
                  <a:pt x="23044" y="17512"/>
                </a:cubicBezTo>
                <a:cubicBezTo>
                  <a:pt x="23060" y="17584"/>
                  <a:pt x="23068" y="17636"/>
                  <a:pt x="23068" y="17711"/>
                </a:cubicBezTo>
              </a:path>
              <a:path w="7740" h="2233">
                <a:moveTo>
                  <a:pt x="23341" y="17934"/>
                </a:moveTo>
                <a:cubicBezTo>
                  <a:pt x="23358" y="17984"/>
                  <a:pt x="23431" y="17981"/>
                  <a:pt x="23490" y="17983"/>
                </a:cubicBezTo>
                <a:cubicBezTo>
                  <a:pt x="23567" y="17986"/>
                  <a:pt x="23729" y="17956"/>
                  <a:pt x="23763" y="18008"/>
                </a:cubicBezTo>
              </a:path>
              <a:path w="7740" h="2233">
                <a:moveTo>
                  <a:pt x="23068" y="18479"/>
                </a:moveTo>
                <a:cubicBezTo>
                  <a:pt x="23057" y="18526"/>
                  <a:pt x="23026" y="18577"/>
                  <a:pt x="23019" y="18628"/>
                </a:cubicBezTo>
                <a:cubicBezTo>
                  <a:pt x="23009" y="18704"/>
                  <a:pt x="23000" y="18778"/>
                  <a:pt x="22994" y="18852"/>
                </a:cubicBezTo>
                <a:cubicBezTo>
                  <a:pt x="22994" y="18876"/>
                  <a:pt x="22994" y="18885"/>
                  <a:pt x="22994" y="189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al Iso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molecules with the same molecular formula but different arrangements of the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chemical and physical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al isome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isomers in which the atoms are attached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bonding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 constitutional is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91120" y="4697280"/>
            <a:ext cx="2081160" cy="303480"/>
          </a:xfrm>
          <a:custGeom>
            <a:avLst/>
            <a:gdLst/>
            <a:ahLst/>
            <a:rect l="l" t="t" r="r" b="b"/>
            <a:pathLst>
              <a:path w="5780" h="845">
                <a:moveTo>
                  <a:pt x="16991" y="13271"/>
                </a:moveTo>
                <a:cubicBezTo>
                  <a:pt x="17024" y="13260"/>
                  <a:pt x="17021" y="13231"/>
                  <a:pt x="17041" y="13221"/>
                </a:cubicBezTo>
                <a:cubicBezTo>
                  <a:pt x="17073" y="13205"/>
                  <a:pt x="17066" y="13217"/>
                  <a:pt x="17066" y="13171"/>
                </a:cubicBezTo>
                <a:cubicBezTo>
                  <a:pt x="17057" y="13145"/>
                  <a:pt x="17007" y="13129"/>
                  <a:pt x="16966" y="13122"/>
                </a:cubicBezTo>
                <a:cubicBezTo>
                  <a:pt x="16885" y="13108"/>
                  <a:pt x="16764" y="13184"/>
                  <a:pt x="16718" y="13246"/>
                </a:cubicBezTo>
                <a:cubicBezTo>
                  <a:pt x="16622" y="13375"/>
                  <a:pt x="16618" y="13558"/>
                  <a:pt x="16694" y="13692"/>
                </a:cubicBezTo>
                <a:cubicBezTo>
                  <a:pt x="16779" y="13842"/>
                  <a:pt x="16919" y="13912"/>
                  <a:pt x="17090" y="13891"/>
                </a:cubicBezTo>
                <a:cubicBezTo>
                  <a:pt x="17115" y="13883"/>
                  <a:pt x="17140" y="13874"/>
                  <a:pt x="17165" y="13866"/>
                </a:cubicBezTo>
              </a:path>
              <a:path w="5780" h="845">
                <a:moveTo>
                  <a:pt x="17388" y="13543"/>
                </a:moveTo>
                <a:cubicBezTo>
                  <a:pt x="17314" y="13543"/>
                  <a:pt x="17510" y="13543"/>
                  <a:pt x="17512" y="13543"/>
                </a:cubicBezTo>
                <a:cubicBezTo>
                  <a:pt x="17615" y="13543"/>
                  <a:pt x="17738" y="13530"/>
                  <a:pt x="17835" y="13494"/>
                </a:cubicBezTo>
                <a:cubicBezTo>
                  <a:pt x="17851" y="13486"/>
                  <a:pt x="17868" y="13477"/>
                  <a:pt x="17884" y="13469"/>
                </a:cubicBezTo>
              </a:path>
              <a:path w="5780" h="845">
                <a:moveTo>
                  <a:pt x="18331" y="13221"/>
                </a:moveTo>
                <a:cubicBezTo>
                  <a:pt x="18287" y="13195"/>
                  <a:pt x="18214" y="13180"/>
                  <a:pt x="18157" y="13196"/>
                </a:cubicBezTo>
                <a:cubicBezTo>
                  <a:pt x="18061" y="13223"/>
                  <a:pt x="18009" y="13334"/>
                  <a:pt x="17983" y="13419"/>
                </a:cubicBezTo>
                <a:cubicBezTo>
                  <a:pt x="17936" y="13570"/>
                  <a:pt x="17984" y="13668"/>
                  <a:pt x="18083" y="13767"/>
                </a:cubicBezTo>
                <a:cubicBezTo>
                  <a:pt x="18155" y="13839"/>
                  <a:pt x="18223" y="13892"/>
                  <a:pt x="18331" y="13866"/>
                </a:cubicBezTo>
                <a:cubicBezTo>
                  <a:pt x="18347" y="13858"/>
                  <a:pt x="18364" y="13849"/>
                  <a:pt x="18380" y="13841"/>
                </a:cubicBezTo>
              </a:path>
              <a:path w="5780" h="845">
                <a:moveTo>
                  <a:pt x="18628" y="13469"/>
                </a:moveTo>
                <a:cubicBezTo>
                  <a:pt x="18641" y="13509"/>
                  <a:pt x="18677" y="13494"/>
                  <a:pt x="18728" y="13494"/>
                </a:cubicBezTo>
                <a:cubicBezTo>
                  <a:pt x="18834" y="13494"/>
                  <a:pt x="18927" y="13485"/>
                  <a:pt x="19025" y="13469"/>
                </a:cubicBezTo>
                <a:cubicBezTo>
                  <a:pt x="19070" y="13469"/>
                  <a:pt x="19083" y="13472"/>
                  <a:pt x="19100" y="13444"/>
                </a:cubicBezTo>
              </a:path>
              <a:path w="5780" h="845">
                <a:moveTo>
                  <a:pt x="19273" y="13221"/>
                </a:moveTo>
                <a:cubicBezTo>
                  <a:pt x="19186" y="13221"/>
                  <a:pt x="19134" y="13218"/>
                  <a:pt x="19075" y="13295"/>
                </a:cubicBezTo>
                <a:cubicBezTo>
                  <a:pt x="19015" y="13373"/>
                  <a:pt x="19011" y="13500"/>
                  <a:pt x="19025" y="13593"/>
                </a:cubicBezTo>
                <a:cubicBezTo>
                  <a:pt x="19043" y="13713"/>
                  <a:pt x="19119" y="13796"/>
                  <a:pt x="19224" y="13841"/>
                </a:cubicBezTo>
                <a:cubicBezTo>
                  <a:pt x="19343" y="13892"/>
                  <a:pt x="19376" y="13851"/>
                  <a:pt x="19472" y="13791"/>
                </a:cubicBezTo>
              </a:path>
              <a:path w="5780" h="845">
                <a:moveTo>
                  <a:pt x="19571" y="13469"/>
                </a:moveTo>
                <a:cubicBezTo>
                  <a:pt x="19651" y="13469"/>
                  <a:pt x="19717" y="13453"/>
                  <a:pt x="19794" y="13444"/>
                </a:cubicBezTo>
                <a:cubicBezTo>
                  <a:pt x="19881" y="13434"/>
                  <a:pt x="19954" y="13404"/>
                  <a:pt x="20042" y="13395"/>
                </a:cubicBezTo>
              </a:path>
              <a:path w="5780" h="845">
                <a:moveTo>
                  <a:pt x="20613" y="13097"/>
                </a:moveTo>
                <a:cubicBezTo>
                  <a:pt x="20597" y="13032"/>
                  <a:pt x="20546" y="13031"/>
                  <a:pt x="20489" y="13072"/>
                </a:cubicBezTo>
                <a:cubicBezTo>
                  <a:pt x="20405" y="13133"/>
                  <a:pt x="20290" y="13296"/>
                  <a:pt x="20265" y="13395"/>
                </a:cubicBezTo>
                <a:cubicBezTo>
                  <a:pt x="20231" y="13530"/>
                  <a:pt x="20263" y="13639"/>
                  <a:pt x="20365" y="13717"/>
                </a:cubicBezTo>
                <a:cubicBezTo>
                  <a:pt x="20464" y="13793"/>
                  <a:pt x="20543" y="13791"/>
                  <a:pt x="20662" y="13791"/>
                </a:cubicBezTo>
              </a:path>
              <a:path w="5780" h="845">
                <a:moveTo>
                  <a:pt x="20861" y="13395"/>
                </a:moveTo>
                <a:cubicBezTo>
                  <a:pt x="20939" y="13395"/>
                  <a:pt x="21006" y="13417"/>
                  <a:pt x="21084" y="13419"/>
                </a:cubicBezTo>
                <a:cubicBezTo>
                  <a:pt x="21199" y="13422"/>
                  <a:pt x="21316" y="13419"/>
                  <a:pt x="21431" y="13419"/>
                </a:cubicBezTo>
              </a:path>
              <a:path w="5780" h="845">
                <a:moveTo>
                  <a:pt x="22126" y="13196"/>
                </a:moveTo>
                <a:cubicBezTo>
                  <a:pt x="22056" y="13136"/>
                  <a:pt x="22013" y="13132"/>
                  <a:pt x="21927" y="13196"/>
                </a:cubicBezTo>
                <a:cubicBezTo>
                  <a:pt x="21840" y="13261"/>
                  <a:pt x="21785" y="13368"/>
                  <a:pt x="21779" y="13469"/>
                </a:cubicBezTo>
                <a:cubicBezTo>
                  <a:pt x="21770" y="13615"/>
                  <a:pt x="21863" y="13702"/>
                  <a:pt x="22002" y="13742"/>
                </a:cubicBezTo>
                <a:cubicBezTo>
                  <a:pt x="22138" y="13781"/>
                  <a:pt x="22284" y="13785"/>
                  <a:pt x="22423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9040" y="5742000"/>
            <a:ext cx="411120" cy="776160"/>
          </a:xfrm>
          <a:custGeom>
            <a:avLst/>
            <a:gdLst/>
            <a:ahLst/>
            <a:rect l="l" t="t" r="r" b="b"/>
            <a:pathLst>
              <a:path w="1142" h="2159">
                <a:moveTo>
                  <a:pt x="11956" y="16024"/>
                </a:moveTo>
                <a:cubicBezTo>
                  <a:pt x="11964" y="16024"/>
                  <a:pt x="11973" y="16024"/>
                  <a:pt x="11981" y="16024"/>
                </a:cubicBezTo>
                <a:cubicBezTo>
                  <a:pt x="11981" y="15979"/>
                  <a:pt x="11983" y="15953"/>
                  <a:pt x="11931" y="15949"/>
                </a:cubicBezTo>
                <a:cubicBezTo>
                  <a:pt x="11840" y="15943"/>
                  <a:pt x="11770" y="15952"/>
                  <a:pt x="11708" y="16024"/>
                </a:cubicBezTo>
                <a:cubicBezTo>
                  <a:pt x="11608" y="16139"/>
                  <a:pt x="11583" y="16214"/>
                  <a:pt x="11658" y="16346"/>
                </a:cubicBezTo>
                <a:cubicBezTo>
                  <a:pt x="11719" y="16453"/>
                  <a:pt x="11816" y="16466"/>
                  <a:pt x="11931" y="16470"/>
                </a:cubicBezTo>
                <a:cubicBezTo>
                  <a:pt x="11999" y="16470"/>
                  <a:pt x="12018" y="16473"/>
                  <a:pt x="12055" y="16446"/>
                </a:cubicBezTo>
              </a:path>
              <a:path w="1142" h="2159">
                <a:moveTo>
                  <a:pt x="11509" y="16446"/>
                </a:moveTo>
                <a:cubicBezTo>
                  <a:pt x="11534" y="16421"/>
                  <a:pt x="11542" y="16413"/>
                  <a:pt x="11559" y="16396"/>
                </a:cubicBezTo>
                <a:cubicBezTo>
                  <a:pt x="11503" y="16410"/>
                  <a:pt x="11483" y="16458"/>
                  <a:pt x="11435" y="16495"/>
                </a:cubicBezTo>
                <a:cubicBezTo>
                  <a:pt x="11351" y="16560"/>
                  <a:pt x="11265" y="16621"/>
                  <a:pt x="11187" y="16694"/>
                </a:cubicBezTo>
                <a:cubicBezTo>
                  <a:pt x="11148" y="16732"/>
                  <a:pt x="11131" y="16734"/>
                  <a:pt x="11137" y="16768"/>
                </a:cubicBezTo>
              </a:path>
              <a:path w="1142" h="2159">
                <a:moveTo>
                  <a:pt x="11162" y="16917"/>
                </a:moveTo>
                <a:cubicBezTo>
                  <a:pt x="11162" y="16900"/>
                  <a:pt x="11162" y="16884"/>
                  <a:pt x="11162" y="16867"/>
                </a:cubicBezTo>
                <a:cubicBezTo>
                  <a:pt x="11117" y="16867"/>
                  <a:pt x="11049" y="16853"/>
                  <a:pt x="11013" y="16892"/>
                </a:cubicBezTo>
                <a:cubicBezTo>
                  <a:pt x="10966" y="16943"/>
                  <a:pt x="10922" y="17075"/>
                  <a:pt x="10914" y="17140"/>
                </a:cubicBezTo>
                <a:cubicBezTo>
                  <a:pt x="10901" y="17241"/>
                  <a:pt x="10972" y="17383"/>
                  <a:pt x="11063" y="17438"/>
                </a:cubicBezTo>
                <a:cubicBezTo>
                  <a:pt x="11140" y="17485"/>
                  <a:pt x="11235" y="17462"/>
                  <a:pt x="11311" y="17438"/>
                </a:cubicBezTo>
              </a:path>
              <a:path w="1142" h="2159">
                <a:moveTo>
                  <a:pt x="11187" y="17661"/>
                </a:moveTo>
                <a:cubicBezTo>
                  <a:pt x="11187" y="17636"/>
                  <a:pt x="11187" y="17628"/>
                  <a:pt x="11212" y="17636"/>
                </a:cubicBezTo>
                <a:cubicBezTo>
                  <a:pt x="11212" y="17693"/>
                  <a:pt x="11228" y="17732"/>
                  <a:pt x="11237" y="17785"/>
                </a:cubicBezTo>
                <a:cubicBezTo>
                  <a:pt x="11249" y="17858"/>
                  <a:pt x="11263" y="17940"/>
                  <a:pt x="11286" y="18008"/>
                </a:cubicBezTo>
                <a:cubicBezTo>
                  <a:pt x="11301" y="18052"/>
                  <a:pt x="11311" y="18074"/>
                  <a:pt x="11336" y="181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0240" y="5786280"/>
            <a:ext cx="652680" cy="839880"/>
          </a:xfrm>
          <a:custGeom>
            <a:avLst/>
            <a:gdLst/>
            <a:ahLst/>
            <a:rect l="l" t="t" r="r" b="b"/>
            <a:pathLst>
              <a:path w="1812" h="2333">
                <a:moveTo>
                  <a:pt x="11708" y="17983"/>
                </a:moveTo>
                <a:cubicBezTo>
                  <a:pt x="11648" y="17992"/>
                  <a:pt x="11601" y="18011"/>
                  <a:pt x="11584" y="18083"/>
                </a:cubicBezTo>
                <a:cubicBezTo>
                  <a:pt x="11561" y="18181"/>
                  <a:pt x="11595" y="18261"/>
                  <a:pt x="11658" y="18331"/>
                </a:cubicBezTo>
                <a:cubicBezTo>
                  <a:pt x="11737" y="18418"/>
                  <a:pt x="11823" y="18405"/>
                  <a:pt x="11931" y="18405"/>
                </a:cubicBezTo>
                <a:cubicBezTo>
                  <a:pt x="11999" y="18405"/>
                  <a:pt x="12018" y="18408"/>
                  <a:pt x="12055" y="18380"/>
                </a:cubicBezTo>
              </a:path>
              <a:path w="1812" h="2333">
                <a:moveTo>
                  <a:pt x="12129" y="18207"/>
                </a:moveTo>
                <a:cubicBezTo>
                  <a:pt x="12270" y="18207"/>
                  <a:pt x="12511" y="18251"/>
                  <a:pt x="12626" y="18182"/>
                </a:cubicBezTo>
              </a:path>
              <a:path w="1812" h="2333">
                <a:moveTo>
                  <a:pt x="13072" y="17884"/>
                </a:moveTo>
                <a:cubicBezTo>
                  <a:pt x="13015" y="17859"/>
                  <a:pt x="12975" y="17839"/>
                  <a:pt x="12923" y="17884"/>
                </a:cubicBezTo>
                <a:cubicBezTo>
                  <a:pt x="12864" y="17936"/>
                  <a:pt x="12810" y="17997"/>
                  <a:pt x="12824" y="18083"/>
                </a:cubicBezTo>
                <a:cubicBezTo>
                  <a:pt x="12840" y="18177"/>
                  <a:pt x="12929" y="18263"/>
                  <a:pt x="13022" y="18281"/>
                </a:cubicBezTo>
                <a:cubicBezTo>
                  <a:pt x="13114" y="18299"/>
                  <a:pt x="13197" y="18282"/>
                  <a:pt x="13246" y="18207"/>
                </a:cubicBezTo>
                <a:cubicBezTo>
                  <a:pt x="13254" y="18190"/>
                  <a:pt x="13263" y="18174"/>
                  <a:pt x="13271" y="18157"/>
                </a:cubicBezTo>
              </a:path>
              <a:path w="1812" h="2333">
                <a:moveTo>
                  <a:pt x="13196" y="17239"/>
                </a:moveTo>
                <a:cubicBezTo>
                  <a:pt x="13196" y="17231"/>
                  <a:pt x="13196" y="17222"/>
                  <a:pt x="13196" y="17214"/>
                </a:cubicBezTo>
                <a:cubicBezTo>
                  <a:pt x="13162" y="17225"/>
                  <a:pt x="13143" y="17240"/>
                  <a:pt x="13122" y="17289"/>
                </a:cubicBezTo>
                <a:cubicBezTo>
                  <a:pt x="13079" y="17389"/>
                  <a:pt x="13037" y="17450"/>
                  <a:pt x="13022" y="17562"/>
                </a:cubicBezTo>
                <a:cubicBezTo>
                  <a:pt x="13015" y="17615"/>
                  <a:pt x="13012" y="17624"/>
                  <a:pt x="13047" y="17636"/>
                </a:cubicBezTo>
              </a:path>
              <a:path w="1812" h="2333">
                <a:moveTo>
                  <a:pt x="13171" y="16545"/>
                </a:moveTo>
                <a:cubicBezTo>
                  <a:pt x="13171" y="16503"/>
                  <a:pt x="13171" y="16495"/>
                  <a:pt x="13171" y="16470"/>
                </a:cubicBezTo>
                <a:cubicBezTo>
                  <a:pt x="13093" y="16470"/>
                  <a:pt x="13049" y="16478"/>
                  <a:pt x="12998" y="16545"/>
                </a:cubicBezTo>
                <a:cubicBezTo>
                  <a:pt x="12952" y="16605"/>
                  <a:pt x="12919" y="16726"/>
                  <a:pt x="12973" y="16793"/>
                </a:cubicBezTo>
                <a:cubicBezTo>
                  <a:pt x="13021" y="16853"/>
                  <a:pt x="13202" y="16877"/>
                  <a:pt x="13271" y="16867"/>
                </a:cubicBezTo>
                <a:cubicBezTo>
                  <a:pt x="13338" y="16844"/>
                  <a:pt x="13356" y="16839"/>
                  <a:pt x="13395" y="16818"/>
                </a:cubicBezTo>
              </a:path>
              <a:path w="1812" h="2333">
                <a:moveTo>
                  <a:pt x="12378" y="16073"/>
                </a:moveTo>
                <a:cubicBezTo>
                  <a:pt x="12425" y="16097"/>
                  <a:pt x="12479" y="16175"/>
                  <a:pt x="12526" y="16222"/>
                </a:cubicBezTo>
                <a:cubicBezTo>
                  <a:pt x="12602" y="16298"/>
                  <a:pt x="12655" y="16350"/>
                  <a:pt x="12750" y="16396"/>
                </a:cubicBezTo>
                <a:cubicBezTo>
                  <a:pt x="12766" y="16404"/>
                  <a:pt x="12783" y="16413"/>
                  <a:pt x="12799" y="164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7360" y="57690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9472" y="16098"/>
                </a:moveTo>
                <a:cubicBezTo>
                  <a:pt x="19494" y="16067"/>
                  <a:pt x="19501" y="16039"/>
                  <a:pt x="19472" y="16024"/>
                </a:cubicBezTo>
                <a:cubicBezTo>
                  <a:pt x="19417" y="15996"/>
                  <a:pt x="19354" y="16069"/>
                  <a:pt x="19323" y="16098"/>
                </a:cubicBezTo>
                <a:cubicBezTo>
                  <a:pt x="19232" y="16184"/>
                  <a:pt x="19103" y="16293"/>
                  <a:pt x="19075" y="16421"/>
                </a:cubicBezTo>
                <a:cubicBezTo>
                  <a:pt x="19042" y="16574"/>
                  <a:pt x="19116" y="16727"/>
                  <a:pt x="19273" y="16768"/>
                </a:cubicBezTo>
                <a:cubicBezTo>
                  <a:pt x="19399" y="16801"/>
                  <a:pt x="19567" y="16770"/>
                  <a:pt x="19670" y="16694"/>
                </a:cubicBezTo>
                <a:cubicBezTo>
                  <a:pt x="19687" y="16677"/>
                  <a:pt x="19703" y="16661"/>
                  <a:pt x="19720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6920" y="5491080"/>
            <a:ext cx="2700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9348" y="15255"/>
                </a:moveTo>
                <a:cubicBezTo>
                  <a:pt x="19310" y="15318"/>
                  <a:pt x="19301" y="15399"/>
                  <a:pt x="19298" y="15478"/>
                </a:cubicBezTo>
                <a:cubicBezTo>
                  <a:pt x="19294" y="15610"/>
                  <a:pt x="19300" y="15725"/>
                  <a:pt x="19348" y="15850"/>
                </a:cubicBezTo>
                <a:cubicBezTo>
                  <a:pt x="19356" y="15867"/>
                  <a:pt x="19364" y="15883"/>
                  <a:pt x="19372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9160" y="5892840"/>
            <a:ext cx="241200" cy="46080"/>
          </a:xfrm>
          <a:custGeom>
            <a:avLst/>
            <a:gdLst/>
            <a:ahLst/>
            <a:rect l="l" t="t" r="r" b="b"/>
            <a:pathLst>
              <a:path w="670" h="125">
                <a:moveTo>
                  <a:pt x="18331" y="16495"/>
                </a:moveTo>
                <a:cubicBezTo>
                  <a:pt x="18345" y="16453"/>
                  <a:pt x="18401" y="16448"/>
                  <a:pt x="18455" y="16446"/>
                </a:cubicBezTo>
                <a:cubicBezTo>
                  <a:pt x="18584" y="16442"/>
                  <a:pt x="18701" y="16436"/>
                  <a:pt x="18827" y="16421"/>
                </a:cubicBezTo>
                <a:cubicBezTo>
                  <a:pt x="18893" y="16413"/>
                  <a:pt x="18939" y="16398"/>
                  <a:pt x="19000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75640" y="5268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9472" y="14660"/>
                </a:moveTo>
                <a:cubicBezTo>
                  <a:pt x="19389" y="14629"/>
                  <a:pt x="19355" y="14632"/>
                  <a:pt x="19273" y="14660"/>
                </a:cubicBezTo>
                <a:cubicBezTo>
                  <a:pt x="19156" y="14700"/>
                  <a:pt x="19108" y="14759"/>
                  <a:pt x="19100" y="14883"/>
                </a:cubicBezTo>
                <a:cubicBezTo>
                  <a:pt x="19091" y="15023"/>
                  <a:pt x="19166" y="15147"/>
                  <a:pt x="19298" y="15205"/>
                </a:cubicBezTo>
                <a:cubicBezTo>
                  <a:pt x="19383" y="15242"/>
                  <a:pt x="19481" y="15248"/>
                  <a:pt x="19571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1120" y="5840280"/>
            <a:ext cx="268560" cy="27000"/>
          </a:xfrm>
          <a:custGeom>
            <a:avLst/>
            <a:gdLst/>
            <a:ahLst/>
            <a:rect l="l" t="t" r="r" b="b"/>
            <a:pathLst>
              <a:path w="746" h="76">
                <a:moveTo>
                  <a:pt x="19893" y="16297"/>
                </a:moveTo>
                <a:cubicBezTo>
                  <a:pt x="19996" y="16288"/>
                  <a:pt x="20083" y="16272"/>
                  <a:pt x="20191" y="16272"/>
                </a:cubicBezTo>
                <a:cubicBezTo>
                  <a:pt x="20315" y="16272"/>
                  <a:pt x="20443" y="16273"/>
                  <a:pt x="20563" y="16247"/>
                </a:cubicBezTo>
                <a:cubicBezTo>
                  <a:pt x="20588" y="16239"/>
                  <a:pt x="20613" y="16230"/>
                  <a:pt x="20638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1240" y="571500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21059" y="15900"/>
                </a:moveTo>
                <a:cubicBezTo>
                  <a:pt x="20983" y="15871"/>
                  <a:pt x="20942" y="15850"/>
                  <a:pt x="20886" y="15925"/>
                </a:cubicBezTo>
                <a:cubicBezTo>
                  <a:pt x="20822" y="16010"/>
                  <a:pt x="20784" y="16113"/>
                  <a:pt x="20811" y="16222"/>
                </a:cubicBezTo>
                <a:cubicBezTo>
                  <a:pt x="20847" y="16363"/>
                  <a:pt x="20934" y="16506"/>
                  <a:pt x="21059" y="16570"/>
                </a:cubicBezTo>
                <a:cubicBezTo>
                  <a:pt x="21167" y="16625"/>
                  <a:pt x="21245" y="16603"/>
                  <a:pt x="21357" y="165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4960" y="5840280"/>
            <a:ext cx="160200" cy="25092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8033" y="16222"/>
                </a:moveTo>
                <a:cubicBezTo>
                  <a:pt x="18067" y="16267"/>
                  <a:pt x="18046" y="16306"/>
                  <a:pt x="18107" y="16321"/>
                </a:cubicBezTo>
                <a:cubicBezTo>
                  <a:pt x="18107" y="16277"/>
                  <a:pt x="18109" y="16251"/>
                  <a:pt x="18058" y="16247"/>
                </a:cubicBezTo>
                <a:cubicBezTo>
                  <a:pt x="17948" y="16239"/>
                  <a:pt x="17884" y="16301"/>
                  <a:pt x="17810" y="16371"/>
                </a:cubicBezTo>
                <a:cubicBezTo>
                  <a:pt x="17723" y="16454"/>
                  <a:pt x="17712" y="16583"/>
                  <a:pt x="17760" y="16694"/>
                </a:cubicBezTo>
                <a:cubicBezTo>
                  <a:pt x="17813" y="16815"/>
                  <a:pt x="17946" y="16855"/>
                  <a:pt x="18058" y="16892"/>
                </a:cubicBezTo>
                <a:cubicBezTo>
                  <a:pt x="18123" y="16914"/>
                  <a:pt x="18138" y="16922"/>
                  <a:pt x="18182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7920" y="6081840"/>
            <a:ext cx="27000" cy="2048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9546" y="16892"/>
                </a:moveTo>
                <a:cubicBezTo>
                  <a:pt x="19546" y="16979"/>
                  <a:pt x="19524" y="17053"/>
                  <a:pt x="19521" y="17140"/>
                </a:cubicBezTo>
                <a:cubicBezTo>
                  <a:pt x="19518" y="17227"/>
                  <a:pt x="19511" y="17309"/>
                  <a:pt x="19546" y="17388"/>
                </a:cubicBezTo>
                <a:cubicBezTo>
                  <a:pt x="19568" y="17432"/>
                  <a:pt x="19571" y="17443"/>
                  <a:pt x="19596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56280" y="6402240"/>
            <a:ext cx="25884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9645" y="17859"/>
                </a:moveTo>
                <a:cubicBezTo>
                  <a:pt x="19645" y="17818"/>
                  <a:pt x="19645" y="17810"/>
                  <a:pt x="19645" y="17785"/>
                </a:cubicBezTo>
                <a:cubicBezTo>
                  <a:pt x="19570" y="17785"/>
                  <a:pt x="19557" y="17781"/>
                  <a:pt x="19496" y="17835"/>
                </a:cubicBezTo>
                <a:cubicBezTo>
                  <a:pt x="19411" y="17911"/>
                  <a:pt x="19342" y="18020"/>
                  <a:pt x="19323" y="18132"/>
                </a:cubicBezTo>
                <a:cubicBezTo>
                  <a:pt x="19300" y="18272"/>
                  <a:pt x="19441" y="18301"/>
                  <a:pt x="19546" y="18306"/>
                </a:cubicBezTo>
                <a:cubicBezTo>
                  <a:pt x="19718" y="18314"/>
                  <a:pt x="19877" y="18270"/>
                  <a:pt x="20042" y="182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ame consist of 3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position, number and type of bran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position, number and type of each functional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the length of the longest carbon chain or 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the type of hydrocarb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e, ene,  y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ain functional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4 alkane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th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p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at the names come from adding Greek prefix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86400" y="1371600"/>
            <a:ext cx="3200400" cy="4884840"/>
            <a:chOff x="5486400" y="1371600"/>
            <a:chExt cx="3200400" cy="4884840"/>
          </a:xfrm>
        </p:grpSpPr>
        <p:sp>
          <p:nvSpPr>
            <p:cNvPr id="85" name=""/>
            <p:cNvSpPr/>
            <p:nvPr/>
          </p:nvSpPr>
          <p:spPr>
            <a:xfrm>
              <a:off x="7086600" y="55785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55785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49006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49006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600" y="4224240"/>
              <a:ext cx="16002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6400" y="4224240"/>
              <a:ext cx="16002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86600" y="35463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ep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35463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8684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e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28684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6600" y="2192400"/>
              <a:ext cx="160020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2192400"/>
              <a:ext cx="160020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1371600"/>
              <a:ext cx="1600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6400" y="1371600"/>
              <a:ext cx="1600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Carb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0800" y="1371600"/>
              <a:ext cx="317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4320" y="219240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94320" y="286848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4320" y="354636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94320" y="422424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94320" y="490068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0800" y="6256440"/>
              <a:ext cx="317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1386000"/>
              <a:ext cx="0" cy="48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1379520"/>
              <a:ext cx="0" cy="48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86800" y="1386000"/>
              <a:ext cx="0" cy="48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4320" y="557856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8:01:03Z</dcterms:created>
  <dc:creator/>
  <dc:description/>
  <dc:language>en-US</dc:language>
  <cp:lastModifiedBy>FPS</cp:lastModifiedBy>
  <dcterms:modified xsi:type="dcterms:W3CDTF">2008-04-10T16:52:12Z</dcterms:modified>
  <cp:revision>6</cp:revision>
  <dc:subject/>
  <dc:title>No Slide Title</dc:title>
</cp:coreProperties>
</file>